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091-3D7A-4478-AA7C-CCAAEA4E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A53-6F7D-4CA2-884A-49CED76F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A1B-C39D-4282-9C96-2DD08987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9DDC-3904-4C41-8FDA-D4375F88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4C64-6E36-4CD9-8A00-9713FC94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74FC-23CF-4D3E-AAA6-1DFBE813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067A-6091-4FBB-9431-0750FB82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A30B-F527-4761-B1D3-45019159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7987-4251-45F0-81B4-9A4501AE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DDC3-6F93-4365-9543-D300D3B4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E08E-A906-4CBB-A9E4-B0CDFB80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A9D-C048-4B93-965A-AA700FCF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A622-98AC-4D9A-89FE-C6583E41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16C6-0EB8-4808-86DC-2679C84E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DB28-5911-4CED-BB71-1C05946F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FD73-23FB-441D-9818-1F2E542F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2CFB-49BE-4E11-B109-3E5E5A7B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DD52B-42FE-4109-8714-ACE4B504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52077-49B5-4E0D-8393-B8FA64EC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4BC5A-9974-4D79-978A-15C49F75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C65B2-182B-4F07-B8FD-34ED8FA1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06B92-9A4F-41AE-8D96-1A66AF91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9F2A-B6F4-4E70-9500-A29F97C7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A02E8-EB6E-4D2B-81C8-E8F5E3A1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05AD5-F2DF-4357-9FD1-C04AFCE6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CFB0C-3D69-407F-8DD4-B61BB8DA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DE81-6F20-4980-8400-603A4310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E273D-81D7-4E22-AE24-0144AB58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1A420-0F80-44E6-86D3-8B26B17F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11A3B-149C-4418-9FC8-1DAF4331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B3CC5-5501-40F8-91C3-077480E7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67DB3-CD4F-4EE0-98C2-1B2AD9C3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7CA67-69DE-4D45-A693-84D6848C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CEDB-B3E2-40D7-BA06-7B8E82FA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43E33-CFB2-46D7-B63D-F7F8B068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E2AF5-DB8A-47AD-ACDC-ADEBC769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93124-5EB6-418F-9D1C-64F9A5CD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477A3-803D-4392-BDAB-970C486A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91CB8-4566-45D3-8239-DA7153A9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BDEE1-2EF4-489A-9EB7-613323C3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1D16D-0A61-412D-ACEF-98B0B2F2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5B433-D297-4A4E-8C85-C8C05E88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94864-D1B8-40BE-8BA0-FD734F7D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740DC-0A7F-426D-9C6D-472209DD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53B-00C3-48C9-AFAD-8A65F1F4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1FE39-0CE7-4625-AAEC-F83FE1E9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F4E37-7F0B-415F-B578-EC2E33AE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C4716-CA24-4F3F-81CC-7C6966D5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5B0FD-6CEC-4CA0-AADD-BFB80CBC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8AC40-4B98-4A17-A389-08A29266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86606-09FE-42C5-A2FE-3D3242F4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B9213-EEEC-44DF-AAFB-9F3D0945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5F275-9200-44CF-AF68-ACDDF533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8531C-37A8-42BC-B356-15CB15A6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FD1C0-4093-478B-B6D5-5D874543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7DC2-412D-4DE1-9972-C22FE1C6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9267A-1C5C-45AC-BAA3-24D514A9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7C7-9C41-4C46-AB52-8ED94921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38D0-B9D8-4617-AA02-D06686B5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41E4-88A6-472C-ABD7-22603E45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1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D17C-EF43-41BF-AECB-27711C704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63640" y="2781360"/>
            <a:ext cx="496548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153A-8011-4423-A566-42DFAC1DA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76720" y="620640"/>
            <a:ext cx="533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484000" y="1557000"/>
            <a:ext cx="619308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59A6-7DC6-4D4E-9762-D03CE5363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1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EF4B-98B7-4D7B-984D-DB1F3BCFF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63640" y="2781360"/>
            <a:ext cx="496548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85E1-30AB-4277-90D4-7498F0ACF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63640" y="2781360"/>
            <a:ext cx="496548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免费商务总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356000" y="3503160"/>
            <a:ext cx="4175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82000" y="461880"/>
            <a:ext cx="1352520" cy="368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76720" y="620640"/>
            <a:ext cx="533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484000" y="1557000"/>
            <a:ext cx="619308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63640" y="2781360"/>
            <a:ext cx="496548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感谢您的关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82000" y="461880"/>
            <a:ext cx="1352520" cy="368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57520" y="645336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09:15:32Z</dcterms:created>
  <dc:creator/>
  <dc:description/>
  <dc:language>en-US</dc:language>
  <cp:lastModifiedBy/>
  <dcterms:modified xsi:type="dcterms:W3CDTF">2015-01-10T12:39:2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