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0862-74A3-4A20-957B-D1043AD0C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FBDD-F029-4DA1-9C96-7C66FED4D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7FD0-1883-48C8-88B5-221E504B1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516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944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516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944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D865-F49E-4897-ABD9-21075DF09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B6286-47EE-4739-8C93-72F7B96C9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8C760-52E1-4057-BBC9-5EBDC9C74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B0F2F-2C9F-4213-9AE1-E59EC2AD3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54CCA-22EF-4F95-BE45-C1EE05DA0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08185-1CC7-40EA-8460-F18031800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80880" y="380880"/>
            <a:ext cx="838224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60265-D6C4-444D-A2CB-0602780A8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979D0-5721-415E-BCCF-AA5CE4A34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DD09-2145-4E09-91D7-9D8F00D4C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FDCDD-2755-4F2F-9A0B-50F452818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539B0-4104-4198-90DE-D9E670B1A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B031E-D579-4601-ADAD-72F4BCBA5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5C119-C4DC-4EBF-B5E0-81B82DAB2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56821-9654-4448-890A-AF137212C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4C11-8CC8-44A8-9E19-08C6160AD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3568-0B78-4458-AE25-DA947C940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CA5F-4FE0-4EB2-AAE4-650BE44DC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380880"/>
            <a:ext cx="838224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3A04-A4FA-4B72-B37F-7885B8E17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9C6C-6557-4643-B013-A52FB4F93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2CD4-3532-41FF-AE1B-B6A94A726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4448-27BD-4738-A4D2-EC4491DDE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82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66072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8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BF18D-FFD3-4D9E-89B0-1149C2566CFD}" type="slidenum">
              <a:rPr b="1" lang="zh-CN" sz="800" spc="-1" strike="noStrike">
                <a:solidFill>
                  <a:srgbClr val="ffffff"/>
                </a:solidFill>
                <a:latin typeface="Tahoma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82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-36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0992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ffffff"/>
                </a:solidFill>
                <a:latin typeface="Arial Black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529E7-7921-41C6-BA65-F3456F2D2D79}" type="slidenum">
              <a:rPr b="0" lang="zh-CN" sz="800" spc="-1" strike="noStrike">
                <a:solidFill>
                  <a:srgbClr val="ffffff"/>
                </a:solidFill>
                <a:latin typeface="Arial Black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916000" y="1628640"/>
            <a:ext cx="55134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  <a:ea typeface="黑体"/>
              </a:rPr>
              <a:t>单击此处添加幻灯片标题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3" name="Text Box 16"/>
          <p:cNvSpPr/>
          <p:nvPr/>
        </p:nvSpPr>
        <p:spPr>
          <a:xfrm>
            <a:off x="5089320" y="2781360"/>
            <a:ext cx="23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单击添加副标题或公司信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164360" y="645336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980720" y="533160"/>
            <a:ext cx="6324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Impact"/>
                <a:ea typeface="宋体"/>
              </a:rPr>
              <a:t>YOUR TOPIC GOES HERE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361960" y="1142640"/>
            <a:ext cx="6172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Impact"/>
                <a:ea typeface="宋体"/>
              </a:rPr>
              <a:t>YOUR SUBTOPIC GOES HER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95120" y="152280"/>
            <a:ext cx="3505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3300"/>
                </a:solidFill>
                <a:latin typeface="Impact"/>
                <a:ea typeface="宋体"/>
              </a:rPr>
              <a:t>TRANSITIONAL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09320" y="533160"/>
            <a:ext cx="5791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Impact"/>
                <a:ea typeface="宋体"/>
              </a:rPr>
              <a:t>YOUR TOPIC GOES HERE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361960" y="1142640"/>
            <a:ext cx="6553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Impact"/>
                <a:ea typeface="宋体"/>
              </a:rPr>
              <a:t>YOUR SUBTOPIC GOES HER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1578240" y="645336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华文新魏"/>
                <a:ea typeface="华文新魏"/>
                <a:hlinkClick r:id="rId2"/>
              </a:rPr>
              <a:t>PPT之家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92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3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8T10:08:29Z</dcterms:created>
  <dc:creator>微软用户</dc:creator>
  <dc:description/>
  <dc:language>en-US</dc:language>
  <cp:lastModifiedBy>king</cp:lastModifiedBy>
  <cp:lastPrinted>1899-12-30T00:00:00Z</cp:lastPrinted>
  <dcterms:modified xsi:type="dcterms:W3CDTF">2014-05-23T03:18:52Z</dcterms:modified>
  <cp:revision>5</cp:revision>
  <dc:subject/>
  <dc:title>FOGGY IMAGIN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