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5C1-1BD5-4B51-AD69-FEDBBE21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2E2-5B91-4572-B18E-10E83314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81B-B307-40FE-B4CD-01684380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9FE-9B5D-417D-AAEC-1758CD1F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982-1DD6-4C20-9CBA-44162AA1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3E9-9E3E-41F4-960D-74AC024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368-AB38-4059-9323-7ACC90B3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D16-42DE-46A0-9B89-2942F5AD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59D-BEA8-4C31-92A2-D2FFC9D1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491-4058-40FF-8DBE-55A75A9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057-DE2A-443F-8D60-B2EDBF71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D42-DD91-4D00-AF26-DF00E42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62A4-CD17-4853-9B94-82DC6ABBE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/>
  <dc:description/>
  <dc:language>en-US</dc:language>
  <cp:lastModifiedBy>微软用户</cp:lastModifiedBy>
  <dcterms:modified xsi:type="dcterms:W3CDTF">2015-01-11T06:55:42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