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ACD7-8B42-4698-B158-785A33FC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9FE8-43C6-44CA-A6D4-DE663428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D61-98AE-43D3-9A32-C877E7AC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1AC-D4A4-4039-878C-8484ABCB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53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406160" y="117000"/>
            <a:ext cx="7270920" cy="26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53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53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B2D2-3A33-4C24-81C3-0746D8B4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58E-DA3C-4452-AE8A-355CC82E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0DF3-3C0A-418E-988B-BF6FEE9E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D12F-2F4A-4C98-AAD4-393DA51C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406160" y="117000"/>
            <a:ext cx="7270920" cy="26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53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5A34-7F5D-41A4-A0F8-14DDAB62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61A-70BC-4050-B3E9-281CE646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95B-69AC-48E7-9603-0C86E413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31FC-323B-4B57-AC82-EBB537C9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1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E887-EC8C-430D-92F7-106AC4358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23960"/>
            <a:ext cx="9144000" cy="385560"/>
          </a:xfrm>
          <a:prstGeom prst="rect">
            <a:avLst/>
          </a:pr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723960"/>
          </a:xfrm>
          <a:prstGeom prst="rect">
            <a:avLst/>
          </a:prstGeom>
          <a:solidFill>
            <a:srgbClr val="131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-17640"/>
            <a:ext cx="0" cy="11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406160" y="117000"/>
            <a:ext cx="727092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1074600" cy="1117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14240" y="-3240"/>
            <a:ext cx="0" cy="113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57120"/>
            <a:ext cx="1071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58920" y="-17640"/>
            <a:ext cx="0" cy="11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240" y="72864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14400"/>
            <a:ext cx="4960800" cy="515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6920" y="4311720"/>
            <a:ext cx="4770360" cy="1754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08400" y="914400"/>
            <a:ext cx="1654200" cy="1676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17760" y="2590920"/>
            <a:ext cx="1640160" cy="1703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54200" y="4300560"/>
            <a:ext cx="1654200" cy="1766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09840" y="905040"/>
            <a:ext cx="0" cy="51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300560"/>
            <a:ext cx="1654200" cy="1766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590920"/>
            <a:ext cx="4952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320" y="4302000"/>
            <a:ext cx="49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66800" y="838080"/>
            <a:ext cx="0" cy="5257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978440" y="219024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978440" y="556848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890640"/>
          </a:xfrm>
          <a:prstGeom prst="rect">
            <a:avLst/>
          </a:prstGeom>
          <a:solidFill>
            <a:srgbClr val="131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91440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6360" y="1988640"/>
            <a:ext cx="396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537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537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76360" y="1483920"/>
            <a:ext cx="396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219280" y="2923920"/>
            <a:ext cx="3746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537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04920"/>
            <a:ext cx="1067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48520" y="4168800"/>
            <a:ext cx="1560240" cy="1089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080480" y="5734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6160" y="117000"/>
            <a:ext cx="727092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图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14720" y="1535040"/>
            <a:ext cx="2641680" cy="2644920"/>
          </a:xfrm>
          <a:prstGeom prst="ellipse">
            <a:avLst/>
          </a:prstGeom>
          <a:solidFill>
            <a:srgbClr val="333399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54320" y="2927520"/>
            <a:ext cx="2643480" cy="2643120"/>
          </a:xfrm>
          <a:prstGeom prst="ellipse">
            <a:avLst/>
          </a:prstGeom>
          <a:solidFill>
            <a:srgbClr val="99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71800" y="2892600"/>
            <a:ext cx="2644560" cy="2643120"/>
          </a:xfrm>
          <a:prstGeom prst="ellipse">
            <a:avLst/>
          </a:prstGeom>
          <a:solidFill>
            <a:srgbClr val="bbe0e3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660760" y="2579400"/>
            <a:ext cx="1149120" cy="8334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165640" y="2612880"/>
            <a:ext cx="1217520" cy="76536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366800" y="4562640"/>
            <a:ext cx="25560" cy="1042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04440" y="3508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847880"/>
            <a:ext cx="2052720" cy="102420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01.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请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15120" y="1847880"/>
            <a:ext cx="2052720" cy="102420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2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请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52960" y="5548320"/>
            <a:ext cx="2260440" cy="102420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03.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请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29080" y="2146320"/>
            <a:ext cx="182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76640" y="4300560"/>
            <a:ext cx="182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0240" y="4340160"/>
            <a:ext cx="182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181480" y="3048120"/>
            <a:ext cx="3810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bf00"/>
                    </a:gs>
                    <a:gs pos="5000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感谢您的关注</a:t>
            </a:r>
            <a:endParaRPr b="0" i="1" lang="en-US" sz="5400" spc="-1" strike="noStrike">
              <a:ln w="0">
                <a:noFill/>
              </a:ln>
              <a:gradFill rotWithShape="0">
                <a:gsLst>
                  <a:gs pos="0">
                    <a:srgbClr val="ffbf00"/>
                  </a:gs>
                  <a:gs pos="5000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797440" y="3863880"/>
            <a:ext cx="26640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5000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i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5000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1480680" y="6381720"/>
            <a:ext cx="556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1:15:00Z</dcterms:created>
  <dc:creator/>
  <dc:description/>
  <dc:language>en-US</dc:language>
  <cp:lastModifiedBy/>
  <dcterms:modified xsi:type="dcterms:W3CDTF">2015-01-11T07:35:3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