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289-6E62-4376-8228-E486CDC9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7BC-04F3-4371-83FE-DB856F0F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60D-9EE8-4764-8C9E-9FA7EBE5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F1B-D9A3-42BC-881C-22F10DAF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BA43-EFE2-4690-92E8-C361A2D5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A09F-6BC4-482A-BB6E-323497D7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CE54-19B5-4ECF-94BB-4D84FD1E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979B-D358-4C0E-BD7A-DB64245D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269B-59D8-4AB1-A9AB-1DAA166F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D612-6E7A-44DB-BAC3-173EB92C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91A1-9F1B-423D-9A8A-D2619CA3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9A0-D00E-42E4-83C7-AFCCEA8D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6B7E-F9F4-4EC9-AAB9-E09F4679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539B-1EC9-4E3A-9AB1-BCCDCDF7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4030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5C3-C254-4132-B496-4A0C8D9D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E134-0857-4C15-9E5A-3C1CC1E6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596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8400" y="2437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596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8400" y="4030920"/>
            <a:ext cx="264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36AB-2C39-4C80-A16C-240A702D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E75-32C2-48DB-A487-BA74D880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C77-1D8A-4A65-8A47-94A4DFF6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B68-4EE6-429B-8FF1-68307B2E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536-B9F0-44F4-A491-E5678697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F28-9DEB-4809-8157-C935DD3B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4030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37B-E432-4133-B7ED-A7863CB6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2437920"/>
            <a:ext cx="40158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0920"/>
            <a:ext cx="822960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922-BDDF-4188-9CFC-CC54EBB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04920" y="2106720"/>
            <a:ext cx="8572320" cy="3686040"/>
            <a:chOff x="304920" y="2106720"/>
            <a:chExt cx="8572320" cy="3686040"/>
          </a:xfrm>
        </p:grpSpPr>
        <p:grpSp>
          <p:nvGrpSpPr>
            <p:cNvPr id="2" name=""/>
            <p:cNvGrpSpPr/>
            <p:nvPr/>
          </p:nvGrpSpPr>
          <p:grpSpPr>
            <a:xfrm>
              <a:off x="304920" y="2106720"/>
              <a:ext cx="8572320" cy="3686040"/>
              <a:chOff x="304920" y="2106720"/>
              <a:chExt cx="8572320" cy="3686040"/>
            </a:xfrm>
          </p:grpSpPr>
          <p:sp>
            <p:nvSpPr>
              <p:cNvPr id="3" name="圆角矩形 4"/>
              <p:cNvSpPr/>
              <p:nvPr/>
            </p:nvSpPr>
            <p:spPr>
              <a:xfrm>
                <a:off x="304920" y="2106720"/>
                <a:ext cx="8572320" cy="3686040"/>
              </a:xfrm>
              <a:prstGeom prst="roundRect">
                <a:avLst>
                  <a:gd name="adj" fmla="val 0"/>
                </a:avLst>
              </a:prstGeom>
              <a:solidFill>
                <a:srgbClr val="ffffff">
                  <a:alpha val="4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圆角矩形 3"/>
              <p:cNvSpPr/>
              <p:nvPr/>
            </p:nvSpPr>
            <p:spPr>
              <a:xfrm>
                <a:off x="379440" y="2229480"/>
                <a:ext cx="8423280" cy="3440520"/>
              </a:xfrm>
              <a:prstGeom prst="roundRect">
                <a:avLst>
                  <a:gd name="adj" fmla="val 0"/>
                </a:avLst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Text Box 11"/>
            <p:cNvSpPr/>
            <p:nvPr/>
          </p:nvSpPr>
          <p:spPr>
            <a:xfrm>
              <a:off x="438120" y="3029400"/>
              <a:ext cx="8305920" cy="15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687D-EA82-4198-BB62-C635C1BAE5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26"/>
          <p:cNvSpPr/>
          <p:nvPr/>
        </p:nvSpPr>
        <p:spPr>
          <a:xfrm>
            <a:off x="0" y="1447920"/>
            <a:ext cx="91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813-B5DF-4841-9A2F-C7DF4725F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24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2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0" y="46148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74520" y="5105520"/>
            <a:ext cx="90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医学及相关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839880" y="640224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前 言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dc:language>en-US</dc:language>
  <cp:lastModifiedBy>kevin</cp:lastModifiedBy>
  <dcterms:modified xsi:type="dcterms:W3CDTF">2015-01-11T07:34:45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