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115-1099-4261-8E09-607F865B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546-0B32-445D-A491-3D018DC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BE8-7C2A-4D9A-97E9-CA729794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4C7-30AB-4969-AB87-0E89312C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11A4-2A96-4648-80D6-C17F084E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77D0-8CF7-4DE7-B48C-895F730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089-DD1C-4332-8137-DE4FE54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9350-3B08-48BD-A463-7B975F9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CC70-D870-4BB8-886B-713B566C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226-8CF5-4640-A1FA-3AD075A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C7CC-4E05-489B-A45A-18BCB1F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E74-6EF7-415B-BDC4-4009AEDE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6433-1772-402E-BC5D-D857A6E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C87-5E68-46E2-B1AD-F0F07D8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3B4C-6D1F-4F40-90E2-D7BD120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3E3-416A-45F5-810C-DE226DF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B694-8C44-490E-A5C7-7EBBC8D0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6E1-4128-4E75-A819-6BF3F4C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3FF-FEE5-4A04-ADD5-00A32680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A72-E81B-4F5C-90A0-78A95440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BA4-AC94-4940-8730-E229EC9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1C3-7465-401C-B849-5D1CDD1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730-A12C-4992-AD71-155A15F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10E-AEFA-4F62-84F8-31EBEC7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567-2AC7-47BE-9B90-2AE3F787F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2565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8E90-197B-478F-9E42-0CCC03A602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8720" y="2565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7080" y="365076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3419640" y="3284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3897360" y="3998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57680" y="62355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28:58Z</dcterms:created>
  <dc:creator/>
  <dc:description/>
  <dc:language>en-US</dc:language>
  <cp:lastModifiedBy>雨林木风</cp:lastModifiedBy>
  <dcterms:modified xsi:type="dcterms:W3CDTF">2015-01-31T12:46:57Z</dcterms:modified>
  <cp:revision>3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