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2E8-1FE7-458B-B842-9DDFB55D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CFA-FD39-47A0-A459-0382A8F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521-732E-4362-BAA5-1354189A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F1D-7413-4386-8BFA-D010222A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9AD8-9C36-45BF-9A03-D14B8779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F20-F021-4374-8C30-9A00A91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44F3-2F36-4F25-835D-D4B393A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592D-EF9B-43DB-9FE0-B4F812E1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9567-D2A1-4F48-8B20-80EADC4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C7BE-8F29-4FCF-993A-42458D24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258-956A-4BAA-9563-C13C122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5EF-62E2-4B7B-9182-452234D4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7F34-F567-4575-AE4D-ED55284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58B-E28B-4ED1-89E7-6D60A99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BD6-2C36-42A3-91F5-5B485A07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2E32-8DA0-4166-A76E-4E0D235F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4536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AFCD-EFFC-4C1B-9F49-FF7BEEB4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175-BFB7-46AB-B1B1-62349CA3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AE2-FD97-42FA-83D3-FA6CD818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830-A9B7-418D-8DCD-69442FC0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48B-4809-4399-B82D-1E81AC85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4FE-E0C3-4854-94B5-1BACA167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4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2A2-52BB-428C-A9FF-176F6926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4536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990-2BDD-4288-A31F-6DF3FBC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8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F9C9-B4A7-4D35-9D1D-C0F175F3E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611280" y="260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77EA-0815-4FD0-849A-53BA2D7C7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墨绿清新商务演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6036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删除与替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93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97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01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36880" y="1676520"/>
            <a:ext cx="5343480" cy="656640"/>
            <a:chOff x="2036880" y="1676520"/>
            <a:chExt cx="5343480" cy="656640"/>
          </a:xfrm>
        </p:grpSpPr>
        <p:sp>
          <p:nvSpPr>
            <p:cNvPr id="107" name=""/>
            <p:cNvSpPr/>
            <p:nvPr/>
          </p:nvSpPr>
          <p:spPr>
            <a:xfrm>
              <a:off x="2036880" y="206028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93120" y="1676520"/>
              <a:ext cx="5187240" cy="5281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62760" y="169992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2614680"/>
            <a:ext cx="5343480" cy="655560"/>
            <a:chOff x="2036880" y="2614680"/>
            <a:chExt cx="5343480" cy="655560"/>
          </a:xfrm>
        </p:grpSpPr>
        <p:sp>
          <p:nvSpPr>
            <p:cNvPr id="111" name=""/>
            <p:cNvSpPr/>
            <p:nvPr/>
          </p:nvSpPr>
          <p:spPr>
            <a:xfrm>
              <a:off x="2036880" y="2997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3120" y="26146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2760" y="263700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35280" y="1413000"/>
            <a:ext cx="895320" cy="925560"/>
            <a:chOff x="1835280" y="1413000"/>
            <a:chExt cx="895320" cy="925560"/>
          </a:xfrm>
        </p:grpSpPr>
        <p:sp>
          <p:nvSpPr>
            <p:cNvPr id="115" name="未知"/>
            <p:cNvSpPr/>
            <p:nvPr/>
          </p:nvSpPr>
          <p:spPr>
            <a:xfrm>
              <a:off x="1835280" y="1413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1899000" y="1446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35280" y="2351160"/>
            <a:ext cx="895320" cy="925560"/>
            <a:chOff x="1835280" y="2351160"/>
            <a:chExt cx="895320" cy="925560"/>
          </a:xfrm>
        </p:grpSpPr>
        <p:sp>
          <p:nvSpPr>
            <p:cNvPr id="118" name="未知"/>
            <p:cNvSpPr/>
            <p:nvPr/>
          </p:nvSpPr>
          <p:spPr>
            <a:xfrm>
              <a:off x="1835280" y="2351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1899000" y="2384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2160720" y="1646280"/>
            <a:ext cx="214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60720" y="258444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35280" y="3289320"/>
            <a:ext cx="5545080" cy="923760"/>
            <a:chOff x="1835280" y="3289320"/>
            <a:chExt cx="5545080" cy="923760"/>
          </a:xfrm>
        </p:grpSpPr>
        <p:grpSp>
          <p:nvGrpSpPr>
            <p:cNvPr id="123" name=""/>
            <p:cNvGrpSpPr/>
            <p:nvPr/>
          </p:nvGrpSpPr>
          <p:grpSpPr>
            <a:xfrm>
              <a:off x="2036520" y="3552480"/>
              <a:ext cx="5343840" cy="652680"/>
              <a:chOff x="2036520" y="3552480"/>
              <a:chExt cx="5343840" cy="652680"/>
            </a:xfrm>
          </p:grpSpPr>
          <p:sp>
            <p:nvSpPr>
              <p:cNvPr id="124" name=""/>
              <p:cNvSpPr/>
              <p:nvPr/>
            </p:nvSpPr>
            <p:spPr>
              <a:xfrm>
                <a:off x="2036520" y="3932640"/>
                <a:ext cx="5315040" cy="272520"/>
              </a:xfrm>
              <a:prstGeom prst="rect">
                <a:avLst/>
              </a:prstGeom>
              <a:gradFill rotWithShape="0">
                <a:gsLst>
                  <a:gs pos="0">
                    <a:srgbClr val="080808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92760" y="3552480"/>
                <a:ext cx="5187600" cy="52740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216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</a:rPr>
                  <a:t>单击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62400" y="3572640"/>
                <a:ext cx="4895640" cy="32328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835280" y="3289320"/>
              <a:ext cx="895320" cy="923760"/>
              <a:chOff x="1835280" y="3289320"/>
              <a:chExt cx="895320" cy="923760"/>
            </a:xfrm>
          </p:grpSpPr>
          <p:sp>
            <p:nvSpPr>
              <p:cNvPr id="128" name="未知"/>
              <p:cNvSpPr/>
              <p:nvPr/>
            </p:nvSpPr>
            <p:spPr>
              <a:xfrm>
                <a:off x="1835280" y="3289320"/>
                <a:ext cx="895320" cy="923760"/>
              </a:xfrm>
              <a:custGeom>
                <a:avLst/>
                <a:gdLst/>
                <a:ahLst/>
                <a:rect l="l" t="t" r="r" b="b"/>
                <a:pathLst>
                  <a:path w="1752" h="1812">
                    <a:moveTo>
                      <a:pt x="1262" y="1812"/>
                    </a:moveTo>
                    <a:lnTo>
                      <a:pt x="0" y="1356"/>
                    </a:lnTo>
                    <a:lnTo>
                      <a:pt x="491" y="0"/>
                    </a:lnTo>
                    <a:lnTo>
                      <a:pt x="1752" y="458"/>
                    </a:lnTo>
                    <a:lnTo>
                      <a:pt x="1262" y="18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1899000" y="3322800"/>
                <a:ext cx="798120" cy="774000"/>
              </a:xfrm>
              <a:custGeom>
                <a:avLst/>
                <a:gdLst/>
                <a:ahLst/>
                <a:rect l="l" t="t" r="r" b="b"/>
                <a:pathLst>
                  <a:path w="1562" h="1518">
                    <a:moveTo>
                      <a:pt x="1166" y="1518"/>
                    </a:moveTo>
                    <a:lnTo>
                      <a:pt x="0" y="1095"/>
                    </a:lnTo>
                    <a:lnTo>
                      <a:pt x="397" y="0"/>
                    </a:lnTo>
                    <a:lnTo>
                      <a:pt x="1562" y="422"/>
                    </a:lnTo>
                    <a:lnTo>
                      <a:pt x="1166" y="151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 txBox="1"/>
            <p:nvPr/>
          </p:nvSpPr>
          <p:spPr>
            <a:xfrm>
              <a:off x="2160360" y="3521880"/>
              <a:ext cx="285480" cy="361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35280" y="4365720"/>
            <a:ext cx="5545080" cy="923760"/>
            <a:chOff x="1835280" y="4365720"/>
            <a:chExt cx="5545080" cy="923760"/>
          </a:xfrm>
        </p:grpSpPr>
        <p:grpSp>
          <p:nvGrpSpPr>
            <p:cNvPr id="132" name=""/>
            <p:cNvGrpSpPr/>
            <p:nvPr/>
          </p:nvGrpSpPr>
          <p:grpSpPr>
            <a:xfrm>
              <a:off x="2036520" y="4628880"/>
              <a:ext cx="5343840" cy="652680"/>
              <a:chOff x="2036520" y="4628880"/>
              <a:chExt cx="5343840" cy="652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036520" y="5009040"/>
                <a:ext cx="5315040" cy="272520"/>
              </a:xfrm>
              <a:prstGeom prst="rect">
                <a:avLst/>
              </a:prstGeom>
              <a:gradFill rotWithShape="0">
                <a:gsLst>
                  <a:gs pos="0">
                    <a:srgbClr val="080808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92760" y="4628880"/>
                <a:ext cx="5187600" cy="52740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216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</a:rPr>
                  <a:t>单击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62400" y="4649040"/>
                <a:ext cx="4895640" cy="32328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835280" y="4365720"/>
              <a:ext cx="895320" cy="923760"/>
              <a:chOff x="1835280" y="4365720"/>
              <a:chExt cx="895320" cy="923760"/>
            </a:xfrm>
          </p:grpSpPr>
          <p:sp>
            <p:nvSpPr>
              <p:cNvPr id="137" name="未知"/>
              <p:cNvSpPr/>
              <p:nvPr/>
            </p:nvSpPr>
            <p:spPr>
              <a:xfrm>
                <a:off x="1835280" y="4365720"/>
                <a:ext cx="895320" cy="923760"/>
              </a:xfrm>
              <a:custGeom>
                <a:avLst/>
                <a:gdLst/>
                <a:ahLst/>
                <a:rect l="l" t="t" r="r" b="b"/>
                <a:pathLst>
                  <a:path w="1752" h="1812">
                    <a:moveTo>
                      <a:pt x="1262" y="1812"/>
                    </a:moveTo>
                    <a:lnTo>
                      <a:pt x="0" y="1356"/>
                    </a:lnTo>
                    <a:lnTo>
                      <a:pt x="491" y="0"/>
                    </a:lnTo>
                    <a:lnTo>
                      <a:pt x="1752" y="458"/>
                    </a:lnTo>
                    <a:lnTo>
                      <a:pt x="1262" y="18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1899000" y="4399200"/>
                <a:ext cx="798120" cy="774000"/>
              </a:xfrm>
              <a:custGeom>
                <a:avLst/>
                <a:gdLst/>
                <a:ahLst/>
                <a:rect l="l" t="t" r="r" b="b"/>
                <a:pathLst>
                  <a:path w="1562" h="1518">
                    <a:moveTo>
                      <a:pt x="1166" y="1518"/>
                    </a:moveTo>
                    <a:lnTo>
                      <a:pt x="0" y="1095"/>
                    </a:lnTo>
                    <a:lnTo>
                      <a:pt x="397" y="0"/>
                    </a:lnTo>
                    <a:lnTo>
                      <a:pt x="1562" y="422"/>
                    </a:lnTo>
                    <a:lnTo>
                      <a:pt x="1166" y="151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 txBox="1"/>
            <p:nvPr/>
          </p:nvSpPr>
          <p:spPr>
            <a:xfrm>
              <a:off x="2160360" y="4598280"/>
              <a:ext cx="285480" cy="361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6036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署名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27:32Z</dcterms:created>
  <dc:creator/>
  <dc:description/>
  <dc:language>en-US</dc:language>
  <cp:lastModifiedBy/>
  <dcterms:modified xsi:type="dcterms:W3CDTF">2015-01-10T12:53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