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33336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33336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494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073160"/>
            <a:ext cx="914400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6FED5C9-AE55-4D17-8009-02ADD26366E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8036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149720"/>
            <a:ext cx="9182160" cy="1800360"/>
          </a:xfrm>
          <a:prstGeom prst="rect">
            <a:avLst/>
          </a:prstGeom>
          <a:gradFill rotWithShape="0">
            <a:gsLst>
              <a:gs pos="0">
                <a:srgbClr val="da5800">
                  <a:alpha val="85098"/>
                </a:srgbClr>
              </a:gs>
              <a:gs pos="100000">
                <a:srgbClr val="c02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49720"/>
            <a:ext cx="9182160" cy="9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67280"/>
            <a:ext cx="9182160" cy="82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ps.cn/addons/ThreadView/wdid-6152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68360" y="51814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360" y="4221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柠檬汁食品介绍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91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92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ff8a1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4639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f0a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01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素材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表添加请使用</a:t>
            </a:r>
            <a:r>
              <a:rPr b="1" lang="zh-CN" sz="1400" spc="-1" strike="noStrike" u="sng">
                <a:solidFill>
                  <a:srgbClr val="463900"/>
                </a:solidFill>
                <a:uFillTx/>
                <a:latin typeface="Arial"/>
                <a:hlinkClick r:id="rId1"/>
              </a:rPr>
              <a:t>在线素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，在【插入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在线素材】，选择相应的类别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908000" y="472608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2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1-10T11:46:20Z</dcterms:modified>
  <cp:revision>3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