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382-472B-47F9-9075-9BFCA219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8B0-C263-472B-A9CD-BB3235E4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FAF-C371-414E-86A3-AC156A56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B2C-F58B-43FA-9D1A-6F508594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FEEF-20DD-499B-8EAA-CAE58950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7ED3-8204-4D1B-8652-9BB0A24B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155B-EC6F-45F4-8664-E2FF7066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1F61-753A-426E-938C-2445E8B4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A662-B714-4B2F-8C37-75C16A4E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6405-77C5-4A56-8F82-F8B868C4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C073-1BA5-4A9C-B0FA-F30A739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A17-1444-4285-BD7D-A82D0894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0015-80D5-4428-9318-0CA5ED6B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81C1-8387-4034-9110-D2547F4D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67D6-A2A3-466B-A347-0860ABC6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1426-855F-4AA6-AB6C-FEE57450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BE0-9164-4FD9-9E2B-A65E92D4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B3A-92C2-42EA-80DF-85129BCF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1E4-5A1A-4AC4-BD6E-1C7B31B2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B66-FA58-4F12-B875-BB6E4704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DD6-5991-48EB-9319-1C0CA141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CF8-DE37-4DAD-BDA8-17C369B4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C1B-E355-43D1-8BE0-AF34B544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2A7-F950-4EC7-A6CD-AAD8A45E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5318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E4C0-D4F7-4CFA-823F-52BCBDF01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AA09-C651-4C95-8900-A84728CF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5760"/>
            <a:ext cx="9144000" cy="136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2160" y="1371240"/>
            <a:ext cx="7237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85880" y="6553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7:02:19Z</dcterms:created>
  <dc:creator/>
  <dc:description/>
  <dc:language>en-US</dc:language>
  <cp:lastModifiedBy>微软用户</cp:lastModifiedBy>
  <dcterms:modified xsi:type="dcterms:W3CDTF">2015-01-10T12:21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