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ADFD-48FE-4F7E-B83E-7E1477C3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860D-9332-4A1F-BD0D-028D2B6D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4DE7-B4A1-40EB-A3AD-EA711077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81C6-F8C0-4880-8AB6-72076B9A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BA6B-A928-453A-B3FD-D92686EC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F903-12AD-41E5-90AA-4718B323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3C86-B048-4E63-95DF-A5FE5AB2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2ED9-238B-49C1-864B-61A74C1E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B684-0AB7-4F6E-8E14-956D8F1C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2DC5-E1FF-4918-97D8-EFB1C8AC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E5AC-4188-4709-80A5-1B7C909A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AA3-6E92-4C4A-A7E1-F2A15A51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92D7-A649-42B0-B48E-06C56FE1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06C8-8AC3-499D-9307-2EAFA039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49DD-2569-4C54-A85E-86D20497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A19E-7C02-41D5-ACE5-7EB81EF5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F745-870B-4DC4-8985-0045D4A8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B5D8-B595-4B56-9985-DE9B6265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08DC-A524-4811-9FD0-9276D87A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A4EC-82AD-45B4-A23D-4F31E7FF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0443-E9C9-4DAE-AF78-51878F22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C32B-CA7B-4CD5-800D-D9266DD8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D3F7-C05E-4B80-978C-4B47A817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7977-9BD3-44E4-B635-45E8195A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A5AD-BC55-45F6-B1AF-8DC5942756B5}" type="slidenum"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1E58-56B7-453A-A52C-DC9991ED7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840" y="52560"/>
            <a:ext cx="314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407880" y="-90360"/>
            <a:ext cx="9867960" cy="6975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635280" y="39625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Arial"/>
                <a:ea typeface="仿宋"/>
              </a:rPr>
              <a:t>亲近自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5560" y="4659480"/>
            <a:ext cx="316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70320" y="4438800"/>
            <a:ext cx="332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00"/>
                </a:solidFill>
                <a:latin typeface="EucrosiaUPC"/>
              </a:rPr>
              <a:t>closeness to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432920" y="65199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244440" y="-63360"/>
            <a:ext cx="9831240" cy="6948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956680" y="582480"/>
            <a:ext cx="1399320" cy="23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00"/>
                </a:solidFill>
                <a:latin typeface="Arial"/>
                <a:ea typeface="仿宋"/>
              </a:rPr>
              <a:t>绿色空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19800" y="1797120"/>
            <a:ext cx="127764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Arial"/>
                <a:ea typeface="仿宋"/>
              </a:rPr>
              <a:t>轻松办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31080" y="2949480"/>
            <a:ext cx="127764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Arial"/>
                <a:ea typeface="仿宋"/>
              </a:rPr>
              <a:t>简单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39320" y="949320"/>
            <a:ext cx="127764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Arial"/>
                <a:ea typeface="仿宋"/>
              </a:rPr>
              <a:t>畅享自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268200" y="0"/>
            <a:ext cx="9728280" cy="6885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761720" y="1701720"/>
            <a:ext cx="18262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8000"/>
                </a:solidFill>
                <a:latin typeface="Arial"/>
                <a:ea typeface="仿宋"/>
              </a:rPr>
              <a:t>轻松办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32920" y="65199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387360" y="-1440"/>
            <a:ext cx="9639360" cy="6959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077840" y="2709720"/>
            <a:ext cx="565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00"/>
                </a:solidFill>
                <a:latin typeface="Arial"/>
                <a:ea typeface="仿宋"/>
              </a:rPr>
              <a:t>每天工作在钢筋混凝土的建筑中让我们的生活开始乏味，生活变得枯燥没有生机。思想往往受到空间的束缚，得不到释放。让我们走进自然倾近自然，让办公室变得更轻松，让我们的生活变得更亲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407880" y="-90360"/>
            <a:ext cx="9828000" cy="6948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421080" y="3718080"/>
            <a:ext cx="295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808000"/>
                </a:solidFill>
                <a:latin typeface="Impact"/>
              </a:rPr>
              <a:t>thank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/>
  <dcterms:modified xsi:type="dcterms:W3CDTF">2015-01-10T09:14:5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