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A7AB-A57C-45BC-A214-0B7237084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7CEE-61BF-4AFD-B356-1C8A5896E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8E79-A73D-41B6-A135-6269CA85D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2184-F9FD-4B58-9982-6248165EA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6EDA1-D0FD-4BD2-91EF-E92B132BC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E0AFA-305A-4AC4-B70E-EFE46D48A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70166-63F0-4311-9E15-99F819F69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9CA6F-26B4-4046-AC32-988B54579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BB96D-7CB0-4146-AB86-D96419BF6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4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6E1A6-8E0B-45AB-8187-4494E3429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2198F-1102-49C5-9031-1DCDBCA46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7764-EF22-47A9-9341-4586F78D5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2DCB3-BE9E-4573-92D4-315E1DF75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FDF82-228D-43B4-B551-244139147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B076D-69A8-4577-B464-9D8630501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1886C-D2BF-4A9F-A379-9450BC8C8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DDDBB-774E-47D1-B2A3-ACBC1F9B9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1529-F43F-49CB-B46A-B721A7E50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E8CF-0522-4072-ADC2-52C6C7697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577E-0ECB-4388-9AFA-57EF597E5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4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90D6-AA7E-436C-9005-B1DF036EA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6BD0-84E0-46A1-BA21-725373D1E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33A3-5B87-420F-8B2D-A9087A6B8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BCF1-6D76-43C4-8A01-9056800AB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b4e3">
                <a:alpha val="0"/>
              </a:srgbClr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4427640"/>
            <a:ext cx="914400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2" descr="C:\Users\Administrator\Desktop\5f600ca9b83d0c4d4a36d6cb.jpg"/>
          <p:cNvPicPr/>
          <p:nvPr/>
        </p:nvPicPr>
        <p:blipFill>
          <a:blip r:embed="rId2"/>
          <a:stretch/>
        </p:blipFill>
        <p:spPr>
          <a:xfrm>
            <a:off x="0" y="4572000"/>
            <a:ext cx="9144000" cy="228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83B7C-6567-4FF2-AA97-41BF45E3288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ccec">
                <a:alpha val="0"/>
              </a:srgbClr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Users\Administrator\Desktop\5f600ca9b83d0c4d4a36d6cb.jpg"/>
          <p:cNvPicPr/>
          <p:nvPr/>
        </p:nvPicPr>
        <p:blipFill>
          <a:blip r:embed="rId2"/>
          <a:stretch/>
        </p:blipFill>
        <p:spPr>
          <a:xfrm>
            <a:off x="5226120" y="0"/>
            <a:ext cx="3917880" cy="97956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0" y="0"/>
            <a:ext cx="8028000" cy="980640"/>
            <a:chOff x="0" y="0"/>
            <a:chExt cx="8028000" cy="980640"/>
          </a:xfrm>
        </p:grpSpPr>
        <p:pic>
          <p:nvPicPr>
            <p:cNvPr id="45" name="矩形 7" descr=""/>
            <p:cNvPicPr/>
            <p:nvPr/>
          </p:nvPicPr>
          <p:blipFill>
            <a:blip r:embed="rId3"/>
            <a:stretch/>
          </p:blipFill>
          <p:spPr>
            <a:xfrm>
              <a:off x="0" y="1080"/>
              <a:ext cx="8028000" cy="97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0" y="0"/>
              <a:ext cx="8028000" cy="9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矩形 8"/>
          <p:cNvSpPr/>
          <p:nvPr/>
        </p:nvSpPr>
        <p:spPr>
          <a:xfrm>
            <a:off x="0" y="97956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9EBB6-27C5-474B-B1A4-47EA9B7835D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b4e3">
                <a:alpha val="0"/>
              </a:srgbClr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浅蓝色时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257960" y="6324480"/>
            <a:ext cx="17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ccec">
                <a:alpha val="0"/>
              </a:srgbClr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7T05:27:14Z</dcterms:created>
  <dc:creator/>
  <dc:description/>
  <dc:language>en-US</dc:language>
  <cp:lastModifiedBy>zouendong</cp:lastModifiedBy>
  <dcterms:modified xsi:type="dcterms:W3CDTF">2015-01-10T08:32:01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