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452-8F51-4982-9916-33461A91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850-4C3E-4C75-86E3-7F53F343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D35-B3CF-4141-B556-B1227BA1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F0C-4600-451C-A593-2A5C88F1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D4E-E40B-4AB1-989D-E0714834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9E3-5607-412B-94CE-29CF0484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FFF-7E55-4D20-B2EC-3AF5ECD4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120-C370-401C-9091-82F398AE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75A-6CD9-403B-8753-42063D64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F93-4738-4819-9812-90E013E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83B-2D3C-4FC8-9941-063CFF6B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C59-57A0-4F82-B6B4-FC071FF7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213F-1B4D-4B90-A4BF-3D0AAB09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47680" y="-22320"/>
            <a:ext cx="913752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-31680" y="-706320"/>
            <a:ext cx="6475320" cy="485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2532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8:07Z</dcterms:created>
  <dc:creator/>
  <dc:description/>
  <dc:language>en-US</dc:language>
  <cp:lastModifiedBy/>
  <dcterms:modified xsi:type="dcterms:W3CDTF">2015-01-10T09:10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