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FD3-0143-4D69-BF29-D10B81AC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0C6-C74F-455E-A516-EA818BED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B0B-942B-4DFA-93DE-7EE885DE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423-FC51-4A86-B689-9A580F2B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E14-E645-49FD-99C6-9985343A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56C-AF8A-44AE-889E-8B7EA60D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80E-10EC-4757-B0AB-D7D7218B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45B-29B1-45E7-B60C-63EDC445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5D9-5373-41F5-BC42-5183A3FC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C82-A6EB-4FDB-8844-8C187161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E57-2346-48D5-A65D-AD910E4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E8B-142D-48A6-95BB-60F43677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25F0-B4B7-4A9B-BE45-38ABAE50C3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0" descr="1.1.1.2.png"/>
          <p:cNvPicPr/>
          <p:nvPr/>
        </p:nvPicPr>
        <p:blipFill>
          <a:blip r:embed="rId2"/>
          <a:srcRect l="12500" t="9373" r="52346" b="8332"/>
          <a:stretch/>
        </p:blipFill>
        <p:spPr>
          <a:xfrm>
            <a:off x="1143000" y="642960"/>
            <a:ext cx="3214800" cy="5643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1.1.1.2.png"/>
          <p:cNvPicPr/>
          <p:nvPr/>
        </p:nvPicPr>
        <p:blipFill>
          <a:blip r:embed="rId3"/>
          <a:srcRect l="47656" t="9373" r="21094" b="8332"/>
          <a:stretch/>
        </p:blipFill>
        <p:spPr>
          <a:xfrm>
            <a:off x="4357800" y="642960"/>
            <a:ext cx="2857320" cy="5643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1.1.1.3.png"/>
          <p:cNvPicPr/>
          <p:nvPr/>
        </p:nvPicPr>
        <p:blipFill>
          <a:blip r:embed="rId4"/>
          <a:srcRect l="60940" t="68751" r="7032" b="11459"/>
          <a:stretch/>
        </p:blipFill>
        <p:spPr>
          <a:xfrm>
            <a:off x="5572080" y="4714920"/>
            <a:ext cx="2928960" cy="13572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1.1.1.3.png"/>
          <p:cNvPicPr/>
          <p:nvPr/>
        </p:nvPicPr>
        <p:blipFill>
          <a:blip r:embed="rId5"/>
          <a:srcRect l="7032" t="10418" r="60940" b="66669"/>
          <a:stretch/>
        </p:blipFill>
        <p:spPr>
          <a:xfrm>
            <a:off x="642960" y="714240"/>
            <a:ext cx="2928960" cy="15717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7" descr="1.1.1.3.png"/>
          <p:cNvPicPr/>
          <p:nvPr/>
        </p:nvPicPr>
        <p:blipFill>
          <a:blip r:embed="rId6"/>
          <a:srcRect l="34375" t="34376" r="39063" b="43752"/>
          <a:stretch/>
        </p:blipFill>
        <p:spPr>
          <a:xfrm>
            <a:off x="3143160" y="2357280"/>
            <a:ext cx="2428920" cy="15004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8" descr="1.1.1.3.png"/>
          <p:cNvPicPr/>
          <p:nvPr/>
        </p:nvPicPr>
        <p:blipFill>
          <a:blip r:embed="rId7"/>
          <a:srcRect l="7032" t="10418" r="60940" b="66669"/>
          <a:stretch/>
        </p:blipFill>
        <p:spPr>
          <a:xfrm>
            <a:off x="4929120" y="928800"/>
            <a:ext cx="2928960" cy="1571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9" descr="1.1.1.3.png"/>
          <p:cNvPicPr/>
          <p:nvPr/>
        </p:nvPicPr>
        <p:blipFill>
          <a:blip r:embed="rId8"/>
          <a:srcRect l="8594" t="59378" r="59376" b="17708"/>
          <a:stretch/>
        </p:blipFill>
        <p:spPr>
          <a:xfrm>
            <a:off x="785880" y="4071960"/>
            <a:ext cx="2928960" cy="1571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0" descr="1.1.1.3.png"/>
          <p:cNvPicPr/>
          <p:nvPr/>
        </p:nvPicPr>
        <p:blipFill>
          <a:blip r:embed="rId9"/>
          <a:srcRect l="71098" t="38543" r="0" b="0"/>
          <a:stretch/>
        </p:blipFill>
        <p:spPr>
          <a:xfrm>
            <a:off x="6500880" y="2643120"/>
            <a:ext cx="2643120" cy="42148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1.1.3.png"/>
          <p:cNvPicPr/>
          <p:nvPr/>
        </p:nvPicPr>
        <p:blipFill>
          <a:blip r:embed="rId10"/>
          <a:srcRect l="0" t="0" r="66408" b="35420"/>
          <a:stretch/>
        </p:blipFill>
        <p:spPr>
          <a:xfrm>
            <a:off x="0" y="0"/>
            <a:ext cx="3071880" cy="4429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2" descr="1.1.1.5.png"/>
          <p:cNvPicPr/>
          <p:nvPr/>
        </p:nvPicPr>
        <p:blipFill>
          <a:blip r:embed="rId11"/>
          <a:srcRect l="21094" t="0" r="0" b="37502"/>
          <a:stretch/>
        </p:blipFill>
        <p:spPr>
          <a:xfrm>
            <a:off x="1928880" y="0"/>
            <a:ext cx="7215120" cy="42861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3" descr="2.1.13.1.png"/>
          <p:cNvPicPr/>
          <p:nvPr/>
        </p:nvPicPr>
        <p:blipFill>
          <a:blip r:embed="rId12"/>
          <a:srcRect l="2345" t="62501" r="24220" b="0"/>
          <a:stretch/>
        </p:blipFill>
        <p:spPr>
          <a:xfrm>
            <a:off x="214200" y="4286160"/>
            <a:ext cx="6715080" cy="25718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4" descr="1.1.1.6.png"/>
          <p:cNvPicPr/>
          <p:nvPr/>
        </p:nvPicPr>
        <p:blipFill>
          <a:blip r:embed="rId13"/>
          <a:srcRect l="67970" t="0" r="2345" b="75005"/>
          <a:stretch/>
        </p:blipFill>
        <p:spPr>
          <a:xfrm>
            <a:off x="5580000" y="0"/>
            <a:ext cx="271476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9" descr="1.1.1.9.png"/>
          <p:cNvPicPr/>
          <p:nvPr/>
        </p:nvPicPr>
        <p:blipFill>
          <a:blip r:embed="rId14"/>
          <a:srcRect l="28126" t="39584" r="67189" b="54170"/>
          <a:stretch/>
        </p:blipFill>
        <p:spPr>
          <a:xfrm>
            <a:off x="2571840" y="271476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2" descr="1.1.1.9.png"/>
          <p:cNvPicPr/>
          <p:nvPr/>
        </p:nvPicPr>
        <p:blipFill>
          <a:blip r:embed="rId15"/>
          <a:srcRect l="28126" t="39584" r="67189" b="54170"/>
          <a:stretch/>
        </p:blipFill>
        <p:spPr>
          <a:xfrm rot="1095000">
            <a:off x="4684320" y="51595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3" descr="1.1.1.9.png"/>
          <p:cNvPicPr/>
          <p:nvPr/>
        </p:nvPicPr>
        <p:blipFill>
          <a:blip r:embed="rId16"/>
          <a:srcRect l="48443" t="58334" r="47654" b="37502"/>
          <a:stretch/>
        </p:blipFill>
        <p:spPr>
          <a:xfrm>
            <a:off x="4429080" y="4000680"/>
            <a:ext cx="357120" cy="2854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4" descr="1.1.1.9.png"/>
          <p:cNvPicPr/>
          <p:nvPr/>
        </p:nvPicPr>
        <p:blipFill>
          <a:blip r:embed="rId17"/>
          <a:srcRect l="47662" t="15623" r="49218" b="80217"/>
          <a:stretch/>
        </p:blipFill>
        <p:spPr>
          <a:xfrm>
            <a:off x="4357800" y="10717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5" descr="1.1.1.9.png"/>
          <p:cNvPicPr/>
          <p:nvPr/>
        </p:nvPicPr>
        <p:blipFill>
          <a:blip r:embed="rId18"/>
          <a:srcRect l="47662" t="15623" r="49218" b="80217"/>
          <a:stretch/>
        </p:blipFill>
        <p:spPr>
          <a:xfrm>
            <a:off x="2643120" y="1071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6" descr="1.1.1.9.png"/>
          <p:cNvPicPr/>
          <p:nvPr/>
        </p:nvPicPr>
        <p:blipFill>
          <a:blip r:embed="rId19"/>
          <a:srcRect l="47662" t="15623" r="49218" b="80217"/>
          <a:stretch/>
        </p:blipFill>
        <p:spPr>
          <a:xfrm>
            <a:off x="4786200" y="12859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7" descr="1.1.1.9.png"/>
          <p:cNvPicPr/>
          <p:nvPr/>
        </p:nvPicPr>
        <p:blipFill>
          <a:blip r:embed="rId20"/>
          <a:srcRect l="47662" t="15623" r="49218" b="80217"/>
          <a:stretch/>
        </p:blipFill>
        <p:spPr>
          <a:xfrm>
            <a:off x="3473280" y="169236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8" descr="1.1.1.9.png"/>
          <p:cNvPicPr/>
          <p:nvPr/>
        </p:nvPicPr>
        <p:blipFill>
          <a:blip r:embed="rId21"/>
          <a:srcRect l="47662" t="15623" r="49218" b="80217"/>
          <a:stretch/>
        </p:blipFill>
        <p:spPr>
          <a:xfrm>
            <a:off x="4205160" y="1922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0" descr="1.1.1.9.png"/>
          <p:cNvPicPr/>
          <p:nvPr/>
        </p:nvPicPr>
        <p:blipFill>
          <a:blip r:embed="rId22"/>
          <a:srcRect l="47662" t="15623" r="49218" b="80217"/>
          <a:stretch/>
        </p:blipFill>
        <p:spPr>
          <a:xfrm>
            <a:off x="1638360" y="3780000"/>
            <a:ext cx="269640" cy="2696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2" descr="1.1.1.9.png"/>
          <p:cNvPicPr/>
          <p:nvPr/>
        </p:nvPicPr>
        <p:blipFill>
          <a:blip r:embed="rId23"/>
          <a:srcRect l="47662" t="15623" r="49218" b="80217"/>
          <a:stretch/>
        </p:blipFill>
        <p:spPr>
          <a:xfrm>
            <a:off x="6264360" y="4529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3" descr="1.1.1.9.png"/>
          <p:cNvPicPr/>
          <p:nvPr/>
        </p:nvPicPr>
        <p:blipFill>
          <a:blip r:embed="rId24"/>
          <a:srcRect l="16399" t="73960" r="76569" b="17708"/>
          <a:stretch/>
        </p:blipFill>
        <p:spPr>
          <a:xfrm>
            <a:off x="1500120" y="507204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5" descr="1.1.1.9.png"/>
          <p:cNvPicPr/>
          <p:nvPr/>
        </p:nvPicPr>
        <p:blipFill>
          <a:blip r:embed="rId25"/>
          <a:srcRect l="71890" t="75001" r="21078" b="15626"/>
          <a:stretch/>
        </p:blipFill>
        <p:spPr>
          <a:xfrm>
            <a:off x="6572160" y="5143680"/>
            <a:ext cx="642960" cy="6426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6" descr="1.1.1.9.png"/>
          <p:cNvPicPr/>
          <p:nvPr/>
        </p:nvPicPr>
        <p:blipFill>
          <a:blip r:embed="rId26"/>
          <a:srcRect l="36720" t="75001" r="59376" b="18749"/>
          <a:stretch/>
        </p:blipFill>
        <p:spPr>
          <a:xfrm>
            <a:off x="2500200" y="5540400"/>
            <a:ext cx="324000" cy="3888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7" descr="1.1.1.9.png"/>
          <p:cNvPicPr/>
          <p:nvPr/>
        </p:nvPicPr>
        <p:blipFill>
          <a:blip r:embed="rId27"/>
          <a:srcRect l="62513" t="69792" r="32019" b="23962"/>
          <a:stretch/>
        </p:blipFill>
        <p:spPr>
          <a:xfrm>
            <a:off x="5715000" y="478620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8" descr="1.1.1.9.png"/>
          <p:cNvPicPr/>
          <p:nvPr/>
        </p:nvPicPr>
        <p:blipFill>
          <a:blip r:embed="rId28"/>
          <a:srcRect l="36720" t="75001" r="59376" b="18749"/>
          <a:stretch/>
        </p:blipFill>
        <p:spPr>
          <a:xfrm>
            <a:off x="3357720" y="5143680"/>
            <a:ext cx="357120" cy="428400"/>
          </a:xfrm>
          <a:prstGeom prst="rect">
            <a:avLst/>
          </a:prstGeom>
          <a:ln w="0">
            <a:noFill/>
          </a:ln>
        </p:spPr>
      </p:pic>
      <p:sp>
        <p:nvSpPr>
          <p:cNvPr id="68" name="十字星 41"/>
          <p:cNvSpPr/>
          <p:nvPr/>
        </p:nvSpPr>
        <p:spPr>
          <a:xfrm>
            <a:off x="1857240" y="1785960"/>
            <a:ext cx="214560" cy="214200"/>
          </a:xfrm>
          <a:custGeom>
            <a:avLst/>
            <a:gdLst>
              <a:gd name="textAreaLeft" fmla="*/ 90720 w 214560"/>
              <a:gd name="textAreaRight" fmla="*/ 123840 w 214560"/>
              <a:gd name="textAreaTop" fmla="*/ 90720 h 214200"/>
              <a:gd name="textAreaBottom" fmla="*/ 12348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十字星 42"/>
          <p:cNvSpPr/>
          <p:nvPr/>
        </p:nvSpPr>
        <p:spPr>
          <a:xfrm>
            <a:off x="2857680" y="1857240"/>
            <a:ext cx="214200" cy="214560"/>
          </a:xfrm>
          <a:custGeom>
            <a:avLst/>
            <a:gdLst>
              <a:gd name="textAreaLeft" fmla="*/ 90720 w 214200"/>
              <a:gd name="textAreaRight" fmla="*/ 123480 w 214200"/>
              <a:gd name="textAreaTop" fmla="*/ 90720 h 214560"/>
              <a:gd name="textAreaBottom" fmla="*/ 12384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十字星 43"/>
          <p:cNvSpPr/>
          <p:nvPr/>
        </p:nvSpPr>
        <p:spPr>
          <a:xfrm rot="2580000">
            <a:off x="5302080" y="1368000"/>
            <a:ext cx="252720" cy="250920"/>
          </a:xfrm>
          <a:custGeom>
            <a:avLst/>
            <a:gdLst>
              <a:gd name="textAreaLeft" fmla="*/ 106920 w 252720"/>
              <a:gd name="textAreaRight" fmla="*/ 145800 w 252720"/>
              <a:gd name="textAreaTop" fmla="*/ 106200 h 250920"/>
              <a:gd name="textAreaBottom" fmla="*/ 144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十字星 44"/>
          <p:cNvSpPr/>
          <p:nvPr/>
        </p:nvSpPr>
        <p:spPr>
          <a:xfrm rot="3240000">
            <a:off x="6048000" y="4873680"/>
            <a:ext cx="214200" cy="214200"/>
          </a:xfrm>
          <a:custGeom>
            <a:avLst/>
            <a:gdLst>
              <a:gd name="textAreaLeft" fmla="*/ 90720 w 214200"/>
              <a:gd name="textAreaRight" fmla="*/ 123480 w 214200"/>
              <a:gd name="textAreaTop" fmla="*/ 90720 h 214200"/>
              <a:gd name="textAreaBottom" fmla="*/ 12348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十字星 45"/>
          <p:cNvSpPr/>
          <p:nvPr/>
        </p:nvSpPr>
        <p:spPr>
          <a:xfrm rot="3240000">
            <a:off x="8072280" y="5286240"/>
            <a:ext cx="214560" cy="214560"/>
          </a:xfrm>
          <a:custGeom>
            <a:avLst/>
            <a:gdLst>
              <a:gd name="textAreaLeft" fmla="*/ 90720 w 214560"/>
              <a:gd name="textAreaRight" fmla="*/ 123840 w 214560"/>
              <a:gd name="textAreaTop" fmla="*/ 90720 h 214560"/>
              <a:gd name="textAreaBottom" fmla="*/ 12384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十字星 46"/>
          <p:cNvSpPr/>
          <p:nvPr/>
        </p:nvSpPr>
        <p:spPr>
          <a:xfrm rot="20160000">
            <a:off x="3742920" y="2952720"/>
            <a:ext cx="155520" cy="149400"/>
          </a:xfrm>
          <a:custGeom>
            <a:avLst/>
            <a:gdLst>
              <a:gd name="textAreaLeft" fmla="*/ 65880 w 155520"/>
              <a:gd name="textAreaRight" fmla="*/ 89640 w 155520"/>
              <a:gd name="textAreaTop" fmla="*/ 63000 h 149400"/>
              <a:gd name="textAreaBottom" fmla="*/ 86400 h 149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十字星 47"/>
          <p:cNvSpPr/>
          <p:nvPr/>
        </p:nvSpPr>
        <p:spPr>
          <a:xfrm rot="19860000">
            <a:off x="5094000" y="3492000"/>
            <a:ext cx="181080" cy="141480"/>
          </a:xfrm>
          <a:custGeom>
            <a:avLst/>
            <a:gdLst>
              <a:gd name="textAreaLeft" fmla="*/ 76680 w 181080"/>
              <a:gd name="textAreaRight" fmla="*/ 104400 w 181080"/>
              <a:gd name="textAreaTop" fmla="*/ 59760 h 141480"/>
              <a:gd name="textAreaBottom" fmla="*/ 81720 h 14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十字星 48"/>
          <p:cNvSpPr/>
          <p:nvPr/>
        </p:nvSpPr>
        <p:spPr>
          <a:xfrm rot="2520000">
            <a:off x="7195680" y="1838160"/>
            <a:ext cx="250920" cy="250920"/>
          </a:xfrm>
          <a:custGeom>
            <a:avLst/>
            <a:gdLst>
              <a:gd name="textAreaLeft" fmla="*/ 106200 w 250920"/>
              <a:gd name="textAreaRight" fmla="*/ 144720 w 250920"/>
              <a:gd name="textAreaTop" fmla="*/ 106200 h 250920"/>
              <a:gd name="textAreaBottom" fmla="*/ 144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十字星 49"/>
          <p:cNvSpPr/>
          <p:nvPr/>
        </p:nvSpPr>
        <p:spPr>
          <a:xfrm rot="2580000">
            <a:off x="3041280" y="4966920"/>
            <a:ext cx="252360" cy="252360"/>
          </a:xfrm>
          <a:custGeom>
            <a:avLst/>
            <a:gdLst>
              <a:gd name="textAreaLeft" fmla="*/ 106560 w 252360"/>
              <a:gd name="textAreaRight" fmla="*/ 145800 w 252360"/>
              <a:gd name="textAreaTop" fmla="*/ 106560 h 252360"/>
              <a:gd name="textAreaBottom" fmla="*/ 145800 h 2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十字星 51"/>
          <p:cNvSpPr/>
          <p:nvPr/>
        </p:nvSpPr>
        <p:spPr>
          <a:xfrm rot="2580000">
            <a:off x="1152360" y="4535640"/>
            <a:ext cx="216000" cy="215640"/>
          </a:xfrm>
          <a:custGeom>
            <a:avLst/>
            <a:gdLst>
              <a:gd name="textAreaLeft" fmla="*/ 91440 w 216000"/>
              <a:gd name="textAreaRight" fmla="*/ 124560 w 216000"/>
              <a:gd name="textAreaTop" fmla="*/ 91080 h 215640"/>
              <a:gd name="textAreaBottom" fmla="*/ 1245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29" descr="1.1.1.9.png"/>
          <p:cNvPicPr/>
          <p:nvPr/>
        </p:nvPicPr>
        <p:blipFill>
          <a:blip r:embed="rId29"/>
          <a:srcRect l="9375" t="81254" r="81254" b="8332"/>
          <a:stretch/>
        </p:blipFill>
        <p:spPr>
          <a:xfrm>
            <a:off x="857160" y="557208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8" descr="1.1.1.9.png"/>
          <p:cNvPicPr/>
          <p:nvPr/>
        </p:nvPicPr>
        <p:blipFill>
          <a:blip r:embed="rId30"/>
          <a:srcRect l="9375" t="81254" r="81254" b="8332"/>
          <a:stretch/>
        </p:blipFill>
        <p:spPr>
          <a:xfrm>
            <a:off x="7199280" y="5572080"/>
            <a:ext cx="857160" cy="714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6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50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24948 -0.18055 C -0.20643 -0.11666 -0.1632 -0.05254 -0.12969 -0.01574 C -0.09618 0.02084 -0.06979 0.03588 -0.04809 0.03843 C -0.02639 0.04098 -0.01302 0.02037 0.00052 -0.00023 E">
                                      <p:cBhvr>
                                        <p:cTn id="11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33872 -0.2125 C -0.29063 -0.14629 -0.24236 -0.07916 -0.19913 -0.04606 C -0.15573 -0.01342 -0.11233 -0.02361 -0.079 -0.01597 C -0.04584 -0.00833 -0.02309 -0.00439 2.5E-006 -3.33333E-006 E">
                                      <p:cBhvr>
                                        <p:cTn id="117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.23282 -0.23171 C 0.18751 -0.1824 0.14237 -0.1331 0.1158 -0.09999 C 0.08924 -0.06689 0.09289 -0.04999 0.07362 -0.03333 C 0.05435 -0.01666 0.02709 -0.00833 6.66667E-006 7.03704E-006 E">
                                      <p:cBhvr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37361 -0.27014 C -0.36216 -0.20625 -0.3507 -0.14213 -0.325 -0.10185 C -0.29931 -0.06157 -0.25729 -0.0412 -0.21979 -0.02824 C -0.18195 -0.01528 -0.13525 -0.02917 -0.09879 -0.02454 C -0.06198 -0.01991 -0.03108 -0.00995 2.77778E-006 1.85185E-006 E">
                                      <p:cBhvr>
                                        <p:cTn id="12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64531 -0.3385 C 0.59583 -0.30312 0.41163 -0.1815 0.34861 -0.1237 C 0.28559 -0.0659 0.29375 -0.02035 0.26701 0.00832 C 0.24028 0.03653 0.21042 0.03353 0.18802 0.0467 C 0.16563 0.05965 0.16267 0.08116 0.13281 0.08694 C 0.10295 0.09272 0.05608 0.0874 0.0092 0.08162 E">
                                      <p:cBhvr>
                                        <p:cTn id="12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1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33421 0.45093 C -0.22588 0.40185 -0.11754 0.35301 -0.07362 0.2912 C -0.02969 0.2294 -0.08334 0.1294 -0.07101 0.08079 C -0.05869 0.03218 -0.01164 0.01366 -5E-006 4.07407E-006 E">
                                      <p:cBhvr>
                                        <p:cTn id="13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4816 -0.2912 C 0.46059 -0.1912 0.43958 -0.0912 0.38038 -0.04027 C 0.32118 0.01065 0.18507 0.00047 0.12639 0.01412 C 0.06771 0.02778 0.04878 0.04445 0.02778 0.04213 C 0.00677 0.03982 0.0033 0.01991 4.16667E-006 1.11111E-006 E">
                                      <p:cBhvr>
                                        <p:cTn id="14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5026 -0.14376 C 0.47483 -0.10834 0.44705 -0.07269 0.41441 -0.05255 C 0.38177 -0.03241 0.35226 -0.04144 0.3066 -0.02269 C 0.26094 -0.00394 0.19184 0.05601 0.1408 0.05972 C 0.08976 0.06342 0.04479 0.03171 -5.55556E-007 -7.77778E-006 E">
                                      <p:cBhvr>
                                        <p:cTn id="15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72639 0.1 C -0.5875 0.12084 -0.44861 0.1419 -0.35538 0.14908 C -0.26215 0.15625 -0.22639 0.16852 -0.16736 0.14375 C -0.10798 0.11898 -0.05399 0.05949 1.38889E-006 -3.33333E-006 E">
                                      <p:cBhvr>
                                        <p:cTn id="15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76 -0.59629 C -0.14149 -0.55115 -0.15538 -0.50601 -0.14218 -0.45764 C -0.12899 -0.40926 -0.06388 -0.35324 -0.04878 -0.30671 C -0.03385 -0.26018 -0.0427 -0.21875 -0.0526 -0.17893 C -0.06284 -0.13912 -0.09913 -0.10277 -0.10937 -0.06828 C -0.11927 -0.03379 -0.11805 0.01158 -0.11319 0.02824 C -0.1085 0.04491 -0.09947 0.03635 -0.08038 0.03172 C -0.06145 0.02709 -0.0309 0.01366 -8.33333E-007 -3.7037E-007 E">
                                      <p:cBhvr>
                                        <p:cTn id="16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2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23455 0.11621 C -0.21111 0.08565 -0.18768 0.05509 -0.15903 0.04445 C -0.13004 0.0338 -0.08802 0.06019 -0.06146 0.05278 C -0.03507 0.04537 -0.01754 0.02269 3.61111E-006 -2.22222E-006 E">
                                      <p:cBhvr>
                                        <p:cTn id="16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3342 0.07732 C -0.30538 0.04399 -0.27639 0.01089 -0.24201 5.55556E-006 C -0.20764 -0.01087 -0.1566 0.01042 -0.1276 0.01227 C -0.09861 0.01413 -0.08958 0.01274 -0.0684 0.01065 C -0.04722 0.00857 -0.02361 0.00417 -3.88889E-006 5.55556E-006 E">
                                      <p:cBhvr>
                                        <p:cTn id="171" dur="1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42882 0.12639 C -0.39844 0.09491 -0.36788 0.06366 -0.33542 0.0544 C -0.30295 0.04514 -0.26615 0.07384 -0.2342 0.07014 C -0.20243 0.06644 -0.17118 0.03496 -0.1434 0.03148 C -0.11563 0.02801 -0.09115 0.0544 -0.06701 0.04908 C -0.04306 0.04375 -0.0217 0.02176 2.22222E-006 -1.48148E-006 E">
                                      <p:cBhvr>
                                        <p:cTn id="17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36319 -0.32107 C 0.33281 -0.26852 0.3026 -0.21574 0.271 -0.18588 C 0.23941 -0.15602 0.20191 -0.16435 0.17378 -0.14213 C 0.14566 -0.11991 0.13159 -0.07616 0.1026 -0.05255 C 0.07361 -0.02894 0.0368 -0.01459 1.38889E-006 -1.11111E-006 E">
                                      <p:cBhvr>
                                        <p:cTn id="179" dur="1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25798 -0.37546 C 0.22309 -0.31227 0.18819 -0.24884 0.16718 -0.2 C 0.14618 -0.15115 0.14791 -0.11412 0.13159 -0.08264 C 0.11527 -0.05115 0.09166 -0.0243 0.06979 -0.01064 C 0.04791 0.00301 0.02395 0.00139 3.88889E-006 -4.07407E-006 E">
                                      <p:cBhvr>
                                        <p:cTn id="183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6208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777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40" descr="1.1.1.2.png"/>
          <p:cNvPicPr/>
          <p:nvPr/>
        </p:nvPicPr>
        <p:blipFill>
          <a:blip r:embed="rId2"/>
          <a:srcRect l="12500" t="9373" r="52346" b="8332"/>
          <a:stretch/>
        </p:blipFill>
        <p:spPr>
          <a:xfrm>
            <a:off x="1143000" y="642960"/>
            <a:ext cx="3214800" cy="56437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1.1.1.2.png"/>
          <p:cNvPicPr/>
          <p:nvPr/>
        </p:nvPicPr>
        <p:blipFill>
          <a:blip r:embed="rId3"/>
          <a:srcRect l="47656" t="9373" r="21094" b="8332"/>
          <a:stretch/>
        </p:blipFill>
        <p:spPr>
          <a:xfrm>
            <a:off x="4357800" y="642960"/>
            <a:ext cx="2857320" cy="56437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" descr="1.1.1.3.png"/>
          <p:cNvPicPr/>
          <p:nvPr/>
        </p:nvPicPr>
        <p:blipFill>
          <a:blip r:embed="rId4"/>
          <a:srcRect l="60940" t="68751" r="7032" b="11459"/>
          <a:stretch/>
        </p:blipFill>
        <p:spPr>
          <a:xfrm>
            <a:off x="5572080" y="4714920"/>
            <a:ext cx="2928960" cy="13572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" descr="1.1.1.3.png"/>
          <p:cNvPicPr/>
          <p:nvPr/>
        </p:nvPicPr>
        <p:blipFill>
          <a:blip r:embed="rId5"/>
          <a:srcRect l="7032" t="10418" r="60940" b="66669"/>
          <a:stretch/>
        </p:blipFill>
        <p:spPr>
          <a:xfrm>
            <a:off x="642960" y="714240"/>
            <a:ext cx="2928960" cy="15717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7" descr="1.1.1.3.png"/>
          <p:cNvPicPr/>
          <p:nvPr/>
        </p:nvPicPr>
        <p:blipFill>
          <a:blip r:embed="rId6"/>
          <a:srcRect l="34375" t="34376" r="39063" b="43752"/>
          <a:stretch/>
        </p:blipFill>
        <p:spPr>
          <a:xfrm>
            <a:off x="3214800" y="2357280"/>
            <a:ext cx="2428920" cy="15004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1.1.1.3.png"/>
          <p:cNvPicPr/>
          <p:nvPr/>
        </p:nvPicPr>
        <p:blipFill>
          <a:blip r:embed="rId7"/>
          <a:srcRect l="7032" t="10418" r="60940" b="66669"/>
          <a:stretch/>
        </p:blipFill>
        <p:spPr>
          <a:xfrm>
            <a:off x="4929120" y="928800"/>
            <a:ext cx="2928960" cy="15714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1.1.1.3.png"/>
          <p:cNvPicPr/>
          <p:nvPr/>
        </p:nvPicPr>
        <p:blipFill>
          <a:blip r:embed="rId8"/>
          <a:srcRect l="8594" t="59378" r="59376" b="17708"/>
          <a:stretch/>
        </p:blipFill>
        <p:spPr>
          <a:xfrm>
            <a:off x="785880" y="4071960"/>
            <a:ext cx="292896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0" descr="1.1.1.3.png"/>
          <p:cNvPicPr/>
          <p:nvPr/>
        </p:nvPicPr>
        <p:blipFill>
          <a:blip r:embed="rId9"/>
          <a:srcRect l="71098" t="38543" r="0" b="0"/>
          <a:stretch/>
        </p:blipFill>
        <p:spPr>
          <a:xfrm>
            <a:off x="6500880" y="2643120"/>
            <a:ext cx="2643120" cy="42148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1" descr="1.1.1.3.png"/>
          <p:cNvPicPr/>
          <p:nvPr/>
        </p:nvPicPr>
        <p:blipFill>
          <a:blip r:embed="rId10"/>
          <a:srcRect l="0" t="0" r="66408" b="35420"/>
          <a:stretch/>
        </p:blipFill>
        <p:spPr>
          <a:xfrm>
            <a:off x="0" y="0"/>
            <a:ext cx="3071880" cy="44290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2" descr="1.1.1.5.png"/>
          <p:cNvPicPr/>
          <p:nvPr/>
        </p:nvPicPr>
        <p:blipFill>
          <a:blip r:embed="rId11"/>
          <a:srcRect l="21094" t="0" r="0" b="37502"/>
          <a:stretch/>
        </p:blipFill>
        <p:spPr>
          <a:xfrm>
            <a:off x="1928880" y="0"/>
            <a:ext cx="7215120" cy="42861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3" descr="2.1.13.1.png"/>
          <p:cNvPicPr/>
          <p:nvPr/>
        </p:nvPicPr>
        <p:blipFill>
          <a:blip r:embed="rId12"/>
          <a:srcRect l="2345" t="62501" r="24220" b="0"/>
          <a:stretch/>
        </p:blipFill>
        <p:spPr>
          <a:xfrm>
            <a:off x="214200" y="4286160"/>
            <a:ext cx="6715080" cy="25718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4" descr="1.1.1.6.png"/>
          <p:cNvPicPr/>
          <p:nvPr/>
        </p:nvPicPr>
        <p:blipFill>
          <a:blip r:embed="rId13"/>
          <a:srcRect l="67970" t="0" r="2345" b="75005"/>
          <a:stretch/>
        </p:blipFill>
        <p:spPr>
          <a:xfrm>
            <a:off x="5580000" y="189000"/>
            <a:ext cx="2714760" cy="17143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9" descr="1.1.1.9.png"/>
          <p:cNvPicPr/>
          <p:nvPr/>
        </p:nvPicPr>
        <p:blipFill>
          <a:blip r:embed="rId14"/>
          <a:srcRect l="28126" t="39584" r="67189" b="54170"/>
          <a:stretch/>
        </p:blipFill>
        <p:spPr>
          <a:xfrm>
            <a:off x="2571840" y="271476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2" descr="1.1.1.9.png"/>
          <p:cNvPicPr/>
          <p:nvPr/>
        </p:nvPicPr>
        <p:blipFill>
          <a:blip r:embed="rId15"/>
          <a:srcRect l="28126" t="39584" r="67189" b="54170"/>
          <a:stretch/>
        </p:blipFill>
        <p:spPr>
          <a:xfrm rot="1095000">
            <a:off x="4684320" y="51595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3" descr="1.1.1.9.png"/>
          <p:cNvPicPr/>
          <p:nvPr/>
        </p:nvPicPr>
        <p:blipFill>
          <a:blip r:embed="rId16"/>
          <a:srcRect l="48443" t="58334" r="47654" b="37502"/>
          <a:stretch/>
        </p:blipFill>
        <p:spPr>
          <a:xfrm>
            <a:off x="4429080" y="4000680"/>
            <a:ext cx="357120" cy="2854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4" descr="1.1.1.9.png"/>
          <p:cNvPicPr/>
          <p:nvPr/>
        </p:nvPicPr>
        <p:blipFill>
          <a:blip r:embed="rId17"/>
          <a:srcRect l="47662" t="15623" r="49218" b="80217"/>
          <a:stretch/>
        </p:blipFill>
        <p:spPr>
          <a:xfrm>
            <a:off x="4357800" y="10717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5" descr="1.1.1.9.png"/>
          <p:cNvPicPr/>
          <p:nvPr/>
        </p:nvPicPr>
        <p:blipFill>
          <a:blip r:embed="rId18"/>
          <a:srcRect l="47662" t="15623" r="49218" b="80217"/>
          <a:stretch/>
        </p:blipFill>
        <p:spPr>
          <a:xfrm>
            <a:off x="2643120" y="1071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6" descr="1.1.1.9.png"/>
          <p:cNvPicPr/>
          <p:nvPr/>
        </p:nvPicPr>
        <p:blipFill>
          <a:blip r:embed="rId19"/>
          <a:srcRect l="47662" t="15623" r="49218" b="80217"/>
          <a:stretch/>
        </p:blipFill>
        <p:spPr>
          <a:xfrm>
            <a:off x="4786200" y="12859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7" descr="1.1.1.9.png"/>
          <p:cNvPicPr/>
          <p:nvPr/>
        </p:nvPicPr>
        <p:blipFill>
          <a:blip r:embed="rId20"/>
          <a:srcRect l="47662" t="15623" r="49218" b="80217"/>
          <a:stretch/>
        </p:blipFill>
        <p:spPr>
          <a:xfrm>
            <a:off x="3473280" y="169236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8" descr="1.1.1.9.png"/>
          <p:cNvPicPr/>
          <p:nvPr/>
        </p:nvPicPr>
        <p:blipFill>
          <a:blip r:embed="rId21"/>
          <a:srcRect l="47662" t="15623" r="49218" b="80217"/>
          <a:stretch/>
        </p:blipFill>
        <p:spPr>
          <a:xfrm>
            <a:off x="4205160" y="1922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0" descr="1.1.1.9.png"/>
          <p:cNvPicPr/>
          <p:nvPr/>
        </p:nvPicPr>
        <p:blipFill>
          <a:blip r:embed="rId22"/>
          <a:srcRect l="47662" t="15623" r="49218" b="80217"/>
          <a:stretch/>
        </p:blipFill>
        <p:spPr>
          <a:xfrm>
            <a:off x="1638360" y="3780000"/>
            <a:ext cx="269640" cy="2696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2" descr="1.1.1.9.png"/>
          <p:cNvPicPr/>
          <p:nvPr/>
        </p:nvPicPr>
        <p:blipFill>
          <a:blip r:embed="rId23"/>
          <a:srcRect l="47662" t="15623" r="49218" b="80217"/>
          <a:stretch/>
        </p:blipFill>
        <p:spPr>
          <a:xfrm>
            <a:off x="6264360" y="4529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33" descr="1.1.1.9.png"/>
          <p:cNvPicPr/>
          <p:nvPr/>
        </p:nvPicPr>
        <p:blipFill>
          <a:blip r:embed="rId24"/>
          <a:srcRect l="16399" t="73960" r="76569" b="17708"/>
          <a:stretch/>
        </p:blipFill>
        <p:spPr>
          <a:xfrm>
            <a:off x="1500120" y="507204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35" descr="1.1.1.9.png"/>
          <p:cNvPicPr/>
          <p:nvPr/>
        </p:nvPicPr>
        <p:blipFill>
          <a:blip r:embed="rId25"/>
          <a:srcRect l="71890" t="75001" r="21078" b="15626"/>
          <a:stretch/>
        </p:blipFill>
        <p:spPr>
          <a:xfrm>
            <a:off x="6572160" y="5143680"/>
            <a:ext cx="642960" cy="6426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6" descr="1.1.1.9.png"/>
          <p:cNvPicPr/>
          <p:nvPr/>
        </p:nvPicPr>
        <p:blipFill>
          <a:blip r:embed="rId26"/>
          <a:srcRect l="36720" t="75001" r="59376" b="18749"/>
          <a:stretch/>
        </p:blipFill>
        <p:spPr>
          <a:xfrm>
            <a:off x="2500200" y="5540400"/>
            <a:ext cx="324000" cy="3888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7" descr="1.1.1.9.png"/>
          <p:cNvPicPr/>
          <p:nvPr/>
        </p:nvPicPr>
        <p:blipFill>
          <a:blip r:embed="rId27"/>
          <a:srcRect l="62513" t="69792" r="32019" b="23962"/>
          <a:stretch/>
        </p:blipFill>
        <p:spPr>
          <a:xfrm>
            <a:off x="5715000" y="478620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8" descr="1.1.1.9.png"/>
          <p:cNvPicPr/>
          <p:nvPr/>
        </p:nvPicPr>
        <p:blipFill>
          <a:blip r:embed="rId28"/>
          <a:srcRect l="36720" t="75001" r="59376" b="18749"/>
          <a:stretch/>
        </p:blipFill>
        <p:spPr>
          <a:xfrm>
            <a:off x="3357720" y="5143680"/>
            <a:ext cx="357120" cy="428400"/>
          </a:xfrm>
          <a:prstGeom prst="rect">
            <a:avLst/>
          </a:prstGeom>
          <a:ln w="0">
            <a:noFill/>
          </a:ln>
        </p:spPr>
      </p:pic>
      <p:sp>
        <p:nvSpPr>
          <p:cNvPr id="110" name="十字星 41"/>
          <p:cNvSpPr/>
          <p:nvPr/>
        </p:nvSpPr>
        <p:spPr>
          <a:xfrm>
            <a:off x="1857240" y="1785960"/>
            <a:ext cx="214560" cy="214200"/>
          </a:xfrm>
          <a:custGeom>
            <a:avLst/>
            <a:gdLst>
              <a:gd name="textAreaLeft" fmla="*/ 90720 w 214560"/>
              <a:gd name="textAreaRight" fmla="*/ 123840 w 214560"/>
              <a:gd name="textAreaTop" fmla="*/ 90720 h 214200"/>
              <a:gd name="textAreaBottom" fmla="*/ 12348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十字星 42"/>
          <p:cNvSpPr/>
          <p:nvPr/>
        </p:nvSpPr>
        <p:spPr>
          <a:xfrm>
            <a:off x="2857680" y="1857240"/>
            <a:ext cx="214200" cy="214560"/>
          </a:xfrm>
          <a:custGeom>
            <a:avLst/>
            <a:gdLst>
              <a:gd name="textAreaLeft" fmla="*/ 90720 w 214200"/>
              <a:gd name="textAreaRight" fmla="*/ 123480 w 214200"/>
              <a:gd name="textAreaTop" fmla="*/ 90720 h 214560"/>
              <a:gd name="textAreaBottom" fmla="*/ 12384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十字星 43"/>
          <p:cNvSpPr/>
          <p:nvPr/>
        </p:nvSpPr>
        <p:spPr>
          <a:xfrm rot="2580000">
            <a:off x="5302080" y="1368000"/>
            <a:ext cx="252720" cy="250920"/>
          </a:xfrm>
          <a:custGeom>
            <a:avLst/>
            <a:gdLst>
              <a:gd name="textAreaLeft" fmla="*/ 106920 w 252720"/>
              <a:gd name="textAreaRight" fmla="*/ 145800 w 252720"/>
              <a:gd name="textAreaTop" fmla="*/ 106200 h 250920"/>
              <a:gd name="textAreaBottom" fmla="*/ 144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十字星 44"/>
          <p:cNvSpPr/>
          <p:nvPr/>
        </p:nvSpPr>
        <p:spPr>
          <a:xfrm rot="3240000">
            <a:off x="6048000" y="4873680"/>
            <a:ext cx="214200" cy="214200"/>
          </a:xfrm>
          <a:custGeom>
            <a:avLst/>
            <a:gdLst>
              <a:gd name="textAreaLeft" fmla="*/ 90720 w 214200"/>
              <a:gd name="textAreaRight" fmla="*/ 123480 w 214200"/>
              <a:gd name="textAreaTop" fmla="*/ 90720 h 214200"/>
              <a:gd name="textAreaBottom" fmla="*/ 12348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十字星 45"/>
          <p:cNvSpPr/>
          <p:nvPr/>
        </p:nvSpPr>
        <p:spPr>
          <a:xfrm rot="3240000">
            <a:off x="8072280" y="5286240"/>
            <a:ext cx="214560" cy="214560"/>
          </a:xfrm>
          <a:custGeom>
            <a:avLst/>
            <a:gdLst>
              <a:gd name="textAreaLeft" fmla="*/ 90720 w 214560"/>
              <a:gd name="textAreaRight" fmla="*/ 123840 w 214560"/>
              <a:gd name="textAreaTop" fmla="*/ 90720 h 214560"/>
              <a:gd name="textAreaBottom" fmla="*/ 12384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十字星 46"/>
          <p:cNvSpPr/>
          <p:nvPr/>
        </p:nvSpPr>
        <p:spPr>
          <a:xfrm rot="20160000">
            <a:off x="3742920" y="2952720"/>
            <a:ext cx="155520" cy="149400"/>
          </a:xfrm>
          <a:custGeom>
            <a:avLst/>
            <a:gdLst>
              <a:gd name="textAreaLeft" fmla="*/ 65880 w 155520"/>
              <a:gd name="textAreaRight" fmla="*/ 89640 w 155520"/>
              <a:gd name="textAreaTop" fmla="*/ 63000 h 149400"/>
              <a:gd name="textAreaBottom" fmla="*/ 86400 h 149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十字星 47"/>
          <p:cNvSpPr/>
          <p:nvPr/>
        </p:nvSpPr>
        <p:spPr>
          <a:xfrm rot="19860000">
            <a:off x="5094000" y="3492000"/>
            <a:ext cx="181080" cy="141480"/>
          </a:xfrm>
          <a:custGeom>
            <a:avLst/>
            <a:gdLst>
              <a:gd name="textAreaLeft" fmla="*/ 76680 w 181080"/>
              <a:gd name="textAreaRight" fmla="*/ 104400 w 181080"/>
              <a:gd name="textAreaTop" fmla="*/ 59760 h 141480"/>
              <a:gd name="textAreaBottom" fmla="*/ 81720 h 14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十字星 48"/>
          <p:cNvSpPr/>
          <p:nvPr/>
        </p:nvSpPr>
        <p:spPr>
          <a:xfrm rot="2520000">
            <a:off x="7195680" y="1838160"/>
            <a:ext cx="250920" cy="250920"/>
          </a:xfrm>
          <a:custGeom>
            <a:avLst/>
            <a:gdLst>
              <a:gd name="textAreaLeft" fmla="*/ 106200 w 250920"/>
              <a:gd name="textAreaRight" fmla="*/ 144720 w 250920"/>
              <a:gd name="textAreaTop" fmla="*/ 106200 h 250920"/>
              <a:gd name="textAreaBottom" fmla="*/ 144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十字星 49"/>
          <p:cNvSpPr/>
          <p:nvPr/>
        </p:nvSpPr>
        <p:spPr>
          <a:xfrm rot="2580000">
            <a:off x="3041280" y="4966920"/>
            <a:ext cx="252360" cy="252360"/>
          </a:xfrm>
          <a:custGeom>
            <a:avLst/>
            <a:gdLst>
              <a:gd name="textAreaLeft" fmla="*/ 106560 w 252360"/>
              <a:gd name="textAreaRight" fmla="*/ 145800 w 252360"/>
              <a:gd name="textAreaTop" fmla="*/ 106560 h 252360"/>
              <a:gd name="textAreaBottom" fmla="*/ 145800 h 2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十字星 51"/>
          <p:cNvSpPr/>
          <p:nvPr/>
        </p:nvSpPr>
        <p:spPr>
          <a:xfrm rot="2580000">
            <a:off x="1152360" y="4535640"/>
            <a:ext cx="216000" cy="215640"/>
          </a:xfrm>
          <a:custGeom>
            <a:avLst/>
            <a:gdLst>
              <a:gd name="textAreaLeft" fmla="*/ 91440 w 216000"/>
              <a:gd name="textAreaRight" fmla="*/ 124560 w 216000"/>
              <a:gd name="textAreaTop" fmla="*/ 91080 h 215640"/>
              <a:gd name="textAreaBottom" fmla="*/ 1245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7" y="9137"/>
                </a:lnTo>
                <a:lnTo>
                  <a:pt x="10800" y="0"/>
                </a:lnTo>
                <a:lnTo>
                  <a:pt x="12463" y="9137"/>
                </a:lnTo>
                <a:lnTo>
                  <a:pt x="21600" y="10800"/>
                </a:lnTo>
                <a:lnTo>
                  <a:pt x="12463" y="12463"/>
                </a:lnTo>
                <a:lnTo>
                  <a:pt x="10800" y="21600"/>
                </a:lnTo>
                <a:lnTo>
                  <a:pt x="9137" y="12463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9" descr="1.1.1.9.png"/>
          <p:cNvPicPr/>
          <p:nvPr/>
        </p:nvPicPr>
        <p:blipFill>
          <a:blip r:embed="rId29"/>
          <a:srcRect l="9375" t="81254" r="81254" b="8332"/>
          <a:stretch/>
        </p:blipFill>
        <p:spPr>
          <a:xfrm>
            <a:off x="857160" y="557208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8" descr="1.1.1.9.png"/>
          <p:cNvPicPr/>
          <p:nvPr/>
        </p:nvPicPr>
        <p:blipFill>
          <a:blip r:embed="rId30"/>
          <a:srcRect l="9375" t="81254" r="81254" b="8332"/>
          <a:stretch/>
        </p:blipFill>
        <p:spPr>
          <a:xfrm>
            <a:off x="7199280" y="5572080"/>
            <a:ext cx="857160" cy="7146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62" descr="1.1.2.6.png"/>
          <p:cNvPicPr/>
          <p:nvPr/>
        </p:nvPicPr>
        <p:blipFill>
          <a:blip r:embed="rId31"/>
          <a:srcRect l="0" t="91672" r="0" b="0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63" descr="1.1.2.6.png"/>
          <p:cNvPicPr/>
          <p:nvPr/>
        </p:nvPicPr>
        <p:blipFill>
          <a:blip r:embed="rId32"/>
          <a:srcRect l="0" t="6250" r="0" b="8339"/>
          <a:stretch/>
        </p:blipFill>
        <p:spPr>
          <a:xfrm>
            <a:off x="0" y="42876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64" descr="1.1.2.6.png"/>
          <p:cNvPicPr/>
          <p:nvPr/>
        </p:nvPicPr>
        <p:blipFill>
          <a:blip r:embed="rId33"/>
          <a:srcRect l="0" t="0" r="0" b="92713"/>
          <a:stretch/>
        </p:blipFill>
        <p:spPr>
          <a:xfrm>
            <a:off x="0" y="0"/>
            <a:ext cx="9144000" cy="5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50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50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3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36094 -0.42615 E">
                                      <p:cBhvr>
                                        <p:cTn id="229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0.33455 -0.42477 E">
                                      <p:cBhvr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8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800"/>
                            </p:stCondLst>
                            <p:childTnLst>
                              <p:par>
                                <p:cTn id="2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3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800"/>
                            </p:stCondLst>
                            <p:childTnLst>
                              <p:par>
                                <p:cTn id="2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9:55:03Z</dcterms:created>
  <dc:creator>锐得PPT作品</dc:creator>
  <dc:description/>
  <dc:language>en-US</dc:language>
  <cp:lastModifiedBy>雨林木风</cp:lastModifiedBy>
  <dcterms:modified xsi:type="dcterms:W3CDTF">2015-01-10T09:07:14Z</dcterms:modified>
  <cp:revision>35</cp:revision>
  <dc:subject>bbs.www.ruideppt.com</dc:subject>
  <dc:title>情人节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