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7D7-DB65-4E95-ACAB-04C663E4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5881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977-C000-42FF-97AB-0E21ACA0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588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88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FD9-7B33-40E4-A375-519786A2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762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560" y="762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588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3588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7560" y="3588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2AE-32AD-4269-B772-04621340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B871-A25B-4FCF-AC4E-C64D78A9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7DCE-E363-417B-B0F5-228B7F4C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8FF7-3890-4159-BFD6-726421BC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889E-5BFA-48F5-A35F-EE9270FE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624D-5D73-4A33-8A68-31451C65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33360" y="-360"/>
            <a:ext cx="6629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58E0-22F2-4FBC-AE75-0748923F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88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4C7D-0C15-4BB1-82FC-DBFD4046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8A1-2CF2-403F-95EA-90B09AFC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88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A8D9-1869-463C-8C05-B55D5576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881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C2E2-4386-4DC0-ABF1-3F780FBC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881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7CDD-4008-4ADE-A9DD-A528DE82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88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88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9B17-68D1-477E-B7CC-F7536C03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240" y="762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7560" y="762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88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240" y="3588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7560" y="3588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4100-6156-44CD-998B-6060CA77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CF9-7589-44F2-B566-C1272CED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4DA-6ACE-4EAB-BF38-71524E73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6F8-1465-4DC3-9966-223040BB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360" y="-360"/>
            <a:ext cx="6629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50B-9580-4B2A-AF89-42FB51F8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588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13D-CB47-423A-8EC0-ED05BF6D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88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A68-DAE4-4FB8-8C58-6F2525D9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5881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11CD-A5B8-4D6C-9BCA-28F5BEF8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305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318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F84C-FAE5-4F97-BC63-3F4A10EFC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981080"/>
            <a:ext cx="6858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5905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638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03EE-479B-4237-BD73-4AED608CB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Unbenannt-2"/>
          <p:cNvPicPr/>
          <p:nvPr/>
        </p:nvPicPr>
        <p:blipFill>
          <a:blip r:embed="rId2"/>
          <a:stretch/>
        </p:blipFill>
        <p:spPr>
          <a:xfrm>
            <a:off x="5943600" y="3429000"/>
            <a:ext cx="279360" cy="431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6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4520" y="2631960"/>
            <a:ext cx="487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色花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360" y="759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默认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页主标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加粗；副标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加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页标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加粗；内页内容文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（宋体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标题 1"/>
          <p:cNvSpPr/>
          <p:nvPr/>
        </p:nvSpPr>
        <p:spPr>
          <a:xfrm>
            <a:off x="3995640" y="2571840"/>
            <a:ext cx="431028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3480" y="632448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8T09:46:30Z</dcterms:created>
  <dc:creator/>
  <dc:description/>
  <dc:language>en-US</dc:language>
  <cp:lastModifiedBy>keke</cp:lastModifiedBy>
  <dcterms:modified xsi:type="dcterms:W3CDTF">2015-01-10T08:20:39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