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6AD-B645-4AAE-AD7A-B6305321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CC8-9C01-489B-AA16-FEDB417F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EC1-3B35-4159-BE64-8EFECAF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8E6-254E-431B-B17E-D87F58A7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E6CE-7A9B-4D35-9F5E-68D62FC9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E836-243B-4464-991B-3A9C8A23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A91-1EEC-485A-A191-4DCF9915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635-4F8A-4236-94B9-A172255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E46-67B5-40A4-80F5-DD11750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68B7-7BEC-4269-9D0C-C1994C52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516A-1FFB-421C-BD73-2338AA08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3AE-37E1-4C71-AA74-2BC9E875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6FB6-DF6A-4F2C-8D1F-905A539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11E-B6FA-4547-89C0-6315BA8C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969A-8989-469C-9B15-D43FF772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02E3-06DA-4516-AC7A-79EE78EF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C890-DBB1-4762-9D58-6D42F2C7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C81-8505-40D2-AE81-B031EDE3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9CA-BD06-4ED0-BE0D-1DCF2FCC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30E-395F-44E0-BCEB-32AAC850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EEE-076E-4AFA-86A8-E0054F16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694-3064-4FEF-BEE5-92848BF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80C-1FA4-47E3-AE18-6C579A1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4BC-910A-48D5-B964-8B67555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146E-15FC-49E8-95D1-145059FCF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7760" r="0" b="29351"/>
          <a:stretch/>
        </p:blipFill>
        <p:spPr>
          <a:xfrm>
            <a:off x="0" y="0"/>
            <a:ext cx="914544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5975-242C-46A7-BAF8-D7B716FA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1640" y="620280"/>
            <a:ext cx="432108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姚体"/>
              </a:rPr>
              <a:t>倾世皇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74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6360" y="2276280"/>
            <a:ext cx="9072720" cy="4537080"/>
          </a:xfrm>
          <a:prstGeom prst="rect">
            <a:avLst/>
          </a:prstGeom>
          <a:gradFill rotWithShape="0">
            <a:gsLst>
              <a:gs pos="0">
                <a:srgbClr val="ff6600">
                  <a:alpha val="13333"/>
                </a:srgbClr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北方有佳人，绝世而独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顾倾人城，再顾倾人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宁不知倾城与倾国？佳人难再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4:20:45Z</dcterms:created>
  <dc:creator>Administrator</dc:creator>
  <dc:description/>
  <dc:language>en-US</dc:language>
  <cp:lastModifiedBy/>
  <dcterms:modified xsi:type="dcterms:W3CDTF">2015-01-10T08:41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