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4AD9-A5DF-46B6-921C-7DCBC63A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86E-FDDB-4EB4-AC35-A803FB27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CD4-3D99-4AE0-B3FA-7600DC1F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4EF1-07F2-4207-9A05-C91F25ED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2B0-6F0A-4B4C-B23B-4B6132C1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DFA7-C170-467E-AC63-022485E6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B60B-DCD2-4105-BDB2-870D3522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DDE-E5F3-42E3-9750-0985339B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B54-E5DF-4878-ABA6-8C399184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244-50AC-45E0-95CA-34FE223B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9C79-D357-4217-AEB3-11F3A95D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8C7-DB1C-4175-A0E4-0454BE51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:\项目\中秋\中秋副34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F56B-BD9B-4053-9C7F-33E207BDCCD1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3.png"/><Relationship Id="rId16" Type="http://schemas.openxmlformats.org/officeDocument/2006/relationships/audio" Target="file:///tmp/home/.config/libreoffice/4/user/gallery/santa%20ga%20machi%20ni%20yattekuru.wav" TargetMode="External"/><Relationship Id="rId17" Type="http://schemas.microsoft.com/office/2007/relationships/media" Target="file:///tmp/home/.config/libreoffice/4/user/gallery/santa%20ga%20machi%20ni%20yattekuru.wav" TargetMode="External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图片 2" descr="F:\tao\中秋\中秋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6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F:\项目\中秋\yueliang副本.png"/>
          <p:cNvPicPr/>
          <p:nvPr/>
        </p:nvPicPr>
        <p:blipFill>
          <a:blip r:embed="rId2"/>
          <a:stretch/>
        </p:blipFill>
        <p:spPr>
          <a:xfrm>
            <a:off x="5356080" y="-604800"/>
            <a:ext cx="4260960" cy="38815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F:\tao\中秋\中秋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F:\项目\中秋\33.png"/>
          <p:cNvPicPr/>
          <p:nvPr/>
        </p:nvPicPr>
        <p:blipFill>
          <a:blip r:embed="rId4"/>
          <a:srcRect l="34378" t="16685" r="20315" b="51406"/>
          <a:stretch/>
        </p:blipFill>
        <p:spPr>
          <a:xfrm>
            <a:off x="3214800" y="857160"/>
            <a:ext cx="4143240" cy="1643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F:\项目\中秋\中秋副33332本.png"/>
          <p:cNvPicPr/>
          <p:nvPr/>
        </p:nvPicPr>
        <p:blipFill>
          <a:blip r:embed="rId5"/>
          <a:stretch/>
        </p:blipFill>
        <p:spPr>
          <a:xfrm>
            <a:off x="6643800" y="-6480"/>
            <a:ext cx="2500200" cy="19242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9" descr="F:\tao\中秋\中秋1.jpg"/>
          <p:cNvPicPr/>
          <p:nvPr/>
        </p:nvPicPr>
        <p:blipFill>
          <a:blip r:embed="rId6"/>
          <a:srcRect l="35717" t="55694" r="0" b="0"/>
          <a:stretch/>
        </p:blipFill>
        <p:spPr>
          <a:xfrm>
            <a:off x="3286080" y="2857680"/>
            <a:ext cx="5786640" cy="22460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9" descr="F:\tao\中秋\中秋1.jpg"/>
          <p:cNvPicPr/>
          <p:nvPr/>
        </p:nvPicPr>
        <p:blipFill>
          <a:blip r:embed="rId7"/>
          <a:srcRect l="36720" t="55511" r="0" b="0"/>
          <a:stretch/>
        </p:blipFill>
        <p:spPr>
          <a:xfrm>
            <a:off x="3357720" y="2857680"/>
            <a:ext cx="5786280" cy="22906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0" descr="F:\tao\中秋\中秋7.png"/>
          <p:cNvPicPr/>
          <p:nvPr/>
        </p:nvPicPr>
        <p:blipFill>
          <a:blip r:embed="rId8"/>
          <a:srcRect l="64303" t="0" r="0" b="51056"/>
          <a:stretch/>
        </p:blipFill>
        <p:spPr>
          <a:xfrm>
            <a:off x="5880240" y="0"/>
            <a:ext cx="3263760" cy="25192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8" descr="F:\tao\中秋\中秋6.png"/>
          <p:cNvPicPr/>
          <p:nvPr/>
        </p:nvPicPr>
        <p:blipFill>
          <a:blip r:embed="rId9"/>
          <a:srcRect l="0" t="49573" r="48606" b="0"/>
          <a:stretch/>
        </p:blipFill>
        <p:spPr>
          <a:xfrm>
            <a:off x="0" y="2550960"/>
            <a:ext cx="4699080" cy="259740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0" y="4456080"/>
            <a:ext cx="9144000" cy="685800"/>
            <a:chOff x="0" y="4456080"/>
            <a:chExt cx="9144000" cy="685800"/>
          </a:xfrm>
        </p:grpSpPr>
        <p:grpSp>
          <p:nvGrpSpPr>
            <p:cNvPr id="54" name=""/>
            <p:cNvGrpSpPr/>
            <p:nvPr/>
          </p:nvGrpSpPr>
          <p:grpSpPr>
            <a:xfrm>
              <a:off x="0" y="4461840"/>
              <a:ext cx="9144000" cy="680040"/>
              <a:chOff x="0" y="4461840"/>
              <a:chExt cx="9144000" cy="680040"/>
            </a:xfrm>
          </p:grpSpPr>
          <p:pic>
            <p:nvPicPr>
              <p:cNvPr id="55" name="矩形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4461840"/>
                <a:ext cx="9144000" cy="68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5760" y="4467600"/>
                <a:ext cx="913212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" name="直接连接符 27" descr=""/>
            <p:cNvPicPr/>
            <p:nvPr/>
          </p:nvPicPr>
          <p:blipFill>
            <a:blip r:embed="rId11"/>
            <a:stretch/>
          </p:blipFill>
          <p:spPr>
            <a:xfrm>
              <a:off x="0" y="4456080"/>
              <a:ext cx="9144000" cy="2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9137520" y="-422280"/>
            <a:ext cx="519120" cy="428760"/>
            <a:chOff x="9137520" y="-422280"/>
            <a:chExt cx="519120" cy="428760"/>
          </a:xfrm>
        </p:grpSpPr>
        <p:pic>
          <p:nvPicPr>
            <p:cNvPr id="59" name="任意多边形 13" descr=""/>
            <p:cNvPicPr/>
            <p:nvPr/>
          </p:nvPicPr>
          <p:blipFill>
            <a:blip r:embed="rId12"/>
            <a:stretch/>
          </p:blipFill>
          <p:spPr>
            <a:xfrm>
              <a:off x="9137520" y="-422280"/>
              <a:ext cx="51912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9144000" y="-414360"/>
              <a:ext cx="506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645040" y="-512640"/>
            <a:ext cx="486360" cy="542880"/>
            <a:chOff x="8645040" y="-512640"/>
            <a:chExt cx="486360" cy="542880"/>
          </a:xfrm>
        </p:grpSpPr>
        <p:pic>
          <p:nvPicPr>
            <p:cNvPr id="62" name="任意多边形 14" descr=""/>
            <p:cNvPicPr/>
            <p:nvPr/>
          </p:nvPicPr>
          <p:blipFill>
            <a:blip r:embed="rId13"/>
            <a:stretch/>
          </p:blipFill>
          <p:spPr>
            <a:xfrm>
              <a:off x="8735760" y="-512640"/>
              <a:ext cx="3009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 rot="20682600">
              <a:off x="8692920" y="-449640"/>
              <a:ext cx="39024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9120240" y="83520"/>
            <a:ext cx="603360" cy="374040"/>
            <a:chOff x="9120240" y="83520"/>
            <a:chExt cx="603360" cy="374040"/>
          </a:xfrm>
        </p:grpSpPr>
        <p:pic>
          <p:nvPicPr>
            <p:cNvPr id="65" name="任意多边形 15" descr=""/>
            <p:cNvPicPr/>
            <p:nvPr/>
          </p:nvPicPr>
          <p:blipFill>
            <a:blip r:embed="rId14"/>
            <a:stretch/>
          </p:blipFill>
          <p:spPr>
            <a:xfrm>
              <a:off x="9120240" y="233280"/>
              <a:ext cx="603360" cy="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 rot="3271200">
              <a:off x="9320040" y="80640"/>
              <a:ext cx="18900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711920" y="-574560"/>
            <a:ext cx="517680" cy="433440"/>
            <a:chOff x="7711920" y="-574560"/>
            <a:chExt cx="517680" cy="433440"/>
          </a:xfrm>
        </p:grpSpPr>
        <p:pic>
          <p:nvPicPr>
            <p:cNvPr id="68" name="任意多边形 19" descr=""/>
            <p:cNvPicPr/>
            <p:nvPr/>
          </p:nvPicPr>
          <p:blipFill>
            <a:blip r:embed="rId15"/>
            <a:stretch/>
          </p:blipFill>
          <p:spPr>
            <a:xfrm>
              <a:off x="7711920" y="-574560"/>
              <a:ext cx="51768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7715160" y="-566640"/>
              <a:ext cx="5065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4572000" y="-423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814160" y="4443480"/>
            <a:ext cx="13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9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9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7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7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7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4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4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4.16667E-006 3.05273E-006 C -0.04774 0.06999 -0.23368 0.28739 -0.2868 0.41998 C -0.33993 0.55226 -0.29843 0.68393 -0.31892 0.79494 C -0.33941 0.90595 -0.39062 1.02528 -0.40954 1.08572 E">
                                      <p:cBhvr>
                                        <p:cTn id="37" dur="4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 repeatCount="indefinite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4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 repeatCount="indefinite">
                                  <p:stCondLst>
                                    <p:cond delay="250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-2.22222E-006 3.05273E-006 C -0.01684 0.08264 -0.03229 0.38174 -0.10069 0.49676 C -0.16909 0.61178 -0.3467 0.62257 -0.41041 0.68979 C -0.47413 0.75701 -0.46805 0.85661 -0.48333 0.9004 E">
                                      <p:cBhvr>
                                        <p:cTn id="44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 repeatCount="indefinite">
                                  <p:stCondLst>
                                    <p:cond delay="3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 repeatCount="indefinite">
                                  <p:stCondLst>
                                    <p:cond delay="3600"/>
                                  </p:stCondLst>
                                  <p:childTnLst>
                                    <p:animRot by="21600000">
                                      <p:cBhvr>
                                        <p:cTn id="49" dur="4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 repeatCount="indefinite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1.66667E-006 -5.98212E-007 C -0.03733 0.05735 -0.18698 0.23959 -0.22396 0.34443 C -0.26094 0.44928 -0.2382 0.51526 -0.22153 0.62966 C -0.20486 0.74406 -0.14427 0.94727 -0.12396 1.03084 E">
                                      <p:cBhvr>
                                        <p:cTn id="51" dur="47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 repeatCount="indefinite">
                                  <p:stCondLst>
                                    <p:cond delay="4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47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6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 repeatCount="indefinite">
                                  <p:stCondLst>
                                    <p:cond delay="4700"/>
                                  </p:stCondLst>
                                  <p:childTnLst>
                                    <p:animRot by="21600000">
                                      <p:cBhvr>
                                        <p:cTn id="56" dur="4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6" presetSubtype="32" repeatCount="indefinite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" dur="4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6" presetSubtype="32" repeatCount="indefinite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" dur="4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 repeatCount="indefinite">
                                  <p:stCondLst>
                                    <p:cond delay="7400"/>
                                  </p:stCondLst>
                                  <p:childTnLst>
                                    <p:animMotion origin="layout" path="M -4.16667E-006 -4.7271E-006 C -0.03541 0.04657 -0.17656 0.16035 -0.21215 0.27845 C -0.24774 0.39717 -0.23489 0.59143 -0.21336 0.71046 C -0.19184 0.82948 -0.10972 0.93463 -0.08246 0.99353 E">
                                      <p:cBhvr>
                                        <p:cTn id="64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 repeatCount="indefinite">
                                  <p:stCondLst>
                                    <p:cond delay="7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 repeatCount="indefinite">
                                  <p:stCondLst>
                                    <p:cond delay="740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9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94"/>
          <p:cNvSpPr/>
          <p:nvPr/>
        </p:nvSpPr>
        <p:spPr>
          <a:xfrm>
            <a:off x="1357200" y="114300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4d86"/>
                </a:solidFill>
                <a:latin typeface="微软雅黑"/>
                <a:ea typeface="微软雅黑"/>
              </a:rPr>
              <a:t>祝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357280" y="1800360"/>
            <a:ext cx="500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4d86"/>
                </a:solidFill>
                <a:latin typeface="微软雅黑"/>
                <a:ea typeface="微软雅黑"/>
              </a:rPr>
              <a:t>年年圆满如意，月月事事顺心，日日喜悦无忧，时时高兴欢喜，刻刻充满朝气，月圆人圆花好，事顺业顺家兴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6832080" y="37958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2060"/>
                </a:solidFill>
                <a:latin typeface="方正黄草简体"/>
                <a:ea typeface="方正黄草简体"/>
              </a:rPr>
              <a:t>谢谢观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64080" y="4803840"/>
            <a:ext cx="39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7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03:45:50Z</dcterms:created>
  <dc:creator/>
  <dc:description/>
  <dc:language>en-US</dc:language>
  <cp:lastModifiedBy>锐普PPT</cp:lastModifiedBy>
  <dcterms:modified xsi:type="dcterms:W3CDTF">2015-01-10T07:36:29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