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D2A-C99D-478C-9882-E25608F6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837-4193-440E-A224-4E4430E9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3CE-6181-4D48-897B-942DCEF0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A1E-D087-4400-999A-BB1AE26F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D3C5-34B5-400A-ADA8-296F9F90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F366-D8DE-407D-89DB-E41CA047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CB6C-5524-4800-AB8B-6532447B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1F90-50F6-416F-858C-6DB9EE9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EEAD-EFFA-4FB5-BE09-B72D4C3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146F-D7A7-444E-9165-0229B8BF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0F66-87B5-4DC2-A33B-54BBD49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BF3-F8F4-4365-842C-37946EE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9805-A012-4AD2-9103-A444248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8CFA-462E-4AD8-9617-6E4E17C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029C-2BBA-4D4B-83F6-DA4BD39A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1A42-0826-4C53-B76C-01BF2319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4DD-043C-4851-B52C-B1EC2A2D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81E-76B7-4FA1-A5B7-11AD62C9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C25-0815-4284-8608-3E9237E2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23E-D675-49D6-B84A-A8B823F6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860-9CE2-4338-9385-015C2CD2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999-7308-4FDD-9FA5-56AF400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A50-50BB-4167-A388-379D255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D2B-4150-4D89-B561-12F4A198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4AB7-EF4C-4FE6-8B5C-A8279D4DB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鱼不愚\桌面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E89-B323-41E8-9616-7197DC7CB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1360" y="5160600"/>
            <a:ext cx="70722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清新环保</a:t>
            </a: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PPT</a:t>
            </a: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模板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6" name=""/>
          <p:cNvSpPr/>
          <p:nvPr/>
        </p:nvSpPr>
        <p:spPr>
          <a:xfrm>
            <a:off x="7236360" y="6526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14840" y="774360"/>
            <a:ext cx="1928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汉仪秀英体简"/>
              </a:rPr>
              <a:t>目  录</a:t>
            </a:r>
            <a:endParaRPr b="0" lang="en-US" sz="44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8" name="圆角矩形 19"/>
          <p:cNvSpPr/>
          <p:nvPr/>
        </p:nvSpPr>
        <p:spPr>
          <a:xfrm>
            <a:off x="2571840" y="1906560"/>
            <a:ext cx="4929120" cy="741240"/>
          </a:xfrm>
          <a:prstGeom prst="roundRect">
            <a:avLst>
              <a:gd name="adj" fmla="val 20787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38183" dir="2700000" blurRad="0" rotWithShape="0">
              <a:srgbClr val="000000">
                <a:alpha val="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71800" y="1741320"/>
            <a:ext cx="1041120" cy="1116360"/>
            <a:chOff x="2071800" y="1741320"/>
            <a:chExt cx="1041120" cy="1116360"/>
          </a:xfrm>
        </p:grpSpPr>
        <p:pic>
          <p:nvPicPr>
            <p:cNvPr id="90" name="Picture 3" descr="C:\Documents and Settings\鱼不愚\桌面\000.png"/>
            <p:cNvPicPr/>
            <p:nvPr/>
          </p:nvPicPr>
          <p:blipFill>
            <a:blip r:embed="rId1"/>
            <a:stretch/>
          </p:blipFill>
          <p:spPr>
            <a:xfrm>
              <a:off x="2071800" y="1741320"/>
              <a:ext cx="100116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0"/>
            <p:cNvSpPr/>
            <p:nvPr/>
          </p:nvSpPr>
          <p:spPr>
            <a:xfrm>
              <a:off x="2184480" y="18651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21"/>
          <p:cNvSpPr/>
          <p:nvPr/>
        </p:nvSpPr>
        <p:spPr>
          <a:xfrm>
            <a:off x="3071880" y="2016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71800" y="3129120"/>
            <a:ext cx="5429160" cy="1116000"/>
            <a:chOff x="2071800" y="3129120"/>
            <a:chExt cx="5429160" cy="1116000"/>
          </a:xfrm>
        </p:grpSpPr>
        <p:grpSp>
          <p:nvGrpSpPr>
            <p:cNvPr id="94" name=""/>
            <p:cNvGrpSpPr/>
            <p:nvPr/>
          </p:nvGrpSpPr>
          <p:grpSpPr>
            <a:xfrm>
              <a:off x="2071800" y="3129120"/>
              <a:ext cx="5429160" cy="1116000"/>
              <a:chOff x="2071800" y="3129120"/>
              <a:chExt cx="5429160" cy="1116000"/>
            </a:xfrm>
          </p:grpSpPr>
          <p:sp>
            <p:nvSpPr>
              <p:cNvPr id="95" name="圆角矩形 26"/>
              <p:cNvSpPr/>
              <p:nvPr/>
            </p:nvSpPr>
            <p:spPr>
              <a:xfrm>
                <a:off x="2571840" y="3294000"/>
                <a:ext cx="4929120" cy="74124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2071800" y="3129120"/>
                <a:ext cx="1041120" cy="1116000"/>
                <a:chOff x="2071800" y="3129120"/>
                <a:chExt cx="1041120" cy="1116000"/>
              </a:xfrm>
            </p:grpSpPr>
            <p:pic>
              <p:nvPicPr>
                <p:cNvPr id="97" name="Picture 3" descr="C:\Documents and Settings\鱼不愚\桌面\000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71800" y="3129120"/>
                  <a:ext cx="1000800" cy="11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TextBox 29"/>
                <p:cNvSpPr/>
                <p:nvPr/>
              </p:nvSpPr>
              <p:spPr>
                <a:xfrm>
                  <a:off x="2184480" y="32529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0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" name="TextBox 25"/>
            <p:cNvSpPr/>
            <p:nvPr/>
          </p:nvSpPr>
          <p:spPr>
            <a:xfrm>
              <a:off x="3071880" y="34023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71800" y="4484520"/>
            <a:ext cx="5429160" cy="1116360"/>
            <a:chOff x="2071800" y="4484520"/>
            <a:chExt cx="5429160" cy="1116360"/>
          </a:xfrm>
        </p:grpSpPr>
        <p:grpSp>
          <p:nvGrpSpPr>
            <p:cNvPr id="101" name=""/>
            <p:cNvGrpSpPr/>
            <p:nvPr/>
          </p:nvGrpSpPr>
          <p:grpSpPr>
            <a:xfrm>
              <a:off x="2071800" y="4484520"/>
              <a:ext cx="5429160" cy="1116360"/>
              <a:chOff x="2071800" y="4484520"/>
              <a:chExt cx="5429160" cy="1116360"/>
            </a:xfrm>
          </p:grpSpPr>
          <p:sp>
            <p:nvSpPr>
              <p:cNvPr id="102" name="圆角矩形 33"/>
              <p:cNvSpPr/>
              <p:nvPr/>
            </p:nvSpPr>
            <p:spPr>
              <a:xfrm>
                <a:off x="2571840" y="4649400"/>
                <a:ext cx="4929120" cy="74160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2071800" y="4484520"/>
                <a:ext cx="1041120" cy="1116360"/>
                <a:chOff x="2071800" y="4484520"/>
                <a:chExt cx="1041120" cy="1116360"/>
              </a:xfrm>
            </p:grpSpPr>
            <p:pic>
              <p:nvPicPr>
                <p:cNvPr id="104" name="Picture 3" descr="C:\Documents and Settings\鱼不愚\桌面\000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71800" y="4484520"/>
                  <a:ext cx="1000800" cy="11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TextBox 36"/>
                <p:cNvSpPr/>
                <p:nvPr/>
              </p:nvSpPr>
              <p:spPr>
                <a:xfrm>
                  <a:off x="2184480" y="46083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微软雅黑"/>
                      <a:ea typeface="微软雅黑"/>
                    </a:rPr>
                    <a:t>0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" name="TextBox 32"/>
            <p:cNvSpPr/>
            <p:nvPr/>
          </p:nvSpPr>
          <p:spPr>
            <a:xfrm>
              <a:off x="3071880" y="47577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Documents and Settings\鱼不愚\桌面\001.png"/>
          <p:cNvPicPr/>
          <p:nvPr/>
        </p:nvPicPr>
        <p:blipFill>
          <a:blip r:embed="rId1"/>
          <a:stretch/>
        </p:blipFill>
        <p:spPr>
          <a:xfrm>
            <a:off x="841320" y="1657440"/>
            <a:ext cx="3121200" cy="5121360"/>
          </a:xfrm>
          <a:prstGeom prst="rect">
            <a:avLst/>
          </a:prstGeom>
          <a:ln w="0">
            <a:noFill/>
          </a:ln>
        </p:spPr>
      </p:pic>
      <p:pic>
        <p:nvPicPr>
          <p:cNvPr id="108" name="圆角矩形 38" descr=""/>
          <p:cNvPicPr/>
          <p:nvPr/>
        </p:nvPicPr>
        <p:blipFill>
          <a:blip r:embed="rId2"/>
          <a:stretch/>
        </p:blipFill>
        <p:spPr>
          <a:xfrm>
            <a:off x="4675320" y="1706400"/>
            <a:ext cx="3627360" cy="5462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0"/>
          <p:cNvSpPr/>
          <p:nvPr/>
        </p:nvSpPr>
        <p:spPr>
          <a:xfrm>
            <a:off x="4797360" y="285588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说明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2"/>
          <p:cNvSpPr/>
          <p:nvPr/>
        </p:nvSpPr>
        <p:spPr>
          <a:xfrm>
            <a:off x="297000" y="2855880"/>
            <a:ext cx="335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本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说明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2" name="燕尾形箭头 13"/>
          <p:cNvSpPr/>
          <p:nvPr/>
        </p:nvSpPr>
        <p:spPr>
          <a:xfrm>
            <a:off x="3341520" y="2928960"/>
            <a:ext cx="1143000" cy="57132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ccff33"/>
            </a:solidFill>
            <a:miter/>
          </a:ln>
          <a:effectLst>
            <a:outerShdw dist="23040" dir="54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分类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25400" y="1170000"/>
            <a:ext cx="7620120" cy="907920"/>
            <a:chOff x="725400" y="1170000"/>
            <a:chExt cx="7620120" cy="907920"/>
          </a:xfrm>
        </p:grpSpPr>
        <p:pic>
          <p:nvPicPr>
            <p:cNvPr id="115" name="圆角矩形 7" descr=""/>
            <p:cNvPicPr/>
            <p:nvPr/>
          </p:nvPicPr>
          <p:blipFill>
            <a:blip r:embed="rId1"/>
            <a:stretch/>
          </p:blipFill>
          <p:spPr>
            <a:xfrm>
              <a:off x="725400" y="1170000"/>
              <a:ext cx="76201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823680" y="1305000"/>
              <a:ext cx="742500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19"/>
          <p:cNvSpPr/>
          <p:nvPr/>
        </p:nvSpPr>
        <p:spPr>
          <a:xfrm>
            <a:off x="2892600" y="1447920"/>
            <a:ext cx="33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微软雅黑"/>
                <a:ea typeface="微软雅黑"/>
              </a:rPr>
              <a:t>文 本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560" y="1955160"/>
            <a:ext cx="3357360" cy="3810600"/>
            <a:chOff x="25560" y="1955160"/>
            <a:chExt cx="3357360" cy="3810600"/>
          </a:xfrm>
        </p:grpSpPr>
        <p:pic>
          <p:nvPicPr>
            <p:cNvPr id="119" name="Picture 2" descr="C:\Documents and Settings\鱼不愚\桌面\Nature cards [转换].png"/>
            <p:cNvPicPr/>
            <p:nvPr/>
          </p:nvPicPr>
          <p:blipFill>
            <a:blip r:embed="rId2"/>
            <a:stretch/>
          </p:blipFill>
          <p:spPr>
            <a:xfrm rot="6198000">
              <a:off x="205200" y="2874240"/>
              <a:ext cx="2997360" cy="140148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0" name="圆角矩形 8"/>
            <p:cNvSpPr/>
            <p:nvPr/>
          </p:nvSpPr>
          <p:spPr>
            <a:xfrm>
              <a:off x="919080" y="5051520"/>
              <a:ext cx="157140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0"/>
            <p:cNvSpPr/>
            <p:nvPr/>
          </p:nvSpPr>
          <p:spPr>
            <a:xfrm>
              <a:off x="25560" y="5202360"/>
              <a:ext cx="33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862600" y="1955520"/>
            <a:ext cx="3357720" cy="3810240"/>
            <a:chOff x="5862600" y="1955520"/>
            <a:chExt cx="3357720" cy="3810240"/>
          </a:xfrm>
        </p:grpSpPr>
        <p:pic>
          <p:nvPicPr>
            <p:cNvPr id="123" name="Picture 2" descr="C:\Documents and Settings\鱼不愚\桌面\Nature cards [转换].png"/>
            <p:cNvPicPr/>
            <p:nvPr/>
          </p:nvPicPr>
          <p:blipFill>
            <a:blip r:embed="rId3"/>
            <a:stretch/>
          </p:blipFill>
          <p:spPr>
            <a:xfrm rot="6198000">
              <a:off x="604224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4" name="圆角矩形 24"/>
            <p:cNvSpPr/>
            <p:nvPr/>
          </p:nvSpPr>
          <p:spPr>
            <a:xfrm>
              <a:off x="675648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5"/>
            <p:cNvSpPr/>
            <p:nvPr/>
          </p:nvSpPr>
          <p:spPr>
            <a:xfrm>
              <a:off x="586260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936880" y="1955520"/>
            <a:ext cx="3357720" cy="3810240"/>
            <a:chOff x="2936880" y="1955520"/>
            <a:chExt cx="3357720" cy="3810240"/>
          </a:xfrm>
        </p:grpSpPr>
        <p:pic>
          <p:nvPicPr>
            <p:cNvPr id="127" name="Picture 2" descr="C:\Documents and Settings\鱼不愚\桌面\Nature cards [转换].png"/>
            <p:cNvPicPr/>
            <p:nvPr/>
          </p:nvPicPr>
          <p:blipFill>
            <a:blip r:embed="rId4"/>
            <a:stretch/>
          </p:blipFill>
          <p:spPr>
            <a:xfrm rot="6198000">
              <a:off x="3116520" y="2874240"/>
              <a:ext cx="2997360" cy="14018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128" name="圆角矩形 28"/>
            <p:cNvSpPr/>
            <p:nvPr/>
          </p:nvSpPr>
          <p:spPr>
            <a:xfrm>
              <a:off x="3830760" y="5051520"/>
              <a:ext cx="1571760" cy="714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9900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9"/>
            <p:cNvSpPr/>
            <p:nvPr/>
          </p:nvSpPr>
          <p:spPr>
            <a:xfrm>
              <a:off x="2936880" y="5202360"/>
              <a:ext cx="33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0800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循环关系图表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pic>
        <p:nvPicPr>
          <p:cNvPr id="132" name="组合 8" descr=""/>
          <p:cNvPicPr/>
          <p:nvPr/>
        </p:nvPicPr>
        <p:blipFill>
          <a:blip r:embed="rId1"/>
          <a:stretch/>
        </p:blipFill>
        <p:spPr>
          <a:xfrm>
            <a:off x="2120760" y="1395360"/>
            <a:ext cx="499932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标题 1"/>
          <p:cNvSpPr/>
          <p:nvPr/>
        </p:nvSpPr>
        <p:spPr>
          <a:xfrm>
            <a:off x="785880" y="5302080"/>
            <a:ext cx="77724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6600"/>
                </a:solidFill>
                <a:latin typeface="微软雅黑"/>
                <a:ea typeface="微软雅黑"/>
              </a:rPr>
              <a:t>THANK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汉仪秀英体简"/>
              </a:rPr>
              <a:t>使用规范说明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1:28:12Z</dcterms:created>
  <dc:creator/>
  <dc:description/>
  <dc:language>en-US</dc:language>
  <cp:lastModifiedBy>guoyan</cp:lastModifiedBy>
  <dcterms:modified xsi:type="dcterms:W3CDTF">2015-01-10T08:18:54Z</dcterms:modified>
  <cp:revision>3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