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1FE2-D315-4413-A9AD-87E1326E9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05FF-EBA8-4A7E-A731-29FCF7006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EE07-B591-4E23-B5F3-4B1799B11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1B1D-A7EB-4992-92C3-332C97226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D78E-D913-4DE6-A3C6-0A08F2A01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2A4A-C6FF-4F7C-B2DE-EE63A5BB7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0578-97CA-41DF-877C-14F27F3B7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8C2C-EDF9-447B-9AF5-556B1655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AF82-34CB-4280-8149-9D532E017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5539-1521-4F22-9D22-F617FEB8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2ECB-06E6-4642-8FF2-32977778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8280-0B29-4018-BCDB-C54DED19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5D24F-DF26-4EBA-8FAD-BC1A8003C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71280"/>
            <a:ext cx="9296280" cy="6967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0574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162920" y="6400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147600" y="0"/>
            <a:ext cx="9291600" cy="6972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819520" y="1828800"/>
            <a:ext cx="4435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19520" y="2743200"/>
            <a:ext cx="42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19520" y="373392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828800"/>
            <a:ext cx="42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70102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647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162920" y="6400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22640" y="6248520"/>
            <a:ext cx="44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更多免费</a:t>
            </a:r>
            <a:r>
              <a:rPr b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1T07:21:01Z</dcterms:created>
  <dc:creator/>
  <dc:description/>
  <dc:language>en-US</dc:language>
  <cp:lastModifiedBy>sjzri</cp:lastModifiedBy>
  <dcterms:modified xsi:type="dcterms:W3CDTF">2015-01-11T12:11:1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Version">
    <vt:r8>1</vt:r8>
  </property>
</Properties>
</file>