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3A1-0DD8-41A2-BE32-EC59EB82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96E-0112-494D-BEA4-1F3639C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62C-6CB1-4F94-8F30-7B5F62C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792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3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548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792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3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01A-A851-4A6F-8EF2-9BBD60C7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5880" y="14292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74F-366C-4187-8C0F-2711E07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3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548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3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B20-A7DB-4C87-B4E0-F7890097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A17-57C9-45F2-934A-B2B24DD9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6BD-C773-4995-A331-43BDAC0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5880" y="14292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885-1738-410F-A1E5-F364BD8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DE7-671F-40C8-836C-04EE96B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3DD-32AC-4CED-8EED-0549934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CEC-829C-436F-90C1-7F54315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24446" r="0" b="37780"/>
          <a:stretch/>
        </p:blipFill>
        <p:spPr>
          <a:xfrm>
            <a:off x="9360" y="107316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DCE186CD-AA73-4956-8B4D-9331D6AB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91440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 flipV="1">
            <a:off x="0" y="909720"/>
            <a:ext cx="9151920" cy="2768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0" y="999360"/>
            <a:ext cx="9142560" cy="267804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5960" y="524628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524628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剪影商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6063840"/>
            <a:ext cx="6400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9920" y="64404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2400" spc="-1" strike="sng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3680"/>
            <a:ext cx="9144000" cy="1251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4720" y="37944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9600" y="1196640"/>
            <a:ext cx="6400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400" spc="-1" strike="sng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4:51:00Z</dcterms:created>
  <dc:creator/>
  <dc:description/>
  <dc:language>en-US</dc:language>
  <cp:lastModifiedBy>chinakui</cp:lastModifiedBy>
  <dcterms:modified xsi:type="dcterms:W3CDTF">2015-01-10T09:11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300088049990</vt:lpwstr>
  </property>
</Properties>
</file>