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7120" y="28584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57120" y="28584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c3a5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4941720"/>
            <a:ext cx="77724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914400" algn="ctr">
              <a:spcBef>
                <a:spcPts val="601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371600" algn="ctr">
              <a:spcBef>
                <a:spcPts val="400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4" marL="1828800" algn="ctr">
              <a:spcBef>
                <a:spcPts val="400"/>
              </a:spcBef>
              <a:buClr>
                <a:srgbClr val="1c3a58"/>
              </a:buClr>
              <a:buSzPct val="8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"/>
          <p:cNvSpPr/>
          <p:nvPr/>
        </p:nvSpPr>
        <p:spPr>
          <a:xfrm>
            <a:off x="5500800" y="5711760"/>
            <a:ext cx="2768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2714760" y="535788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2:29:05Z</dcterms:created>
  <dc:creator/>
  <dc:description/>
  <dc:language>en-US</dc:language>
  <cp:lastModifiedBy>dell</cp:lastModifiedBy>
  <dcterms:modified xsi:type="dcterms:W3CDTF">2015-01-10T11:35:27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