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6F8-113F-4D54-83D9-3AC71BD0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6FF-C9D6-4DAE-A907-F92272C9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9EF-2CD7-4141-B47A-ABF027C3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6BD-B803-42F9-97C9-F0CFE200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CAF3-ACFB-4AB9-BED5-739D14C3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4525-1A61-4D4E-94AD-0CD80DA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3FB-E7CB-41E9-ABFB-D53846E9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F632-C00B-4B0E-AE91-7DBFED3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273B-0166-49C4-82D9-F3132329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B89-66E0-4D84-9537-38C707C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D8CF-34CC-4F50-A430-CDC4249B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268-3357-4BDC-9137-D502D56C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7CD0-0297-4AF1-92D0-FC2A095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D4FD-8EAD-44F6-B48D-3DD7AF9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2A66-2AD1-4FE9-9EF1-29BA6357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C64F-84D2-48C0-9749-3BBB2310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F113-8BB3-4215-914F-A3E3CB3A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9A60-87E2-416B-AB9F-18F2B9B4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7E17-C1FC-4EF8-8919-948F612A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8FEF-34C1-421D-9787-97EED11D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D5A9D-8E5C-47A0-95BD-A742D61F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ACF6-6C59-4894-815B-81C58DA8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F10-9076-436F-8342-3C3871A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4345-D9AB-46DD-9482-7B6A7DEF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034D-BB9B-4556-ACC7-8F5BC099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222F-AF75-4A0E-A412-5036404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71E4-AC5F-4755-958D-BEB6BECB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D595-9FE5-4B8A-BDD8-CEBC0444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1CC7-AF31-46D0-852E-CCA285E7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2715-805B-4C76-B1D5-2ECEE92C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5E5F-FDD4-4A20-BCFB-75EA2A74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44EA-3DBB-4F51-A216-3A8F9E24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E6F1-46F2-4679-9E95-6C980663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89F-E5B7-4EAD-B80D-2F5D0DB6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C938-54D2-439E-BFC0-0CBA95B8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7D55-DB31-4BD1-BBA6-E97D586A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D09A-8D86-472C-A509-AD0500D0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DE2B-B177-441F-AD42-181A5F3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9369-DB2F-4EBE-8A74-78F68676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B3CC-3771-4325-8DC6-841F085A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C81F9-861E-4177-8F61-4FA93F63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D922-B550-45E9-91CD-56A4D688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6FF3-7EB6-4365-AFAB-F336D476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2A66-DCFF-4B58-A7FD-725FDD1B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FB9-82D4-4538-B754-CF3E226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02D9-ED31-45EF-8E58-79B3D12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594F-09EF-4C27-A5E7-668356F5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3B5F7-7761-4F75-A0D0-47C525F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7CE1E-5881-46D0-9921-BBB5FF5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4D670-3463-4527-8B74-6E67A1CD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FAE6-2483-4C9B-8A96-4146CB8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799C0-213C-47FB-8176-6265D1D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FEF9-D577-46ED-A076-0AD981B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EFDCB-511E-429C-AA7B-1335D83B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4C19D-A301-464D-B7D8-070CC395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448-CDAA-4ECF-8B7C-61FBC64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05A0-ABE7-461B-933C-5BC852B0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CBD-EA42-4ABB-A9DA-7EF5264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E6B-7569-40CD-9EB8-84BD758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1F0-8C4F-499D-B629-590266A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BDE-FD40-4216-8D4F-5674B0C75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0EC4-500F-46D6-8C80-EC51957B7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3606-6116-42A5-B1A5-1C80C3FE1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C1BA-1F2E-4149-91C7-D9CD299F5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11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11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11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515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140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5151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E4B9-A57C-43BD-AFBA-171B58D2B365}" type="slidenum">
              <a:rPr b="0" lang="en-US" sz="1400" spc="-1" strike="noStrike">
                <a:solidFill>
                  <a:srgbClr val="1515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987480" y="5267160"/>
            <a:ext cx="7172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1515"/>
                </a:solidFill>
                <a:latin typeface="Arial"/>
                <a:ea typeface="宋体"/>
              </a:rPr>
              <a:t>书本书页</a:t>
            </a:r>
            <a:r>
              <a:rPr b="1" lang="zh-CN" sz="4800" spc="-1" strike="noStrike">
                <a:solidFill>
                  <a:srgbClr val="151515"/>
                </a:solidFill>
                <a:latin typeface="Arial"/>
                <a:ea typeface="宋体"/>
              </a:rPr>
              <a:t>PPT</a:t>
            </a:r>
            <a:r>
              <a:rPr b="1" lang="zh-CN" sz="4800" spc="-1" strike="noStrike">
                <a:solidFill>
                  <a:srgbClr val="151515"/>
                </a:solidFill>
                <a:latin typeface="Arial"/>
                <a:ea typeface="宋体"/>
              </a:rPr>
              <a:t>模板</a:t>
            </a:r>
            <a:endParaRPr b="0" lang="en-US" sz="48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8448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5151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5151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标题</a:t>
            </a:r>
            <a:endParaRPr b="1" lang="en-US" sz="40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464000" y="1600200"/>
            <a:ext cx="42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内容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87160" y="271080"/>
            <a:ext cx="811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标题</a:t>
            </a:r>
            <a:endParaRPr b="1" lang="en-US" sz="40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149440" y="1600200"/>
            <a:ext cx="353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内容</a:t>
            </a:r>
            <a:endParaRPr b="0" lang="en-US" sz="2400" spc="-1" strike="noStrike">
              <a:solidFill>
                <a:srgbClr val="21140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15960" y="1301760"/>
            <a:ext cx="80168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内容</a:t>
            </a:r>
            <a:endParaRPr b="0" lang="en-US" sz="24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84480" y="6195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5151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5151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5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4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标题</a:t>
            </a:r>
            <a:endParaRPr b="1" lang="en-US" sz="40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69960" y="2874960"/>
            <a:ext cx="801684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51515"/>
                </a:solidFill>
                <a:latin typeface="Arial"/>
                <a:ea typeface="宋体"/>
              </a:rPr>
              <a:t>单击此处添加内容</a:t>
            </a:r>
            <a:endParaRPr b="0" lang="en-US" sz="2400" spc="-1" strike="noStrike">
              <a:solidFill>
                <a:srgbClr val="15151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1515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140c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51515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51515"/>
              </a:solidFill>
              <a:latin typeface="Arial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Owner</cp:lastModifiedBy>
  <dcterms:modified xsi:type="dcterms:W3CDTF">2015-01-10T09:17:53Z</dcterms:modified>
  <cp:revision>80</cp:revision>
  <dc:subject/>
  <dc:title>Old Book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