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2.jpeg" ContentType="image/jpeg"/>
  <Override PartName="/ppt/media/image9.jpeg" ContentType="image/jpeg"/>
  <Override PartName="/ppt/media/image3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3.png" ContentType="image/png"/>
  <Override PartName="/ppt/media/image34.png" ContentType="image/png"/>
  <Override PartName="/ppt/media/image44.jpeg" ContentType="image/jpeg"/>
  <Override PartName="/ppt/media/image35.png" ContentType="image/png"/>
  <Override PartName="/ppt/media/image26.jpeg" ContentType="image/jpe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jpeg" ContentType="image/jpeg"/>
  <Override PartName="/ppt/media/image11.wmf" ContentType="image/x-wmf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083-ECC1-4AFC-B9CB-A95EE0A0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E76-AEDA-4F93-847F-92F2E1C1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BD0-61B7-4428-887A-0C476802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14A-5609-470B-8E99-6624BCF2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EFC5-7245-49ED-BCB7-C2EA820A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1573-CA2F-482B-9CAC-E41610F5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4A74-481D-42F6-AF7A-D260239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3215-443B-43D5-8E95-CFF63845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0E24-1F45-44B2-8703-0EA0EF7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3640" y="558360"/>
            <a:ext cx="550836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2B5-0904-4C3C-8A71-204481E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334-689C-42ED-84D8-2B22D42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2D3-9F8A-4B70-A26B-CF379EE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DA48-8E78-4450-B669-C2D1EEB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86AA-B044-4334-9BE1-E9777EB8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B184-9175-48BE-BC66-CE6A176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7686-D3D2-4B52-A410-61BCBA2E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68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136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2400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68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136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88B-9D4F-4BAA-93FA-CA9766F2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39B-F69C-4873-80CE-FF62169E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8E6-1D39-41A6-A7E4-5F4B233B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83B-230E-4EA8-9514-82D437D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558360"/>
            <a:ext cx="550836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277-4266-4996-89B7-B1987390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129-852B-46B9-BE47-FE7CAC5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723-5EDA-4524-B7CA-D830DC6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200-6E88-496C-96E5-1FE79B5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3D-graphics_Grafity_colors_005117_"/>
          <p:cNvPicPr/>
          <p:nvPr/>
        </p:nvPicPr>
        <p:blipFill>
          <a:blip r:embed="rId2"/>
          <a:srcRect l="17975" t="15013" r="21350" b="14594"/>
          <a:stretch/>
        </p:blipFill>
        <p:spPr>
          <a:xfrm>
            <a:off x="8172360" y="61920"/>
            <a:ext cx="97164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1"/>
          <p:cNvSpPr/>
          <p:nvPr/>
        </p:nvSpPr>
        <p:spPr>
          <a:xfrm flipH="1">
            <a:off x="8423280" y="6137280"/>
            <a:ext cx="720720" cy="720720"/>
          </a:xfrm>
          <a:prstGeom prst="rtTriangl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2600">
            <a:solidFill>
              <a:srgbClr val="5aa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549360"/>
            <a:ext cx="3490920" cy="79200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Click to edit the title text format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文泉驿微米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710-FAE5-4D27-87DE-BCC0A1A4FB10}" type="datetime"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文泉驿微米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749-E389-4E6C-8436-62BE8E521F6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2"/>
          <p:cNvSpPr/>
          <p:nvPr/>
        </p:nvSpPr>
        <p:spPr>
          <a:xfrm>
            <a:off x="0" y="582480"/>
            <a:ext cx="3492360" cy="792360"/>
          </a:xfrm>
          <a:custGeom>
            <a:avLst/>
            <a:gdLst>
              <a:gd name="textAreaLeft" fmla="*/ 0 w 3492360"/>
              <a:gd name="textAreaRight" fmla="*/ 3492720 w 3492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3" y="0"/>
                </a:lnTo>
                <a:lnTo>
                  <a:pt x="21600" y="10800"/>
                </a:lnTo>
                <a:lnTo>
                  <a:pt x="203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0" y="582480"/>
            <a:ext cx="3273480" cy="792360"/>
          </a:xfrm>
          <a:custGeom>
            <a:avLst/>
            <a:gdLst>
              <a:gd name="textAreaLeft" fmla="*/ 0 w 3273480"/>
              <a:gd name="textAreaRight" fmla="*/ 3273840 w 32734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16" y="0"/>
                </a:lnTo>
                <a:lnTo>
                  <a:pt x="21600" y="10800"/>
                </a:lnTo>
                <a:lnTo>
                  <a:pt x="204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" name="AutoShape 16"/>
          <p:cNvSpPr/>
          <p:nvPr/>
        </p:nvSpPr>
        <p:spPr>
          <a:xfrm rot="10800000">
            <a:off x="3635280" y="980280"/>
            <a:ext cx="5508720" cy="792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0" y="0"/>
                </a:lnTo>
                <a:lnTo>
                  <a:pt x="21600" y="10800"/>
                </a:lnTo>
                <a:lnTo>
                  <a:pt x="208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" name="AutoShape 17"/>
          <p:cNvSpPr/>
          <p:nvPr/>
        </p:nvSpPr>
        <p:spPr>
          <a:xfrm rot="10800000">
            <a:off x="3839760" y="980280"/>
            <a:ext cx="5303880" cy="792360"/>
          </a:xfrm>
          <a:custGeom>
            <a:avLst/>
            <a:gdLst>
              <a:gd name="textAreaLeft" fmla="*/ 0 w 5303880"/>
              <a:gd name="textAreaRight" fmla="*/ 5304240 w 53038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5" y="0"/>
                </a:lnTo>
                <a:lnTo>
                  <a:pt x="21600" y="10800"/>
                </a:lnTo>
                <a:lnTo>
                  <a:pt x="209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" name="AutoShape 2"/>
          <p:cNvSpPr/>
          <p:nvPr/>
        </p:nvSpPr>
        <p:spPr>
          <a:xfrm flipH="1">
            <a:off x="8423280" y="6137280"/>
            <a:ext cx="720720" cy="720720"/>
          </a:xfrm>
          <a:prstGeom prst="rtTriangl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" name="Oval 8"/>
          <p:cNvSpPr/>
          <p:nvPr/>
        </p:nvSpPr>
        <p:spPr>
          <a:xfrm>
            <a:off x="8317080" y="260280"/>
            <a:ext cx="50472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1" name="Picture 11" descr="3D-graphics_Grafity_colors_005117_"/>
          <p:cNvPicPr/>
          <p:nvPr/>
        </p:nvPicPr>
        <p:blipFill>
          <a:blip r:embed="rId2"/>
          <a:srcRect l="17975" t="15013" r="21350" b="14594"/>
          <a:stretch/>
        </p:blipFill>
        <p:spPr>
          <a:xfrm>
            <a:off x="8172360" y="135000"/>
            <a:ext cx="971640" cy="846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BE8-BEA5-40D6-8FCF-ADBC41597493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Click to edit the title text format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文泉驿微米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6EA6-9BB6-4EC2-9A38-7B35E491E80D}" type="datetime"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文泉驿微米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EA40-60E4-4F01-9166-4048579911A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54A3-54E2-439C-B264-E2AECE92396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96" name="Picture 11" descr="3D-graphics_Grafity_colors_005117_"/>
          <p:cNvPicPr/>
          <p:nvPr/>
        </p:nvPicPr>
        <p:blipFill>
          <a:blip r:embed="rId1"/>
          <a:srcRect l="18418" t="10520" r="21931" b="13911"/>
          <a:stretch/>
        </p:blipFill>
        <p:spPr>
          <a:xfrm>
            <a:off x="4140360" y="2492280"/>
            <a:ext cx="4321080" cy="4105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431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900" spc="-1" strike="noStrike">
                <a:solidFill>
                  <a:srgbClr val="c62400"/>
                </a:solidFill>
                <a:latin typeface="方正综艺简体"/>
                <a:ea typeface="方正综艺简体"/>
              </a:rPr>
              <a:t>色 彩 调 和</a:t>
            </a:r>
            <a:endParaRPr b="1" lang="en-US" sz="69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34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a0c4"/>
                </a:solidFill>
                <a:latin typeface="方正综艺简体"/>
                <a:ea typeface="方正综艺简体"/>
              </a:rPr>
              <a:t>配 色 的 基 本 技 巧</a:t>
            </a:r>
            <a:endParaRPr b="0" lang="en-US" sz="3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14280" y="1844640"/>
            <a:ext cx="4105440" cy="0"/>
          </a:xfrm>
          <a:prstGeom prst="line">
            <a:avLst/>
          </a:prstGeom>
          <a:ln w="1908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0" name=""/>
          <p:cNvSpPr/>
          <p:nvPr/>
        </p:nvSpPr>
        <p:spPr>
          <a:xfrm>
            <a:off x="71946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文泉驿微米黑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3C0-F115-4C9A-91D0-E78B7DD4E39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4" name="Rectangle 13"/>
          <p:cNvSpPr/>
          <p:nvPr/>
        </p:nvSpPr>
        <p:spPr>
          <a:xfrm rot="21333000">
            <a:off x="4733640" y="3573000"/>
            <a:ext cx="3654360" cy="6336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5" name="Rectangle 14"/>
          <p:cNvSpPr/>
          <p:nvPr/>
        </p:nvSpPr>
        <p:spPr>
          <a:xfrm rot="21333000">
            <a:off x="4733640" y="4797000"/>
            <a:ext cx="3654360" cy="6336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57636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12</a:t>
            </a: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51280" cy="3851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5"/>
          <p:cNvSpPr/>
          <p:nvPr/>
        </p:nvSpPr>
        <p:spPr>
          <a:xfrm>
            <a:off x="4356000" y="1773360"/>
            <a:ext cx="4321440" cy="388764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9" name="Rectangle 7"/>
          <p:cNvSpPr/>
          <p:nvPr/>
        </p:nvSpPr>
        <p:spPr>
          <a:xfrm rot="21333000">
            <a:off x="4733640" y="2276280"/>
            <a:ext cx="365436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572000" y="2060640"/>
            <a:ext cx="3887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由</a:t>
            </a:r>
            <a:r>
              <a:rPr b="1" lang="en-US" sz="3600" spc="-1" strike="noStrike">
                <a:solidFill>
                  <a:srgbClr val="c62400"/>
                </a:solidFill>
                <a:latin typeface="文泉驿微米黑"/>
              </a:rPr>
              <a:t>12</a:t>
            </a:r>
            <a:r>
              <a:rPr b="1" lang="zh-CN" sz="3600" spc="-1" strike="noStrike">
                <a:solidFill>
                  <a:srgbClr val="c62400"/>
                </a:solidFill>
                <a:latin typeface="文泉驿微米黑"/>
              </a:rPr>
              <a:t>种</a:t>
            </a: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颜色组成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72000" y="3357720"/>
            <a:ext cx="3887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最简单、最常见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572000" y="4653000"/>
            <a:ext cx="3887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配色从</a:t>
            </a:r>
            <a:r>
              <a:rPr b="0" lang="en-US" sz="3600" spc="-1" strike="noStrike">
                <a:solidFill>
                  <a:srgbClr val="0064b5"/>
                </a:solidFill>
                <a:latin typeface="文泉驿微米黑"/>
              </a:rPr>
              <a:t>12</a:t>
            </a: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色轮开始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3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7D06-770F-40C8-99FA-6963CBD0EB9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32000" y="4005360"/>
            <a:ext cx="4968720" cy="901080"/>
            <a:chOff x="3132000" y="4005360"/>
            <a:chExt cx="4968720" cy="901080"/>
          </a:xfrm>
        </p:grpSpPr>
        <p:sp>
          <p:nvSpPr>
            <p:cNvPr id="218" name="Rectangle 34"/>
            <p:cNvSpPr/>
            <p:nvPr/>
          </p:nvSpPr>
          <p:spPr>
            <a:xfrm rot="21333000">
              <a:off x="3398400" y="4221000"/>
              <a:ext cx="4667040" cy="5047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219" name="Rectangle 35"/>
            <p:cNvSpPr/>
            <p:nvPr/>
          </p:nvSpPr>
          <p:spPr>
            <a:xfrm>
              <a:off x="3132000" y="4005360"/>
              <a:ext cx="4968720" cy="720720"/>
            </a:xfrm>
            <a:prstGeom prst="rect">
              <a:avLst/>
            </a:prstGeom>
            <a:solidFill>
              <a:srgbClr val="cf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132000" y="2060640"/>
            <a:ext cx="4968720" cy="901080"/>
            <a:chOff x="3132000" y="2060640"/>
            <a:chExt cx="4968720" cy="901080"/>
          </a:xfrm>
        </p:grpSpPr>
        <p:sp>
          <p:nvSpPr>
            <p:cNvPr id="221" name="Rectangle 30"/>
            <p:cNvSpPr/>
            <p:nvPr/>
          </p:nvSpPr>
          <p:spPr>
            <a:xfrm rot="21333000">
              <a:off x="3398400" y="2276280"/>
              <a:ext cx="4667040" cy="5047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222" name="Rectangle 31"/>
            <p:cNvSpPr/>
            <p:nvPr/>
          </p:nvSpPr>
          <p:spPr>
            <a:xfrm>
              <a:off x="3132000" y="2060640"/>
              <a:ext cx="4968720" cy="720720"/>
            </a:xfrm>
            <a:prstGeom prst="rect">
              <a:avLst/>
            </a:prstGeom>
            <a:solidFill>
              <a:srgbClr val="cf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558360"/>
            <a:ext cx="3492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调和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68360" y="1700280"/>
            <a:ext cx="8280360" cy="460836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435640" y="1341360"/>
            <a:ext cx="2881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文泉驿微米黑"/>
              </a:rPr>
              <a:t>两个基本概念</a:t>
            </a:r>
            <a:endParaRPr b="0" lang="en-US" sz="35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132000" y="2060640"/>
            <a:ext cx="4824720" cy="1439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色系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color scheme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若干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≥2)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颜色的搭配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3132000" y="4653000"/>
            <a:ext cx="4896000" cy="936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color harmony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视觉效果令人愉悦的色系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（</a:t>
            </a:r>
            <a:r>
              <a:rPr b="0" lang="en-US" sz="2600" spc="-1" strike="noStrike">
                <a:solidFill>
                  <a:srgbClr val="0683ea"/>
                </a:solidFill>
                <a:latin typeface="文泉驿微米黑"/>
              </a:rPr>
              <a:t>Part 6</a:t>
            </a:r>
            <a:r>
              <a:rPr b="0" lang="zh-CN" sz="2600" spc="-1" strike="noStrike">
                <a:solidFill>
                  <a:srgbClr val="0683ea"/>
                </a:solidFill>
                <a:latin typeface="文泉驿微米黑"/>
              </a:rPr>
              <a:t>重点讲解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1185840" y="2205000"/>
            <a:ext cx="1152720" cy="115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1690560" y="2205000"/>
            <a:ext cx="1152720" cy="1152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0" name="Oval 23"/>
          <p:cNvSpPr/>
          <p:nvPr/>
        </p:nvSpPr>
        <p:spPr>
          <a:xfrm>
            <a:off x="1042920" y="4581360"/>
            <a:ext cx="1152720" cy="1152720"/>
          </a:xfrm>
          <a:prstGeom prst="ellipse">
            <a:avLst/>
          </a:prstGeom>
          <a:solidFill>
            <a:srgbClr val="ff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1547640" y="4581360"/>
            <a:ext cx="1152720" cy="1152720"/>
          </a:xfrm>
          <a:prstGeom prst="ellipse">
            <a:avLst/>
          </a:prstGeom>
          <a:solidFill>
            <a:srgbClr val="0f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2" name="Oval 25"/>
          <p:cNvSpPr/>
          <p:nvPr/>
        </p:nvSpPr>
        <p:spPr>
          <a:xfrm>
            <a:off x="1979640" y="4581360"/>
            <a:ext cx="1152360" cy="1152720"/>
          </a:xfrm>
          <a:prstGeom prst="ellipse">
            <a:avLst/>
          </a:prstGeom>
          <a:solidFill>
            <a:srgbClr val="63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3" name="Line 26"/>
          <p:cNvSpPr/>
          <p:nvPr/>
        </p:nvSpPr>
        <p:spPr>
          <a:xfrm>
            <a:off x="755640" y="3789360"/>
            <a:ext cx="7488360" cy="0"/>
          </a:xfrm>
          <a:prstGeom prst="line">
            <a:avLst/>
          </a:prstGeom>
          <a:ln w="38160">
            <a:solidFill>
              <a:srgbClr val="0085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4" name="Oval 36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5" name="Oval 37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6" name="Oval 38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97A1-A8FD-489B-B746-42363B8904C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239" name="Picture 1029" descr=""/>
          <p:cNvPicPr/>
          <p:nvPr/>
        </p:nvPicPr>
        <p:blipFill>
          <a:blip r:embed="rId1"/>
          <a:stretch/>
        </p:blipFill>
        <p:spPr>
          <a:xfrm>
            <a:off x="0" y="2700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利用色轮，构造色彩调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彩调和，给人美的感受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243" name="Picture 10" descr="图片2"/>
          <p:cNvPicPr/>
          <p:nvPr/>
        </p:nvPicPr>
        <p:blipFill>
          <a:blip r:embed="rId2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6C3A-1141-4A24-A442-B5D74179B27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3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24000" y="932040"/>
            <a:ext cx="5111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原色 二次色 三次色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7" name="AutoShape 25"/>
          <p:cNvSpPr/>
          <p:nvPr/>
        </p:nvSpPr>
        <p:spPr>
          <a:xfrm>
            <a:off x="392436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三次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二次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原　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25FD-BFA5-4070-B8D8-089FD262174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684360" y="2492280"/>
            <a:ext cx="792000" cy="792360"/>
          </a:xfrm>
          <a:prstGeom prst="ellipse">
            <a:avLst/>
          </a:prstGeom>
          <a:solidFill>
            <a:srgbClr val="ea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684360" y="3573360"/>
            <a:ext cx="792000" cy="79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2" name="Oval 8"/>
          <p:cNvSpPr/>
          <p:nvPr/>
        </p:nvSpPr>
        <p:spPr>
          <a:xfrm>
            <a:off x="684360" y="4653000"/>
            <a:ext cx="792000" cy="792000"/>
          </a:xfrm>
          <a:prstGeom prst="ellipse">
            <a:avLst/>
          </a:prstGeom>
          <a:solidFill>
            <a:srgbClr val="00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395280" y="1916280"/>
            <a:ext cx="3889440" cy="367344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12720" y="1555920"/>
            <a:ext cx="2808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三种原色：红黄蓝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620720" y="2205000"/>
            <a:ext cx="20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红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red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黄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yellow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蓝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blue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6" name="Rectangle 16"/>
          <p:cNvSpPr/>
          <p:nvPr/>
        </p:nvSpPr>
        <p:spPr>
          <a:xfrm rot="21333000">
            <a:off x="5292360" y="2060280"/>
            <a:ext cx="342252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078520" y="1905120"/>
            <a:ext cx="3671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最基本的颜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8" name="Rectangle 20"/>
          <p:cNvSpPr/>
          <p:nvPr/>
        </p:nvSpPr>
        <p:spPr>
          <a:xfrm rot="21333000">
            <a:off x="5293800" y="3498480"/>
            <a:ext cx="3421080" cy="6336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078520" y="3343320"/>
            <a:ext cx="3671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组成其他颜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0" name="Rectangle 22"/>
          <p:cNvSpPr/>
          <p:nvPr/>
        </p:nvSpPr>
        <p:spPr>
          <a:xfrm rot="21333000">
            <a:off x="5292360" y="4868640"/>
            <a:ext cx="342252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5078520" y="4713120"/>
            <a:ext cx="3671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色彩调和的基础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Primary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原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64" name="Oval 2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5" name="Oval 2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6" name="Oval 2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5C05-846E-4961-8908-0CB27E7A0492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421160" cy="4421160"/>
          </a:xfrm>
          <a:prstGeom prst="rect">
            <a:avLst/>
          </a:prstGeom>
          <a:ln w="0">
            <a:noFill/>
          </a:ln>
        </p:spPr>
      </p:pic>
      <p:sp>
        <p:nvSpPr>
          <p:cNvPr id="269" name="Oval 6"/>
          <p:cNvSpPr/>
          <p:nvPr/>
        </p:nvSpPr>
        <p:spPr>
          <a:xfrm>
            <a:off x="4319640" y="213192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2771640" y="4581360"/>
            <a:ext cx="50508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796000" y="458136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971640" y="47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蓝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7093080" y="47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971640" y="2133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1908000" y="501336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6227640" y="501336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908000" y="2421000"/>
            <a:ext cx="2376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上的原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679-077B-4AF4-B335-A0A2D084D440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468360" y="2492280"/>
            <a:ext cx="792000" cy="792360"/>
          </a:xfrm>
          <a:prstGeom prst="ellipse">
            <a:avLst/>
          </a:prstGeom>
          <a:solidFill>
            <a:srgbClr val="ff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468360" y="3789360"/>
            <a:ext cx="792000" cy="792000"/>
          </a:xfrm>
          <a:prstGeom prst="ellipse">
            <a:avLst/>
          </a:prstGeom>
          <a:solidFill>
            <a:srgbClr val="0f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468360" y="5084640"/>
            <a:ext cx="792000" cy="792360"/>
          </a:xfrm>
          <a:prstGeom prst="ellipse">
            <a:avLst/>
          </a:prstGeom>
          <a:solidFill>
            <a:srgbClr val="63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324000" y="1916280"/>
            <a:ext cx="4105080" cy="4321080"/>
          </a:xfrm>
          <a:custGeom>
            <a:avLst/>
            <a:gdLst>
              <a:gd name="textAreaLeft" fmla="*/ 133560 w 4105080"/>
              <a:gd name="textAreaRight" fmla="*/ 3971520 w 4105080"/>
              <a:gd name="textAreaTop" fmla="*/ 133560 h 4321080"/>
              <a:gd name="textAreaBottom" fmla="*/ 4187520 h 4321080"/>
            </a:gdLst>
            <a:ahLst/>
            <a:rect l="textAreaLeft" t="textAreaTop" r="textAreaRight" b="textAreaBottom"/>
            <a:pathLst>
              <a:path w="21600" h="22736">
                <a:moveTo>
                  <a:pt x="2404" y="0"/>
                </a:moveTo>
                <a:arcTo wR="2404" hR="2404" stAng="16200000" swAng="-5400000"/>
                <a:lnTo>
                  <a:pt x="0" y="20332"/>
                </a:lnTo>
                <a:arcTo wR="2404" hR="2404" stAng="10800000" swAng="-5400000"/>
                <a:lnTo>
                  <a:pt x="19196" y="22736"/>
                </a:lnTo>
                <a:arcTo wR="2404" hR="2404" stAng="5400000" swAng="-5400000"/>
                <a:lnTo>
                  <a:pt x="21600" y="2404"/>
                </a:lnTo>
                <a:arcTo wR="2404" hR="2404" stAng="0" swAng="-5400000"/>
                <a:close/>
              </a:path>
            </a:pathLst>
          </a:cu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39640" y="1555920"/>
            <a:ext cx="331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三种二次色：橙绿紫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1333440" y="2347920"/>
            <a:ext cx="20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橙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orange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绿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green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紫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violet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5075280" y="5446800"/>
            <a:ext cx="503280" cy="503280"/>
          </a:xfrm>
          <a:prstGeom prst="ellipse">
            <a:avLst/>
          </a:prstGeom>
          <a:solidFill>
            <a:srgbClr val="ea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4714920" y="5446800"/>
            <a:ext cx="503280" cy="503280"/>
          </a:xfrm>
          <a:prstGeom prst="ellipse">
            <a:avLst/>
          </a:prstGeom>
          <a:solidFill>
            <a:srgbClr val="00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1" name="Oval 17"/>
          <p:cNvSpPr/>
          <p:nvPr/>
        </p:nvSpPr>
        <p:spPr>
          <a:xfrm>
            <a:off x="6083280" y="5446800"/>
            <a:ext cx="503280" cy="503280"/>
          </a:xfrm>
          <a:prstGeom prst="ellipse">
            <a:avLst/>
          </a:prstGeom>
          <a:solidFill>
            <a:srgbClr val="63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2" name="Line 19"/>
          <p:cNvSpPr/>
          <p:nvPr/>
        </p:nvSpPr>
        <p:spPr>
          <a:xfrm flipV="1">
            <a:off x="5506920" y="5732640"/>
            <a:ext cx="574920" cy="1440"/>
          </a:xfrm>
          <a:prstGeom prst="line">
            <a:avLst/>
          </a:prstGeom>
          <a:ln w="38160">
            <a:solidFill>
              <a:srgbClr val="00a2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3" name="Rectangle 14"/>
          <p:cNvSpPr/>
          <p:nvPr/>
        </p:nvSpPr>
        <p:spPr>
          <a:xfrm rot="21333000">
            <a:off x="5073120" y="1855800"/>
            <a:ext cx="342288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4648320" y="1700280"/>
            <a:ext cx="410040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b5"/>
                </a:solidFill>
                <a:latin typeface="文泉驿微米黑"/>
              </a:rPr>
              <a:t>各由两种原色组合而成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econdary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4643280" y="2708280"/>
            <a:ext cx="4105440" cy="3529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→橙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蓝→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蓝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→紫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075280" y="4365720"/>
            <a:ext cx="503280" cy="503280"/>
          </a:xfrm>
          <a:prstGeom prst="ellipse">
            <a:avLst/>
          </a:prstGeom>
          <a:solidFill>
            <a:srgbClr val="00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4714920" y="436572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6083280" y="4365720"/>
            <a:ext cx="503280" cy="503280"/>
          </a:xfrm>
          <a:prstGeom prst="ellipse">
            <a:avLst/>
          </a:prstGeom>
          <a:solidFill>
            <a:srgbClr val="0f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0" name="Line 19"/>
          <p:cNvSpPr/>
          <p:nvPr/>
        </p:nvSpPr>
        <p:spPr>
          <a:xfrm flipV="1">
            <a:off x="5506920" y="4650840"/>
            <a:ext cx="574920" cy="1800"/>
          </a:xfrm>
          <a:prstGeom prst="line">
            <a:avLst/>
          </a:prstGeom>
          <a:ln w="38160">
            <a:solidFill>
              <a:srgbClr val="00a2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1" name="Oval 15"/>
          <p:cNvSpPr/>
          <p:nvPr/>
        </p:nvSpPr>
        <p:spPr>
          <a:xfrm>
            <a:off x="5075280" y="317664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4714920" y="3176640"/>
            <a:ext cx="503280" cy="503280"/>
          </a:xfrm>
          <a:prstGeom prst="ellipse">
            <a:avLst/>
          </a:prstGeom>
          <a:solidFill>
            <a:srgbClr val="ea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6083280" y="3176640"/>
            <a:ext cx="503280" cy="503280"/>
          </a:xfrm>
          <a:prstGeom prst="ellipse">
            <a:avLst/>
          </a:prstGeom>
          <a:solidFill>
            <a:srgbClr val="ff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4" name="Line 19"/>
          <p:cNvSpPr/>
          <p:nvPr/>
        </p:nvSpPr>
        <p:spPr>
          <a:xfrm flipV="1">
            <a:off x="5506920" y="3462480"/>
            <a:ext cx="574920" cy="1440"/>
          </a:xfrm>
          <a:prstGeom prst="line">
            <a:avLst/>
          </a:prstGeom>
          <a:ln w="38160">
            <a:solidFill>
              <a:srgbClr val="00a2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二次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06" name="Oval 35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7" name="Oval 36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8" name="Oval 37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032F-9EAD-4A50-9B03-C8E12E9F1E33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421160" cy="4421160"/>
          </a:xfrm>
          <a:prstGeom prst="rect">
            <a:avLst/>
          </a:prstGeom>
          <a:ln w="0">
            <a:noFill/>
          </a:ln>
        </p:spPr>
      </p:pic>
      <p:sp>
        <p:nvSpPr>
          <p:cNvPr id="311" name="Oval 5"/>
          <p:cNvSpPr/>
          <p:nvPr/>
        </p:nvSpPr>
        <p:spPr>
          <a:xfrm>
            <a:off x="2843280" y="285264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4319640" y="544500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796000" y="285264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971640" y="27781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紫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1908000" y="306540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971640" y="5373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1908000" y="5661000"/>
            <a:ext cx="2376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020000" y="27781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橙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6300720" y="306540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79280" y="558720"/>
            <a:ext cx="550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上的二次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9AB8-65A0-4535-B257-582F3C8A421C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ertiary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611280" y="2278080"/>
            <a:ext cx="792000" cy="7920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7" name="Oval 5"/>
          <p:cNvSpPr/>
          <p:nvPr/>
        </p:nvSpPr>
        <p:spPr>
          <a:xfrm>
            <a:off x="3346560" y="2278080"/>
            <a:ext cx="792000" cy="792000"/>
          </a:xfrm>
          <a:prstGeom prst="ellipse">
            <a:avLst/>
          </a:prstGeom>
          <a:solidFill>
            <a:srgbClr val="ff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5869080" y="2278080"/>
            <a:ext cx="792000" cy="792000"/>
          </a:xfrm>
          <a:prstGeom prst="ellipse">
            <a:avLst/>
          </a:prstGeom>
          <a:solidFill>
            <a:srgbClr val="8c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324000" y="1844640"/>
            <a:ext cx="8424720" cy="244944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684360" y="1484280"/>
            <a:ext cx="1800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六种三次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1" name="Oval 17"/>
          <p:cNvSpPr/>
          <p:nvPr/>
        </p:nvSpPr>
        <p:spPr>
          <a:xfrm>
            <a:off x="611280" y="3357720"/>
            <a:ext cx="792000" cy="792000"/>
          </a:xfrm>
          <a:prstGeom prst="ellipse">
            <a:avLst/>
          </a:prstGeom>
          <a:solidFill>
            <a:srgbClr val="00a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2" name="Oval 18"/>
          <p:cNvSpPr/>
          <p:nvPr/>
        </p:nvSpPr>
        <p:spPr>
          <a:xfrm>
            <a:off x="3348000" y="3357720"/>
            <a:ext cx="792360" cy="792000"/>
          </a:xfrm>
          <a:prstGeom prst="ellipse">
            <a:avLst/>
          </a:prstGeom>
          <a:solidFill>
            <a:srgbClr val="001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3" name="Oval 19"/>
          <p:cNvSpPr/>
          <p:nvPr/>
        </p:nvSpPr>
        <p:spPr>
          <a:xfrm>
            <a:off x="5867280" y="3357720"/>
            <a:ext cx="792360" cy="792000"/>
          </a:xfrm>
          <a:prstGeom prst="ellipse">
            <a:avLst/>
          </a:prstGeom>
          <a:solidFill>
            <a:srgbClr val="c5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1547640" y="227808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朱红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vermilion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4211640" y="2278080"/>
            <a:ext cx="165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琥珀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ambe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6661080" y="227808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黄绿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chartreus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547640" y="335772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碧绿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文泉驿微米黑"/>
              </a:rPr>
              <a:t>aquamarine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4211640" y="3357720"/>
            <a:ext cx="165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靛青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indigo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6661080" y="335772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紫红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violet red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0" name="Rectangle 28"/>
          <p:cNvSpPr/>
          <p:nvPr/>
        </p:nvSpPr>
        <p:spPr>
          <a:xfrm>
            <a:off x="216000" y="4508640"/>
            <a:ext cx="8964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将一种原色和一种二次色组合， 可得到一种三次色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红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橙→朱红　 ●橙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黄→琥珀　 ●黄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绿→黄绿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绿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蓝→碧绿　 ●蓝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紫→靛青　 ●紫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  <a:ea typeface="文泉驿微米黑"/>
              </a:rPr>
              <a:t>红→紫红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三次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42" name="Oval 23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3" name="Oval 24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4" name="Oval 25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EE17-C22E-4F70-825C-FC528491A4E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421160" cy="4421160"/>
          </a:xfrm>
          <a:prstGeom prst="rect">
            <a:avLst/>
          </a:prstGeom>
          <a:ln w="0">
            <a:noFill/>
          </a:ln>
        </p:spPr>
      </p:pic>
      <p:sp>
        <p:nvSpPr>
          <p:cNvPr id="347" name="Oval 5"/>
          <p:cNvSpPr/>
          <p:nvPr/>
        </p:nvSpPr>
        <p:spPr>
          <a:xfrm>
            <a:off x="3419640" y="220500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8" name="Oval 6"/>
          <p:cNvSpPr/>
          <p:nvPr/>
        </p:nvSpPr>
        <p:spPr>
          <a:xfrm>
            <a:off x="2698920" y="371628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9" name="Oval 7"/>
          <p:cNvSpPr/>
          <p:nvPr/>
        </p:nvSpPr>
        <p:spPr>
          <a:xfrm>
            <a:off x="5940360" y="371628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5148360" y="220500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5148360" y="515772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3419640" y="515772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971640" y="20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紫红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5651640" y="2347920"/>
            <a:ext cx="1511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97164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碧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1908000" y="5516640"/>
            <a:ext cx="151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971640" y="36464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靛青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1908000" y="3933720"/>
            <a:ext cx="79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093080" y="20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朱红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0" name="Line 20"/>
          <p:cNvSpPr/>
          <p:nvPr/>
        </p:nvSpPr>
        <p:spPr>
          <a:xfrm>
            <a:off x="6443640" y="3932280"/>
            <a:ext cx="719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7093080" y="3645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琥珀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5651640" y="5516640"/>
            <a:ext cx="1511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709308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1908000" y="2349360"/>
            <a:ext cx="151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5" name="Rectangle 25"/>
          <p:cNvSpPr/>
          <p:nvPr/>
        </p:nvSpPr>
        <p:spPr>
          <a:xfrm>
            <a:off x="179280" y="558720"/>
            <a:ext cx="550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上的三次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7" name="Oval 27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8" name="Oval 28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ABBF-1132-4704-9ECB-F4115C40248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【</a:t>
            </a: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目　录</a:t>
            </a: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】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03" name="Line 29"/>
          <p:cNvSpPr/>
          <p:nvPr/>
        </p:nvSpPr>
        <p:spPr>
          <a:xfrm>
            <a:off x="82692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395280" y="3860640"/>
            <a:ext cx="86364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197964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1547640" y="3860640"/>
            <a:ext cx="86364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7" name="Line 35"/>
          <p:cNvSpPr/>
          <p:nvPr/>
        </p:nvSpPr>
        <p:spPr>
          <a:xfrm>
            <a:off x="334800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8" name="Line 36"/>
          <p:cNvSpPr/>
          <p:nvPr/>
        </p:nvSpPr>
        <p:spPr>
          <a:xfrm>
            <a:off x="2627280" y="3860640"/>
            <a:ext cx="129528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471636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0" name="Line 38"/>
          <p:cNvSpPr/>
          <p:nvPr/>
        </p:nvSpPr>
        <p:spPr>
          <a:xfrm>
            <a:off x="4068720" y="3860640"/>
            <a:ext cx="129528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1" name="Line 39"/>
          <p:cNvSpPr/>
          <p:nvPr/>
        </p:nvSpPr>
        <p:spPr>
          <a:xfrm>
            <a:off x="615636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5508720" y="3860640"/>
            <a:ext cx="129528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759636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6948360" y="3860640"/>
            <a:ext cx="129564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5" name="Text Box 43"/>
          <p:cNvSpPr/>
          <p:nvPr/>
        </p:nvSpPr>
        <p:spPr>
          <a:xfrm>
            <a:off x="250920" y="4051440"/>
            <a:ext cx="115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引言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1403280" y="4051440"/>
            <a:ext cx="115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轮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7" name="Text Box 45"/>
          <p:cNvSpPr/>
          <p:nvPr/>
        </p:nvSpPr>
        <p:spPr>
          <a:xfrm>
            <a:off x="2629080" y="4021200"/>
            <a:ext cx="143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原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二次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三次色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3995640" y="4021200"/>
            <a:ext cx="143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暖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冷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中性色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9" name="Text Box 47"/>
          <p:cNvSpPr/>
          <p:nvPr/>
        </p:nvSpPr>
        <p:spPr>
          <a:xfrm>
            <a:off x="5438880" y="4021200"/>
            <a:ext cx="143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明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暗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灰调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6877080" y="4021200"/>
            <a:ext cx="143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彩调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9280" y="1924560"/>
            <a:ext cx="8806320" cy="4658760"/>
            <a:chOff x="179280" y="1924560"/>
            <a:chExt cx="8806320" cy="4658760"/>
          </a:xfrm>
        </p:grpSpPr>
        <p:sp>
          <p:nvSpPr>
            <p:cNvPr id="122" name="AutoShape 13"/>
            <p:cNvSpPr/>
            <p:nvPr/>
          </p:nvSpPr>
          <p:spPr>
            <a:xfrm rot="13500000">
              <a:off x="7768440" y="2133360"/>
              <a:ext cx="1008000" cy="1008360"/>
            </a:xfrm>
            <a:prstGeom prst="rtTriangle">
              <a:avLst/>
            </a:prstGeom>
            <a:solidFill>
              <a:srgbClr val="cf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3" name="AutoShape 10"/>
            <p:cNvSpPr/>
            <p:nvPr/>
          </p:nvSpPr>
          <p:spPr>
            <a:xfrm rot="13500000">
              <a:off x="7884360" y="2219040"/>
              <a:ext cx="804960" cy="804960"/>
            </a:xfrm>
            <a:prstGeom prst="rtTriangle">
              <a:avLst/>
            </a:prstGeom>
            <a:solidFill>
              <a:srgbClr val="10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4" name="Rectangle 11"/>
            <p:cNvSpPr/>
            <p:nvPr/>
          </p:nvSpPr>
          <p:spPr>
            <a:xfrm>
              <a:off x="250560" y="2265480"/>
              <a:ext cx="8070480" cy="720720"/>
            </a:xfrm>
            <a:prstGeom prst="rect">
              <a:avLst/>
            </a:prstGeom>
            <a:solidFill>
              <a:srgbClr val="10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140364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255672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399744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543816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688068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828468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179280" y="2175120"/>
              <a:ext cx="108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1332000" y="2175120"/>
              <a:ext cx="108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3" name="Text Box 23"/>
            <p:cNvSpPr/>
            <p:nvPr/>
          </p:nvSpPr>
          <p:spPr>
            <a:xfrm>
              <a:off x="2628360" y="2175120"/>
              <a:ext cx="108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4068720" y="2175120"/>
              <a:ext cx="108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5" name="Text Box 27"/>
            <p:cNvSpPr/>
            <p:nvPr/>
          </p:nvSpPr>
          <p:spPr>
            <a:xfrm>
              <a:off x="5511240" y="2175120"/>
              <a:ext cx="108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6" name="Text Box 28"/>
            <p:cNvSpPr/>
            <p:nvPr/>
          </p:nvSpPr>
          <p:spPr>
            <a:xfrm>
              <a:off x="6951960" y="2175120"/>
              <a:ext cx="108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3E3-2FD6-4E24-A09B-40872EFBEAA5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从原色出发，不断组合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最终就能得到所有颜色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74" name="Picture 12" descr=""/>
          <p:cNvPicPr/>
          <p:nvPr/>
        </p:nvPicPr>
        <p:blipFill>
          <a:blip r:embed="rId1"/>
          <a:srcRect l="0" t="10656" r="60170" b="50330"/>
          <a:stretch/>
        </p:blipFill>
        <p:spPr>
          <a:xfrm>
            <a:off x="0" y="549360"/>
            <a:ext cx="3059280" cy="2879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2"/>
          <a:stretch/>
        </p:blipFill>
        <p:spPr>
          <a:xfrm>
            <a:off x="0" y="3429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"/>
          <p:cNvPicPr/>
          <p:nvPr/>
        </p:nvPicPr>
        <p:blipFill>
          <a:blip r:embed="rId3"/>
          <a:srcRect l="47807" t="4265" r="2915" b="49057"/>
          <a:stretch/>
        </p:blipFill>
        <p:spPr>
          <a:xfrm>
            <a:off x="3059280" y="3514680"/>
            <a:ext cx="4192560" cy="32972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3132000" y="2496960"/>
            <a:ext cx="108108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8" name="Rectangle 16"/>
          <p:cNvSpPr/>
          <p:nvPr/>
        </p:nvSpPr>
        <p:spPr>
          <a:xfrm>
            <a:off x="4284720" y="2496960"/>
            <a:ext cx="86364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221440" y="2496960"/>
            <a:ext cx="64764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5940360" y="2496960"/>
            <a:ext cx="50472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6518160" y="2496960"/>
            <a:ext cx="28728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2" name="Rectangle 20"/>
          <p:cNvSpPr/>
          <p:nvPr/>
        </p:nvSpPr>
        <p:spPr>
          <a:xfrm>
            <a:off x="6877080" y="2496960"/>
            <a:ext cx="14292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83" name="Picture 21" descr="图片2"/>
          <p:cNvPicPr/>
          <p:nvPr/>
        </p:nvPicPr>
        <p:blipFill>
          <a:blip r:embed="rId4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4AD-FA0C-4FE6-8A52-20E48E2C8B83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4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924000" y="932040"/>
            <a:ext cx="5111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暖色 冷色 中性色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7" name="AutoShape 25"/>
          <p:cNvSpPr/>
          <p:nvPr/>
        </p:nvSpPr>
        <p:spPr>
          <a:xfrm>
            <a:off x="370692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中性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冷　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暖　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9A6-BDE3-47B4-9031-DA841EE975C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274920" y="1700280"/>
            <a:ext cx="5472360" cy="3960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暖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Warm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3" name="Line 19"/>
          <p:cNvSpPr/>
          <p:nvPr/>
        </p:nvSpPr>
        <p:spPr>
          <a:xfrm>
            <a:off x="3419640" y="3681360"/>
            <a:ext cx="518472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94" name="Picture 6" descr="2007101215528640_2"/>
          <p:cNvPicPr/>
          <p:nvPr/>
        </p:nvPicPr>
        <p:blipFill>
          <a:blip r:embed="rId1"/>
          <a:stretch/>
        </p:blipFill>
        <p:spPr>
          <a:xfrm>
            <a:off x="3351240" y="1916280"/>
            <a:ext cx="1440000" cy="1461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"/>
          <p:cNvPicPr/>
          <p:nvPr/>
        </p:nvPicPr>
        <p:blipFill>
          <a:blip r:embed="rId2"/>
          <a:srcRect l="18707" t="17962" r="17591" b="14290"/>
          <a:stretch/>
        </p:blipFill>
        <p:spPr>
          <a:xfrm>
            <a:off x="3274920" y="3860640"/>
            <a:ext cx="1589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396" name=""/>
          <p:cNvGrpSpPr/>
          <p:nvPr/>
        </p:nvGrpSpPr>
        <p:grpSpPr>
          <a:xfrm>
            <a:off x="324000" y="2168640"/>
            <a:ext cx="2871720" cy="3024000"/>
            <a:chOff x="324000" y="2168640"/>
            <a:chExt cx="2871720" cy="3024000"/>
          </a:xfrm>
        </p:grpSpPr>
        <p:pic>
          <p:nvPicPr>
            <p:cNvPr id="397" name="Picture 11" descr=""/>
            <p:cNvPicPr/>
            <p:nvPr/>
          </p:nvPicPr>
          <p:blipFill>
            <a:blip r:embed="rId3"/>
            <a:stretch/>
          </p:blipFill>
          <p:spPr>
            <a:xfrm>
              <a:off x="324000" y="2168640"/>
              <a:ext cx="28717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12"/>
            <p:cNvSpPr/>
            <p:nvPr/>
          </p:nvSpPr>
          <p:spPr>
            <a:xfrm>
              <a:off x="1897200" y="310500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2400"/>
                  </a:solidFill>
                  <a:latin typeface="文泉驿微米黑"/>
                </a:rPr>
                <a:t>暖色</a:t>
              </a:r>
              <a:endParaRPr b="0" lang="en-US" sz="32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399" name="Rectangle 13"/>
            <p:cNvSpPr/>
            <p:nvPr/>
          </p:nvSpPr>
          <p:spPr>
            <a:xfrm>
              <a:off x="817560" y="346536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文泉驿微米黑"/>
                </a:rPr>
                <a:t>冷色</a:t>
              </a:r>
              <a:endParaRPr b="0" lang="en-US" sz="2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sp>
        <p:nvSpPr>
          <p:cNvPr id="400" name="Oval 30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2" name="Oval 32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4788000" y="2287440"/>
            <a:ext cx="489564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暖色包括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、橙、黄、黄绿等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4788000" y="4294080"/>
            <a:ext cx="489564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视觉感受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生动活泼、积极有力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EA01-B643-4F9D-BACA-04A5EC80C9E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24000" y="2168640"/>
            <a:ext cx="2871720" cy="3024000"/>
            <a:chOff x="324000" y="2168640"/>
            <a:chExt cx="2871720" cy="3024000"/>
          </a:xfrm>
        </p:grpSpPr>
        <p:pic>
          <p:nvPicPr>
            <p:cNvPr id="407" name="Picture 11" descr=""/>
            <p:cNvPicPr/>
            <p:nvPr/>
          </p:nvPicPr>
          <p:blipFill>
            <a:blip r:embed="rId1"/>
            <a:stretch/>
          </p:blipFill>
          <p:spPr>
            <a:xfrm>
              <a:off x="324000" y="2168640"/>
              <a:ext cx="28717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Rectangle 12"/>
            <p:cNvSpPr/>
            <p:nvPr/>
          </p:nvSpPr>
          <p:spPr>
            <a:xfrm>
              <a:off x="1897200" y="310500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文泉驿微米黑"/>
                </a:rPr>
                <a:t>暖色</a:t>
              </a:r>
              <a:endParaRPr b="0" lang="en-US" sz="2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817560" y="346536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2400"/>
                  </a:solidFill>
                  <a:latin typeface="文泉驿微米黑"/>
                </a:rPr>
                <a:t>冷色</a:t>
              </a:r>
              <a:endParaRPr b="0" lang="en-US" sz="32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冷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Cold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276720" y="1700280"/>
            <a:ext cx="5472000" cy="3960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3421080" y="3681360"/>
            <a:ext cx="518472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14" name="Picture 8" descr=""/>
          <p:cNvPicPr/>
          <p:nvPr/>
        </p:nvPicPr>
        <p:blipFill>
          <a:blip r:embed="rId2"/>
          <a:srcRect l="18707" t="17962" r="17591" b="14290"/>
          <a:stretch/>
        </p:blipFill>
        <p:spPr>
          <a:xfrm>
            <a:off x="3276720" y="3860640"/>
            <a:ext cx="1589040" cy="1656000"/>
          </a:xfrm>
          <a:prstGeom prst="rect">
            <a:avLst/>
          </a:prstGeom>
          <a:ln w="0">
            <a:noFill/>
          </a:ln>
        </p:spPr>
      </p:pic>
      <p:sp>
        <p:nvSpPr>
          <p:cNvPr id="415" name="Oval 13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6" name="Oval 14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7" name="Oval 15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4789440" y="2287440"/>
            <a:ext cx="489600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冷色包括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靛青、紫、蓝、绿等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4789440" y="4294080"/>
            <a:ext cx="489600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视觉感受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平静镇定、舒缓淡泊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20" name="Picture 26" descr="slide0104_image011"/>
          <p:cNvPicPr/>
          <p:nvPr/>
        </p:nvPicPr>
        <p:blipFill>
          <a:blip r:embed="rId3"/>
          <a:stretch/>
        </p:blipFill>
        <p:spPr>
          <a:xfrm>
            <a:off x="3349800" y="1916280"/>
            <a:ext cx="1460160" cy="1439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5469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文泉驿微米黑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C30-5478-4F92-9022-78EF2EC441A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3" name="AutoShape 12"/>
          <p:cNvSpPr/>
          <p:nvPr/>
        </p:nvSpPr>
        <p:spPr>
          <a:xfrm>
            <a:off x="395280" y="1700280"/>
            <a:ext cx="8353440" cy="4321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中性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Neutral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11280" y="1917720"/>
            <a:ext cx="78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中性色有</a:t>
            </a:r>
            <a:r>
              <a:rPr b="1" lang="en-US" sz="4800" spc="-1" strike="noStrike">
                <a:solidFill>
                  <a:srgbClr val="c62400"/>
                </a:solidFill>
                <a:latin typeface="文泉驿微米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种：黑、灰、白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6657840" y="2637000"/>
            <a:ext cx="1009800" cy="1008000"/>
          </a:xfrm>
          <a:prstGeom prst="roundRect">
            <a:avLst>
              <a:gd name="adj" fmla="val 20167"/>
            </a:avLst>
          </a:prstGeom>
          <a:solidFill>
            <a:srgbClr val="ffffff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1476360" y="2637000"/>
            <a:ext cx="1009800" cy="1008000"/>
          </a:xfrm>
          <a:prstGeom prst="roundRect">
            <a:avLst>
              <a:gd name="adj" fmla="val 20167"/>
            </a:avLst>
          </a:prstGeom>
          <a:solidFill>
            <a:srgbClr val="000000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黑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9" name="AutoShape 15"/>
          <p:cNvSpPr/>
          <p:nvPr/>
        </p:nvSpPr>
        <p:spPr>
          <a:xfrm>
            <a:off x="6657840" y="3933720"/>
            <a:ext cx="1009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白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0" name="AutoShape 16"/>
          <p:cNvSpPr/>
          <p:nvPr/>
        </p:nvSpPr>
        <p:spPr>
          <a:xfrm>
            <a:off x="1476360" y="3933720"/>
            <a:ext cx="1009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黑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1" name="AutoShape 17"/>
          <p:cNvSpPr/>
          <p:nvPr/>
        </p:nvSpPr>
        <p:spPr>
          <a:xfrm>
            <a:off x="4067280" y="3933720"/>
            <a:ext cx="100944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灰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gray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2" name="Rectangle 28"/>
          <p:cNvSpPr/>
          <p:nvPr/>
        </p:nvSpPr>
        <p:spPr>
          <a:xfrm>
            <a:off x="611280" y="5230800"/>
            <a:ext cx="78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灰色是由黑白按不同比例组成的一个</a:t>
            </a:r>
            <a:r>
              <a:rPr b="1" lang="zh-CN" sz="2400" spc="-1" strike="noStrike">
                <a:solidFill>
                  <a:srgbClr val="c62400"/>
                </a:solidFill>
                <a:latin typeface="文泉驿微米黑"/>
              </a:rPr>
              <a:t>色系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，这个比例称为</a:t>
            </a:r>
            <a:r>
              <a:rPr b="1" lang="zh-CN" sz="2400" spc="-1" strike="noStrike">
                <a:solidFill>
                  <a:srgbClr val="c62400"/>
                </a:solidFill>
                <a:latin typeface="文泉驿微米黑"/>
              </a:rPr>
              <a:t>灰度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6" name="AutoShape 17"/>
          <p:cNvSpPr/>
          <p:nvPr/>
        </p:nvSpPr>
        <p:spPr>
          <a:xfrm>
            <a:off x="34131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333333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7" name="AutoShape 17"/>
          <p:cNvSpPr/>
          <p:nvPr/>
        </p:nvSpPr>
        <p:spPr>
          <a:xfrm>
            <a:off x="40179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5f5f5f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8" name="AutoShape 17"/>
          <p:cNvSpPr/>
          <p:nvPr/>
        </p:nvSpPr>
        <p:spPr>
          <a:xfrm>
            <a:off x="46227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808080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52275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b2b2b2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0" name="AutoShape 17"/>
          <p:cNvSpPr/>
          <p:nvPr/>
        </p:nvSpPr>
        <p:spPr>
          <a:xfrm>
            <a:off x="58323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dddddd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28083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1c1c1c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998-DE9B-4B66-9B15-E1012B7CACA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由大量冷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暖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构成主色调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少量暖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冷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色和中性色起缓冲作用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132000" y="547560"/>
            <a:ext cx="1152720" cy="1873440"/>
          </a:xfrm>
          <a:prstGeom prst="rect">
            <a:avLst/>
          </a:prstGeom>
          <a:solidFill>
            <a:srgbClr val="08b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132000" y="907920"/>
            <a:ext cx="115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Victorian LE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49" name="Picture 10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3961080" cy="3373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3132000" cy="2878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1" name="Picture 12" descr=""/>
          <p:cNvPicPr/>
          <p:nvPr/>
        </p:nvPicPr>
        <p:blipFill>
          <a:blip r:embed="rId3"/>
          <a:stretch/>
        </p:blipFill>
        <p:spPr>
          <a:xfrm>
            <a:off x="34920" y="3429000"/>
            <a:ext cx="3130560" cy="3365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52" name="Rectangle 13"/>
          <p:cNvSpPr/>
          <p:nvPr/>
        </p:nvSpPr>
        <p:spPr>
          <a:xfrm>
            <a:off x="3203640" y="2492280"/>
            <a:ext cx="108108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4356000" y="2492280"/>
            <a:ext cx="86364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5292720" y="2492280"/>
            <a:ext cx="64764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6012000" y="2492280"/>
            <a:ext cx="50472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6" name="Rectangle 17"/>
          <p:cNvSpPr/>
          <p:nvPr/>
        </p:nvSpPr>
        <p:spPr>
          <a:xfrm>
            <a:off x="6589800" y="2492280"/>
            <a:ext cx="28728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6948360" y="2492280"/>
            <a:ext cx="14292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3A0A-884D-4C52-95F6-A5144A624995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5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924000" y="932040"/>
            <a:ext cx="5111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明调 暗调 灰调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1" name="AutoShape 25"/>
          <p:cNvSpPr/>
          <p:nvPr/>
        </p:nvSpPr>
        <p:spPr>
          <a:xfrm>
            <a:off x="349236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灰　调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暗　调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明　调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7E4-ABD4-4720-A966-603BCFDEB801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324000" y="1916280"/>
            <a:ext cx="8424720" cy="280800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755640" y="1555920"/>
            <a:ext cx="5329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明调：</a:t>
            </a:r>
            <a:r>
              <a:rPr b="1" lang="zh-CN" sz="2700" spc="-1" strike="noStrike">
                <a:solidFill>
                  <a:srgbClr val="c62400"/>
                </a:solidFill>
                <a:latin typeface="文泉驿微米黑"/>
              </a:rPr>
              <a:t>掺加白色</a:t>
            </a: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得到的一种纯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755640" y="227664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2340000" y="227664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提高颜色的亮度，使其更加鲜明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8" name="AutoShape 9"/>
          <p:cNvSpPr/>
          <p:nvPr/>
        </p:nvSpPr>
        <p:spPr>
          <a:xfrm>
            <a:off x="755640" y="2997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2340000" y="2997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向颜色中掺入白色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755640" y="4005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1" name="AutoShape 12"/>
          <p:cNvSpPr/>
          <p:nvPr/>
        </p:nvSpPr>
        <p:spPr>
          <a:xfrm>
            <a:off x="2340000" y="4005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得到明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2" name="AutoShape 14"/>
          <p:cNvSpPr/>
          <p:nvPr/>
        </p:nvSpPr>
        <p:spPr>
          <a:xfrm flipV="1">
            <a:off x="755640" y="3716280"/>
            <a:ext cx="122400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73" name="Picture 15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8424720" cy="132552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16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int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明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6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7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8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3331-83B4-4415-8877-394957AE002A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755640" y="227664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2340000" y="227664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降低颜色的亮度，使其更加黯淡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755640" y="2997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2340000" y="2997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向颜色中掺入黑色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4" name="AutoShape 10"/>
          <p:cNvSpPr/>
          <p:nvPr/>
        </p:nvSpPr>
        <p:spPr>
          <a:xfrm>
            <a:off x="755640" y="4005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5" name="AutoShape 11"/>
          <p:cNvSpPr/>
          <p:nvPr/>
        </p:nvSpPr>
        <p:spPr>
          <a:xfrm>
            <a:off x="2340000" y="4005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得到暗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6" name="AutoShape 12"/>
          <p:cNvSpPr/>
          <p:nvPr/>
        </p:nvSpPr>
        <p:spPr>
          <a:xfrm flipV="1">
            <a:off x="755640" y="3716280"/>
            <a:ext cx="122400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87" name="Picture 14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8424720" cy="13255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6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had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暗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324000" y="1916280"/>
            <a:ext cx="8424720" cy="280800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755640" y="1555920"/>
            <a:ext cx="5329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暗调：</a:t>
            </a:r>
            <a:r>
              <a:rPr b="1" lang="zh-CN" sz="2700" spc="-1" strike="noStrike">
                <a:solidFill>
                  <a:srgbClr val="c62400"/>
                </a:solidFill>
                <a:latin typeface="文泉驿微米黑"/>
              </a:rPr>
              <a:t>掺加黑色</a:t>
            </a: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得到的一种纯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03EE-A4AD-42D7-ACBC-2647624940CA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755640" y="227664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2340000" y="227664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比明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暗调更精细地调节颜色的亮度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755640" y="2997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9" name="AutoShape 9"/>
          <p:cNvSpPr/>
          <p:nvPr/>
        </p:nvSpPr>
        <p:spPr>
          <a:xfrm>
            <a:off x="2340000" y="2997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向颜色中掺入灰色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0" name="AutoShape 10"/>
          <p:cNvSpPr/>
          <p:nvPr/>
        </p:nvSpPr>
        <p:spPr>
          <a:xfrm>
            <a:off x="755640" y="4005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1" name="AutoShape 11"/>
          <p:cNvSpPr/>
          <p:nvPr/>
        </p:nvSpPr>
        <p:spPr>
          <a:xfrm>
            <a:off x="2340000" y="4005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得到灰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2" name="AutoShape 12"/>
          <p:cNvSpPr/>
          <p:nvPr/>
        </p:nvSpPr>
        <p:spPr>
          <a:xfrm flipV="1">
            <a:off x="755640" y="3716280"/>
            <a:ext cx="122400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03" name="Picture 14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8424720" cy="13237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6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灰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6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7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8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324000" y="1916280"/>
            <a:ext cx="8424720" cy="280800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755640" y="1555920"/>
            <a:ext cx="48974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灰调：</a:t>
            </a:r>
            <a:r>
              <a:rPr b="1" lang="zh-CN" sz="2700" spc="-1" strike="noStrike">
                <a:solidFill>
                  <a:srgbClr val="c62400"/>
                </a:solidFill>
                <a:latin typeface="文泉驿微米黑"/>
              </a:rPr>
              <a:t>掺加灰色</a:t>
            </a: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得到的一种纯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12FD-DC7E-476A-979C-5F187A1CDEE1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1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561840" y="931680"/>
            <a:ext cx="5473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　引　言　</a:t>
            </a: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0" name="AutoShape 25"/>
          <p:cNvSpPr/>
          <p:nvPr/>
        </p:nvSpPr>
        <p:spPr>
          <a:xfrm>
            <a:off x="3922560" y="2135160"/>
            <a:ext cx="525780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正确搭配</a:t>
            </a: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3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作用于人</a:t>
            </a: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3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用于表达</a:t>
            </a: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3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6B70-E7E9-4435-ABAA-FFCC46EB956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13" name="Picture 9" descr=""/>
          <p:cNvPicPr/>
          <p:nvPr/>
        </p:nvPicPr>
        <p:blipFill>
          <a:blip r:embed="rId1"/>
          <a:stretch/>
        </p:blipFill>
        <p:spPr>
          <a:xfrm>
            <a:off x="34920" y="4221000"/>
            <a:ext cx="3673440" cy="261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4" name="AutoShape 6"/>
          <p:cNvSpPr/>
          <p:nvPr/>
        </p:nvSpPr>
        <p:spPr>
          <a:xfrm>
            <a:off x="3562200" y="54756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从一种颜色出发，调配明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暗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灰调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形成一系列明暗度深浅不一的色彩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称为</a:t>
            </a: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单色配色，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是色彩调和的基础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2411280" y="907920"/>
            <a:ext cx="115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6" name="Line 7"/>
          <p:cNvSpPr/>
          <p:nvPr/>
        </p:nvSpPr>
        <p:spPr>
          <a:xfrm>
            <a:off x="3635280" y="1987560"/>
            <a:ext cx="52578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5076720" y="198756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18" name="Picture 10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2324160" cy="36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9" name="Picture 11" descr=""/>
          <p:cNvPicPr/>
          <p:nvPr/>
        </p:nvPicPr>
        <p:blipFill>
          <a:blip r:embed="rId3"/>
          <a:stretch/>
        </p:blipFill>
        <p:spPr>
          <a:xfrm>
            <a:off x="2411280" y="2492280"/>
            <a:ext cx="5545440" cy="16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0" name="Picture 12" descr=""/>
          <p:cNvPicPr/>
          <p:nvPr/>
        </p:nvPicPr>
        <p:blipFill>
          <a:blip r:embed="rId4"/>
          <a:stretch/>
        </p:blipFill>
        <p:spPr>
          <a:xfrm>
            <a:off x="3760920" y="4221000"/>
            <a:ext cx="4195800" cy="262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1" name="Picture 14" descr="图片2"/>
          <p:cNvPicPr/>
          <p:nvPr/>
        </p:nvPicPr>
        <p:blipFill>
          <a:blip r:embed="rId5"/>
          <a:stretch/>
        </p:blipFill>
        <p:spPr>
          <a:xfrm>
            <a:off x="241128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622C-E1C6-454A-A804-7904B715EF2A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6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319640" y="932040"/>
            <a:ext cx="406872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色彩调和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5" name="AutoShape 25"/>
          <p:cNvSpPr/>
          <p:nvPr/>
        </p:nvSpPr>
        <p:spPr>
          <a:xfrm>
            <a:off x="248292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正方形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矩形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29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分割互补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三  色  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类似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互补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5F5-3357-49A5-AF2F-35C3217E5E40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6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Complementary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互补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3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在色轮上相对分布 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成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的两种颜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complementary colors)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由一对 </a:t>
            </a:r>
            <a:r>
              <a:rPr b="1" lang="zh-CN" sz="3700" spc="-1" strike="noStrike">
                <a:solidFill>
                  <a:srgbClr val="c62400"/>
                </a:solidFill>
                <a:latin typeface="文泉驿微米黑"/>
              </a:rPr>
              <a:t>互补色</a:t>
            </a: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  构成的色系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4284720" y="4078440"/>
            <a:ext cx="1511280" cy="7189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6" name="AutoShape 20"/>
          <p:cNvSpPr/>
          <p:nvPr/>
        </p:nvSpPr>
        <p:spPr>
          <a:xfrm rot="5400000">
            <a:off x="4607640" y="5041080"/>
            <a:ext cx="865080" cy="520560"/>
          </a:xfrm>
          <a:custGeom>
            <a:avLst/>
            <a:gdLst>
              <a:gd name="textAreaLeft" fmla="*/ 108000 w 865080"/>
              <a:gd name="textAreaRight" fmla="*/ 757080 w 865080"/>
              <a:gd name="textAreaTop" fmla="*/ 129960 h 520560"/>
              <a:gd name="textAreaBottom" fmla="*/ 390600 h 52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7" name="Oval 22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8" name="Oval 23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0" name="Oval 25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1" name="Oval 26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0A1A-D964-4B98-A539-2E8D9B88ED3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pic>
        <p:nvPicPr>
          <p:cNvPr id="546" name="Picture 14" descr=""/>
          <p:cNvPicPr/>
          <p:nvPr/>
        </p:nvPicPr>
        <p:blipFill>
          <a:blip r:embed="rId1"/>
          <a:stretch/>
        </p:blipFill>
        <p:spPr>
          <a:xfrm>
            <a:off x="693720" y="1844640"/>
            <a:ext cx="2365560" cy="189216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高度对比，难以驾驭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8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场合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凸显强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不适用于大量文本对比</a:t>
            </a:r>
            <a:r>
              <a:rPr b="0" lang="en-US" sz="20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或背景色与文本色对比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49" name="Picture 26" descr=""/>
          <p:cNvPicPr/>
          <p:nvPr/>
        </p:nvPicPr>
        <p:blipFill>
          <a:blip r:embed="rId2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550" name="Line 27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1" name="Oval 2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2" name="Oval 2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3" name="Oval 3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4" name="Oval 31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1AF-71C5-4A4E-AA47-085A3D935E42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Analogous 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类似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在色轮上相邻分布 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&lt;90°)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的几种颜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analogous colors)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3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由若干 </a:t>
            </a:r>
            <a:r>
              <a:rPr b="1" lang="zh-CN" sz="3700" spc="-1" strike="noStrike">
                <a:solidFill>
                  <a:srgbClr val="c62400"/>
                </a:solidFill>
                <a:latin typeface="文泉驿微米黑"/>
              </a:rPr>
              <a:t>类似色</a:t>
            </a: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  构成的色系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4284720" y="4078440"/>
            <a:ext cx="1511280" cy="7189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5" name="AutoShape 11"/>
          <p:cNvSpPr/>
          <p:nvPr/>
        </p:nvSpPr>
        <p:spPr>
          <a:xfrm rot="5400000">
            <a:off x="4607640" y="5041080"/>
            <a:ext cx="865080" cy="520560"/>
          </a:xfrm>
          <a:custGeom>
            <a:avLst/>
            <a:gdLst>
              <a:gd name="textAreaLeft" fmla="*/ 108000 w 865080"/>
              <a:gd name="textAreaRight" fmla="*/ 757080 w 865080"/>
              <a:gd name="textAreaTop" fmla="*/ 129960 h 520560"/>
              <a:gd name="textAreaBottom" fmla="*/ 390600 h 52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9" name="Oval 15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0" name="Oval 16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1" name="Oval 17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72" name="Picture 1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951280" cy="295128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64753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文泉驿微米黑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5E4-4C04-4942-8FC6-22F3CB3B8441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5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搭配和谐，对比不强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场合广泛</a:t>
            </a:r>
            <a:r>
              <a:rPr b="1" lang="en-US" sz="3200" spc="-1" strike="noStrike">
                <a:solidFill>
                  <a:srgbClr val="c62400"/>
                </a:solidFill>
                <a:latin typeface="文泉驿微米黑"/>
              </a:rPr>
              <a:t>, </a:t>
            </a: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注意两条法则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易于区分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保证各种色彩有足够的对比度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均衡调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主体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辅助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强调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79" name="Picture 7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580" name="Line 8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87" name="Picture 23" descr=""/>
          <p:cNvPicPr/>
          <p:nvPr/>
        </p:nvPicPr>
        <p:blipFill>
          <a:blip r:embed="rId2"/>
          <a:stretch/>
        </p:blipFill>
        <p:spPr>
          <a:xfrm>
            <a:off x="684360" y="1820880"/>
            <a:ext cx="236844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AD99-97AD-4742-BFB6-1A572F2DC5E7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riadic 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三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2484360" y="3860640"/>
            <a:ext cx="6264360" cy="2376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3" name="AutoShape 8"/>
          <p:cNvSpPr/>
          <p:nvPr/>
        </p:nvSpPr>
        <p:spPr>
          <a:xfrm>
            <a:off x="2627280" y="5445000"/>
            <a:ext cx="4411800" cy="1008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两两之间夹角为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4" name="AutoShape 10"/>
          <p:cNvSpPr/>
          <p:nvPr/>
        </p:nvSpPr>
        <p:spPr>
          <a:xfrm>
            <a:off x="2627280" y="4294080"/>
            <a:ext cx="590544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1" lang="zh-CN" sz="3000" spc="-1" strike="noStrike">
                <a:solidFill>
                  <a:srgbClr val="c62400"/>
                </a:solidFill>
                <a:latin typeface="文泉驿微米黑"/>
              </a:rPr>
              <a:t>均衡分布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 的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种颜色构成的色系</a:t>
            </a:r>
            <a:br>
              <a:rPr sz="3700"/>
            </a:b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3132000" y="4076640"/>
            <a:ext cx="151128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6" name="AutoShape 10"/>
          <p:cNvSpPr/>
          <p:nvPr/>
        </p:nvSpPr>
        <p:spPr>
          <a:xfrm rot="5400000">
            <a:off x="3462840" y="5041080"/>
            <a:ext cx="865080" cy="520920"/>
          </a:xfrm>
          <a:custGeom>
            <a:avLst/>
            <a:gdLst>
              <a:gd name="textAreaLeft" fmla="*/ 108000 w 865080"/>
              <a:gd name="textAreaRight" fmla="*/ 757080 w 865080"/>
              <a:gd name="textAreaTop" fmla="*/ 130320 h 520920"/>
              <a:gd name="textAreaBottom" fmla="*/ 390960 h 52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7" name="Oval 11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8" name="Oval 12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2" name="Oval 16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03" name="Picture 15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2F3E-A248-42BB-9D04-185766E9595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既搭配和谐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又对比鲜明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8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场合广泛</a:t>
            </a:r>
            <a:r>
              <a:rPr b="1" lang="en-US" sz="3200" spc="-1" strike="noStrike">
                <a:solidFill>
                  <a:srgbClr val="c62400"/>
                </a:solidFill>
                <a:latin typeface="文泉驿微米黑"/>
              </a:rPr>
              <a:t>, </a:t>
            </a: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注意两条法则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均衡调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主体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辅助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强调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以二次色为佳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绿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橙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紫 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&gt; 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黄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蓝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09" name="Picture 6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610" name="Line 7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1" name="Oval 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2" name="Oval 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3" name="Oval 1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4" name="Oval 11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5" name="Oval 12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6" name="Oval 13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17" name="Picture 17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23637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2DF7-C509-48BB-94BC-1390A7C29A7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3490920" y="260280"/>
            <a:ext cx="47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a2f4"/>
                </a:solidFill>
                <a:latin typeface="文泉驿微米黑"/>
              </a:rPr>
              <a:t>Split-complementary  color scheme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分割互补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27" name="Picture 19" descr=""/>
          <p:cNvPicPr/>
          <p:nvPr/>
        </p:nvPicPr>
        <p:blipFill>
          <a:blip r:embed="rId1"/>
          <a:stretch/>
        </p:blipFill>
        <p:spPr>
          <a:xfrm>
            <a:off x="108000" y="1270080"/>
            <a:ext cx="3022560" cy="302256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6"/>
          <p:cNvSpPr/>
          <p:nvPr/>
        </p:nvSpPr>
        <p:spPr>
          <a:xfrm>
            <a:off x="2874960" y="4078440"/>
            <a:ext cx="1049400" cy="50472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4011480" y="4076640"/>
            <a:ext cx="4953240" cy="504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文泉驿微米黑"/>
              </a:rPr>
              <a:t>一个互补色系由两种颜色构成</a:t>
            </a:r>
            <a:endParaRPr b="0" lang="en-US" sz="2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2874960" y="4797360"/>
            <a:ext cx="1049400" cy="50472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变换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995640" y="4795920"/>
            <a:ext cx="4537080" cy="504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取出其中之一， 用色轮上左右相邻的两种颜色代替，形成新的色系</a:t>
            </a:r>
            <a:endParaRPr b="0" lang="en-US" sz="2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2" name="AutoShape 15"/>
          <p:cNvSpPr/>
          <p:nvPr/>
        </p:nvSpPr>
        <p:spPr>
          <a:xfrm>
            <a:off x="2874960" y="5662440"/>
            <a:ext cx="1049400" cy="50508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011480" y="5661000"/>
            <a:ext cx="4953240" cy="504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62400"/>
                </a:solidFill>
                <a:latin typeface="文泉驿微米黑"/>
              </a:rPr>
              <a:t>分割互补色系</a:t>
            </a:r>
            <a:endParaRPr b="0" lang="en-US" sz="2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4" name="AutoShape 20"/>
          <p:cNvSpPr/>
          <p:nvPr/>
        </p:nvSpPr>
        <p:spPr>
          <a:xfrm flipV="1">
            <a:off x="3019320" y="5373720"/>
            <a:ext cx="84924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2484360" y="3860640"/>
            <a:ext cx="6264360" cy="2521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7596360" y="3573360"/>
            <a:ext cx="6886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1E7-9BFE-4CC8-B71F-474AC72E9FB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8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40" name="AutoShape 8"/>
          <p:cNvSpPr/>
          <p:nvPr/>
        </p:nvSpPr>
        <p:spPr>
          <a:xfrm>
            <a:off x="305928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视觉对比强烈，不刺眼不混乱，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比互补色容易驾驭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1" name="AutoShape 10"/>
          <p:cNvSpPr/>
          <p:nvPr/>
        </p:nvSpPr>
        <p:spPr>
          <a:xfrm>
            <a:off x="305928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适合初学者使用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要做到均衡调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文泉驿微米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种主体色</a:t>
            </a:r>
            <a:r>
              <a:rPr b="0" lang="en-US" sz="14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种辅助色</a:t>
            </a:r>
            <a:r>
              <a:rPr b="0" lang="en-US" sz="14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种强调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643" name="Line 7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50" name="Picture 23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236844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8A2A-6F39-4A2A-8F4F-5F2AC41E1F61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用于表达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47" name="Picture 4" descr="1You_are_entering"/>
          <p:cNvPicPr/>
          <p:nvPr/>
        </p:nvPicPr>
        <p:blipFill>
          <a:blip r:embed="rId1"/>
          <a:stretch/>
        </p:blipFill>
        <p:spPr>
          <a:xfrm>
            <a:off x="3349800" y="2133720"/>
            <a:ext cx="2442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slide0363_image045"/>
          <p:cNvPicPr/>
          <p:nvPr/>
        </p:nvPicPr>
        <p:blipFill>
          <a:blip r:embed="rId2"/>
          <a:stretch/>
        </p:blipFill>
        <p:spPr>
          <a:xfrm>
            <a:off x="6305400" y="2133720"/>
            <a:ext cx="2443320" cy="2663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5"/>
          <p:cNvSpPr/>
          <p:nvPr/>
        </p:nvSpPr>
        <p:spPr>
          <a:xfrm>
            <a:off x="3349800" y="501336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渲染情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6372360" y="501336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表达观点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51" name="Picture 20" descr="slide0045_image243"/>
          <p:cNvPicPr/>
          <p:nvPr/>
        </p:nvPicPr>
        <p:blipFill>
          <a:blip r:embed="rId3"/>
          <a:stretch/>
        </p:blipFill>
        <p:spPr>
          <a:xfrm>
            <a:off x="395280" y="2133720"/>
            <a:ext cx="2443320" cy="2630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1"/>
          <p:cNvSpPr/>
          <p:nvPr/>
        </p:nvSpPr>
        <p:spPr>
          <a:xfrm>
            <a:off x="392040" y="5011560"/>
            <a:ext cx="23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吸引眼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D9A-C745-427E-B51E-FD56F8AAA4D1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Rectangle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矩形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6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四种颜色构成矩形，矩形对角线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&lt;9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7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0" lang="zh-CN" sz="3700" spc="-1" strike="noStrike">
                <a:solidFill>
                  <a:srgbClr val="c62400"/>
                </a:solidFill>
                <a:latin typeface="文泉驿微米黑"/>
              </a:rPr>
              <a:t>两组</a:t>
            </a:r>
            <a:r>
              <a:rPr b="1" lang="zh-CN" sz="3700" spc="-1" strike="noStrike">
                <a:solidFill>
                  <a:srgbClr val="c62400"/>
                </a:solidFill>
                <a:latin typeface="文泉驿微米黑"/>
              </a:rPr>
              <a:t>互补色</a:t>
            </a: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  构成的色系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8" name="AutoShape 9"/>
          <p:cNvSpPr/>
          <p:nvPr/>
        </p:nvSpPr>
        <p:spPr>
          <a:xfrm>
            <a:off x="3348000" y="4078440"/>
            <a:ext cx="2448000" cy="7189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9" name="AutoShape 10"/>
          <p:cNvSpPr/>
          <p:nvPr/>
        </p:nvSpPr>
        <p:spPr>
          <a:xfrm rot="5400000">
            <a:off x="4139280" y="5041080"/>
            <a:ext cx="865080" cy="520560"/>
          </a:xfrm>
          <a:custGeom>
            <a:avLst/>
            <a:gdLst>
              <a:gd name="textAreaLeft" fmla="*/ 108000 w 865080"/>
              <a:gd name="textAreaRight" fmla="*/ 757080 w 865080"/>
              <a:gd name="textAreaTop" fmla="*/ 129960 h 520560"/>
              <a:gd name="textAreaBottom" fmla="*/ 390600 h 52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0" name="Oval 11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1" name="Oval 12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2" name="Oval 13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3" name="Oval 14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4" name="Oval 15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5" name="Oval 16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66" name="Picture 1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3E1-0587-46F0-B93D-8CF23DA0369B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70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丰富多彩，变化无穷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71" name="Picture 7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672" name="Line 8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3" name="Oval 9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5" name="Oval 11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6" name="Oval 12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7" name="Oval 13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8" name="Oval 14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79" name="Picture 20" descr=""/>
          <p:cNvPicPr/>
          <p:nvPr/>
        </p:nvPicPr>
        <p:blipFill>
          <a:blip r:embed="rId2"/>
          <a:stretch/>
        </p:blipFill>
        <p:spPr>
          <a:xfrm>
            <a:off x="695160" y="1824120"/>
            <a:ext cx="2364120" cy="189216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，注意两条法则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主体色彩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以一种颜色为主体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冷暖平衡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冷色和暖色一定要平衡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DD96-6100-4B3B-A7C9-4E97110AD4F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2" name="Text Box 2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quare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正方形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6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两组互补色构成正方形， 两两之间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7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0" lang="zh-CN" sz="2900" spc="-1" strike="noStrike">
                <a:solidFill>
                  <a:srgbClr val="c62400"/>
                </a:solidFill>
                <a:latin typeface="文泉驿微米黑"/>
              </a:rPr>
              <a:t>四种均匀分布的颜色</a:t>
            </a:r>
            <a:r>
              <a:rPr b="0" lang="zh-CN" sz="2900" spc="-1" strike="noStrike">
                <a:solidFill>
                  <a:srgbClr val="000000"/>
                </a:solidFill>
                <a:latin typeface="文泉驿微米黑"/>
              </a:rPr>
              <a:t> 构成的色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8" name="AutoShape 9"/>
          <p:cNvSpPr/>
          <p:nvPr/>
        </p:nvSpPr>
        <p:spPr>
          <a:xfrm>
            <a:off x="3203640" y="4149720"/>
            <a:ext cx="345600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9" name="AutoShape 9"/>
          <p:cNvSpPr/>
          <p:nvPr/>
        </p:nvSpPr>
        <p:spPr>
          <a:xfrm rot="5400000">
            <a:off x="4497840" y="5041080"/>
            <a:ext cx="865080" cy="520920"/>
          </a:xfrm>
          <a:custGeom>
            <a:avLst/>
            <a:gdLst>
              <a:gd name="textAreaLeft" fmla="*/ 108000 w 865080"/>
              <a:gd name="textAreaRight" fmla="*/ 757080 w 865080"/>
              <a:gd name="textAreaTop" fmla="*/ 130320 h 520920"/>
              <a:gd name="textAreaBottom" fmla="*/ 390960 h 52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1" name="Oval 11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2" name="Oval 12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3" name="Oval 13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4" name="Oval 14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5" name="Oval 15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96" name="Picture 16" descr=""/>
          <p:cNvPicPr/>
          <p:nvPr/>
        </p:nvPicPr>
        <p:blipFill>
          <a:blip r:embed="rId1"/>
          <a:stretch/>
        </p:blipFill>
        <p:spPr>
          <a:xfrm>
            <a:off x="181080" y="1341360"/>
            <a:ext cx="29509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521A-8811-4CA3-B253-F63FA848394B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8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00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丰富多彩，变化无穷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01" name="Picture 5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3" name="Oval 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4" name="Oval 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5" name="Oval 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6" name="Oval 10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7" name="Oval 11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8" name="Oval 12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9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，注意两条法则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主体色彩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以一种颜色为主体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冷暖平衡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冷色和暖色一定要平衡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10" name="Picture 15" descr=""/>
          <p:cNvPicPr/>
          <p:nvPr/>
        </p:nvPicPr>
        <p:blipFill>
          <a:blip r:embed="rId2"/>
          <a:stretch/>
        </p:blipFill>
        <p:spPr>
          <a:xfrm>
            <a:off x="684360" y="1820880"/>
            <a:ext cx="2368440" cy="18954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7"/>
          <p:cNvSpPr/>
          <p:nvPr/>
        </p:nvSpPr>
        <p:spPr>
          <a:xfrm>
            <a:off x="3706920" y="1484280"/>
            <a:ext cx="172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b5"/>
                </a:solidFill>
                <a:latin typeface="文泉驿微米黑"/>
              </a:rPr>
              <a:t>同矩形色系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84F-6692-47BB-84D0-A309B0E9001D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13" name="Picture 9" descr="MP900408894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13"/>
          <p:cNvSpPr/>
          <p:nvPr/>
        </p:nvSpPr>
        <p:spPr>
          <a:xfrm>
            <a:off x="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5098"/>
                </a:srgbClr>
              </a:gs>
              <a:gs pos="100000">
                <a:srgbClr val="ffffff">
                  <a:alpha val="1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8028000" y="0"/>
            <a:ext cx="1116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一切</a:t>
            </a: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都离不开</a:t>
            </a: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色轮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轮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是搭配色彩的基本工具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8" name="Line 7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20" name="Picture 14" descr="图片2"/>
          <p:cNvPicPr/>
          <p:nvPr/>
        </p:nvPicPr>
        <p:blipFill>
          <a:blip r:embed="rId3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4753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文泉驿微米黑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8AE-4955-4199-AD4B-FCEB413FA5A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4883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83ea"/>
                </a:solidFill>
                <a:latin typeface="文泉驿微米黑"/>
              </a:rPr>
              <a:t>Summary</a:t>
            </a:r>
            <a:endParaRPr b="1" lang="en-US" sz="32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561840" y="931680"/>
            <a:ext cx="5473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5a89"/>
                </a:solidFill>
                <a:latin typeface="文泉驿微米黑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5" name="AutoShape 3"/>
          <p:cNvSpPr/>
          <p:nvPr/>
        </p:nvSpPr>
        <p:spPr>
          <a:xfrm>
            <a:off x="468360" y="2060640"/>
            <a:ext cx="8280360" cy="43927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611280" y="1844640"/>
            <a:ext cx="396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通过本教程，我们学习了：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7" name="AutoShape 13"/>
          <p:cNvSpPr/>
          <p:nvPr/>
        </p:nvSpPr>
        <p:spPr>
          <a:xfrm>
            <a:off x="1333440" y="2421000"/>
            <a:ext cx="2448000" cy="120636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3997440" y="2565360"/>
            <a:ext cx="5111640" cy="936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色轮｜色系｜色彩调和｜原色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二次色｜三次色｜暖色｜冷色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中性色｜　明调｜暗调｜灰调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9" name="AutoShape 15"/>
          <p:cNvSpPr/>
          <p:nvPr/>
        </p:nvSpPr>
        <p:spPr>
          <a:xfrm>
            <a:off x="1333440" y="3860640"/>
            <a:ext cx="2448000" cy="122580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0" name="AutoShape 16"/>
          <p:cNvSpPr/>
          <p:nvPr/>
        </p:nvSpPr>
        <p:spPr>
          <a:xfrm>
            <a:off x="3997440" y="4005360"/>
            <a:ext cx="5111640" cy="936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互补色系｜类似色系｜三色系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分割互补色系　｜　矩形色系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　　　　正方形色系　　　　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1" name="AutoShape 17"/>
          <p:cNvSpPr/>
          <p:nvPr/>
        </p:nvSpPr>
        <p:spPr>
          <a:xfrm>
            <a:off x="1333440" y="5445000"/>
            <a:ext cx="2448000" cy="79236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配色的本质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2" name="AutoShape 18"/>
          <p:cNvSpPr/>
          <p:nvPr/>
        </p:nvSpPr>
        <p:spPr>
          <a:xfrm>
            <a:off x="3997440" y="5373720"/>
            <a:ext cx="5111640" cy="936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</a:t>
            </a:r>
            <a:r>
              <a:rPr b="0" lang="zh-CN" sz="2000" spc="-1" strike="noStrike">
                <a:solidFill>
                  <a:srgbClr val="c62400"/>
                </a:solidFill>
                <a:latin typeface="文泉驿微米黑"/>
              </a:rPr>
              <a:t>利用色轮选择合适的色彩调和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</a:t>
            </a:r>
            <a:r>
              <a:rPr b="0" lang="zh-CN" sz="2000" spc="-1" strike="noStrike">
                <a:solidFill>
                  <a:srgbClr val="c62400"/>
                </a:solidFill>
                <a:latin typeface="文泉驿微米黑"/>
              </a:rPr>
              <a:t>使用明暗灰调创建更复杂色系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｜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3" name="Line 19"/>
          <p:cNvSpPr/>
          <p:nvPr/>
        </p:nvSpPr>
        <p:spPr>
          <a:xfrm>
            <a:off x="1332000" y="3789360"/>
            <a:ext cx="6624720" cy="0"/>
          </a:xfrm>
          <a:prstGeom prst="line">
            <a:avLst/>
          </a:prstGeom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4" name="Line 20"/>
          <p:cNvSpPr/>
          <p:nvPr/>
        </p:nvSpPr>
        <p:spPr>
          <a:xfrm>
            <a:off x="1332000" y="5229360"/>
            <a:ext cx="6624720" cy="0"/>
          </a:xfrm>
          <a:prstGeom prst="line">
            <a:avLst/>
          </a:prstGeom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5" name=""/>
          <p:cNvSpPr/>
          <p:nvPr/>
        </p:nvSpPr>
        <p:spPr>
          <a:xfrm>
            <a:off x="1044720" y="645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使用规范说明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文泉驿微米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文泉驿微米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文泉驿微米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文泉驿微米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文泉驿微米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文泉驿微米黑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552-63DA-402A-81AA-9187AA25C67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作用于人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58" name="Picture 9" descr="MP910221005"/>
          <p:cNvPicPr/>
          <p:nvPr/>
        </p:nvPicPr>
        <p:blipFill>
          <a:blip r:embed="rId1"/>
          <a:stretch/>
        </p:blipFill>
        <p:spPr>
          <a:xfrm>
            <a:off x="395280" y="1125360"/>
            <a:ext cx="5256360" cy="402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MP900443054"/>
          <p:cNvPicPr/>
          <p:nvPr/>
        </p:nvPicPr>
        <p:blipFill>
          <a:blip r:embed="rId2"/>
          <a:stretch/>
        </p:blipFill>
        <p:spPr>
          <a:xfrm>
            <a:off x="5641920" y="1484280"/>
            <a:ext cx="2459160" cy="3672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1116000" y="544500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让人活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724360" y="5445000"/>
            <a:ext cx="23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让人沉静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9CE-1CBB-438B-B0CF-C4E7D6522DC0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正确搭配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67" name="Picture 18" descr="200821ORtQoXNI186yekm"/>
          <p:cNvPicPr/>
          <p:nvPr/>
        </p:nvPicPr>
        <p:blipFill>
          <a:blip r:embed="rId1"/>
          <a:stretch/>
        </p:blipFill>
        <p:spPr>
          <a:xfrm>
            <a:off x="395280" y="1773360"/>
            <a:ext cx="3816360" cy="3190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P900444049"/>
          <p:cNvPicPr/>
          <p:nvPr/>
        </p:nvPicPr>
        <p:blipFill>
          <a:blip r:embed="rId2"/>
          <a:stretch/>
        </p:blipFill>
        <p:spPr>
          <a:xfrm>
            <a:off x="4932360" y="1773360"/>
            <a:ext cx="3814920" cy="3195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"/>
          <p:cNvSpPr/>
          <p:nvPr/>
        </p:nvSpPr>
        <p:spPr>
          <a:xfrm>
            <a:off x="395280" y="5049720"/>
            <a:ext cx="381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营造优雅的气氛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4932360" y="5049720"/>
            <a:ext cx="381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描摹多彩的青春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D5E-9294-4FF2-8C47-04EE5246E62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73" name="Picture 10" descr="slide0349_image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彩只要</a:t>
            </a:r>
            <a:r>
              <a:rPr b="1" lang="zh-CN" sz="4000" spc="-1" strike="noStrike">
                <a:solidFill>
                  <a:srgbClr val="c62400"/>
                </a:solidFill>
                <a:latin typeface="文泉驿微米黑"/>
              </a:rPr>
              <a:t>有效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运用， 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就会成为</a:t>
            </a:r>
            <a:r>
              <a:rPr b="1" lang="zh-CN" sz="3600" spc="-1" strike="noStrike">
                <a:solidFill>
                  <a:srgbClr val="c62400"/>
                </a:solidFill>
                <a:latin typeface="文泉驿微米黑"/>
              </a:rPr>
              <a:t>最给力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的设计元素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77" name="Picture 22" descr="图片2"/>
          <p:cNvPicPr/>
          <p:nvPr/>
        </p:nvPicPr>
        <p:blipFill>
          <a:blip r:embed="rId2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175D-7CDF-4C49-B217-649655EBA8AB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2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561840" y="931680"/>
            <a:ext cx="5473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色　轮</a:t>
            </a: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1" name="AutoShape 25"/>
          <p:cNvSpPr/>
          <p:nvPr/>
        </p:nvSpPr>
        <p:spPr>
          <a:xfrm>
            <a:off x="262728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调和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１２色轮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　　轮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14DA-B849-4FB8-A25C-DCE054A3FA48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4" name="AutoShape 22"/>
          <p:cNvSpPr/>
          <p:nvPr/>
        </p:nvSpPr>
        <p:spPr>
          <a:xfrm rot="20770800">
            <a:off x="4625640" y="5446800"/>
            <a:ext cx="585720" cy="287280"/>
          </a:xfrm>
          <a:prstGeom prst="rtTriangl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5" name="Rectangle 23"/>
          <p:cNvSpPr/>
          <p:nvPr/>
        </p:nvSpPr>
        <p:spPr>
          <a:xfrm rot="21144000">
            <a:off x="5599080" y="5214600"/>
            <a:ext cx="2808360" cy="4316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6" name="AutoShape 21"/>
          <p:cNvSpPr/>
          <p:nvPr/>
        </p:nvSpPr>
        <p:spPr>
          <a:xfrm rot="20770800">
            <a:off x="4625640" y="4165560"/>
            <a:ext cx="585720" cy="287280"/>
          </a:xfrm>
          <a:prstGeom prst="rtTriangl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7" name="Rectangle 18"/>
          <p:cNvSpPr/>
          <p:nvPr/>
        </p:nvSpPr>
        <p:spPr>
          <a:xfrm rot="21144000">
            <a:off x="5599080" y="3933360"/>
            <a:ext cx="2808360" cy="4320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7636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　轮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468360" y="263844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96720" y="1546200"/>
            <a:ext cx="856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62400"/>
                </a:solidFill>
                <a:latin typeface="文泉驿微米黑"/>
              </a:rPr>
              <a:t>色轮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：色彩排成的圆环，是 </a:t>
            </a:r>
            <a:r>
              <a:rPr b="0" lang="zh-CN" sz="3000" spc="-1" strike="noStrike">
                <a:solidFill>
                  <a:srgbClr val="c62400"/>
                </a:solidFill>
                <a:latin typeface="文泉驿微米黑"/>
              </a:rPr>
              <a:t>搭配色彩 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的基本工具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572000" y="3646440"/>
            <a:ext cx="72072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b5"/>
                </a:solidFill>
                <a:latin typeface="文泉驿微米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5508720" y="3646440"/>
            <a:ext cx="3095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选择一组色彩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572000" y="4940280"/>
            <a:ext cx="72072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b5"/>
                </a:solidFill>
                <a:latin typeface="文泉驿微米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5508720" y="4940280"/>
            <a:ext cx="3095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构建</a:t>
            </a:r>
            <a:r>
              <a:rPr b="1" lang="zh-CN" sz="36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5129280" y="1484280"/>
            <a:ext cx="157464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4456080" y="3286080"/>
            <a:ext cx="4292640" cy="2735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7" name="AutoShape 17"/>
          <p:cNvSpPr/>
          <p:nvPr/>
        </p:nvSpPr>
        <p:spPr>
          <a:xfrm rot="5400000">
            <a:off x="5483880" y="2435760"/>
            <a:ext cx="865080" cy="689040"/>
          </a:xfrm>
          <a:custGeom>
            <a:avLst/>
            <a:gdLst>
              <a:gd name="textAreaLeft" fmla="*/ 108000 w 865080"/>
              <a:gd name="textAreaRight" fmla="*/ 757080 w 865080"/>
              <a:gd name="textAreaTop" fmla="*/ 172080 h 689040"/>
              <a:gd name="textAreaBottom" fmla="*/ 516960 h 689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Color wheel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2" name=""/>
          <p:cNvSpPr/>
          <p:nvPr/>
        </p:nvSpPr>
        <p:spPr>
          <a:xfrm>
            <a:off x="65469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文泉驿微米黑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4:36:29Z</dcterms:created>
  <dc:creator>GWYan</dc:creator>
  <dc:description>制作工具：PowerPoint 2003
模　　板：自行制作
字　　体：文泉驿微米黑
配　　色：分割互补色系，3色(RGB 0,192,168背景装饰，RGB 198,36,0强调文本，RGB 198,135,0标题文本)，文本色为黑色
配色软件：ColorBase
</dc:description>
  <dc:language>en-US</dc:language>
  <cp:lastModifiedBy>本本</cp:lastModifiedBy>
  <dcterms:modified xsi:type="dcterms:W3CDTF">2015-01-10T07:53:23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语言">
    <vt:lpwstr>ddd</vt:lpwstr>
  </property>
</Properties>
</file>