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440" y="66636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4840" y="3181320"/>
            <a:ext cx="3353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400" y="4343400"/>
            <a:ext cx="5896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圣诞节圣诞球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4327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"/>
          <p:cNvSpPr/>
          <p:nvPr/>
        </p:nvSpPr>
        <p:spPr>
          <a:xfrm>
            <a:off x="2145600" y="640080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a40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Nick</cp:lastModifiedBy>
  <dcterms:modified xsi:type="dcterms:W3CDTF">2015-01-10T09:22:16Z</dcterms:modified>
  <cp:revision>63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