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C9DC-0EB0-4BE4-9191-654F7B9BB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7F74-6641-4DA9-A153-9FF1B0077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845B-5E7F-4C4E-B99C-2844F3314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D01B-7919-4195-9199-C491D1FD6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CFAC-D7D5-4251-8CA5-2CD91D436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2891-3579-4159-807A-C2E24AE9A3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3144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23080" y="112500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73980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3144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23080" y="3870720"/>
            <a:ext cx="2467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81DB-4E4A-4E0E-B73F-ACEBE5A23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5A61-0F6A-45A3-9805-EB08BB774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66800" y="43344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5754-B72F-45B1-A3CB-0C823B335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FA21-27FB-468B-AEB1-6AB339668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87072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80E4-D128-48BA-ACBC-057DACC11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125000"/>
            <a:ext cx="37400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3870720"/>
            <a:ext cx="7664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7EC3-90CA-4049-B769-C1D32710B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72440" cy="6877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39800" y="1125000"/>
            <a:ext cx="7664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797E750-EFB9-42C5-B232-8954B9FD453F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38360" y="4381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7244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76360" y="355392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>
            <a:hlinkClick r:id="rId5"/>
          </p:cNvPr>
          <p:cNvSpPr/>
          <p:nvPr/>
        </p:nvSpPr>
        <p:spPr>
          <a:xfrm>
            <a:off x="2368800" y="422028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87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1"/>
          </p:cNvPr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2"/>
          </p:cNvPr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中国专业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>
            <a:hlinkClick r:id="rId13"/>
          </p:cNvPr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>
            <a:hlinkClick r:id="rId1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>
            <a:hlinkClick r:id="rId15"/>
          </p:cNvPr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6"/>
          </p:cNvPr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99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349080" y="1486080"/>
              <a:ext cx="0" cy="576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76360" y="209088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圣诞快乐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完整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274920" y="31698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24800" y="6248520"/>
            <a:ext cx="228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i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66800" y="43344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4120" y="1341000"/>
            <a:ext cx="76662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6727-BE70-428B-8D9B-623EE1B8E10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9360" y="-4680"/>
            <a:ext cx="9172440" cy="68770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468360" y="3673440"/>
            <a:ext cx="465912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982F-D245-4EDE-A64E-D7999921E4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6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99c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99c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99c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D1FF-1F02-4565-975F-9E160C0993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10T09:12:51Z</dcterms:modified>
  <cp:revision>1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