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603-03F6-4FF7-8D5E-9028B90D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45B-8001-4407-A502-CD74F3EA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3E2-F53F-45CD-9289-B8E85F1C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D9C-ED62-43E4-873D-2E54A2D7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300-C01C-46CF-AA9A-B480381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AA0-01A5-4396-8EA6-06DF62EC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730-9FDE-4ED1-896A-16DDDD5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E48-5686-40EE-98F5-DE0A132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FAE-56D7-4FAF-990C-47F8230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946-BF6A-4C4C-82E9-23D661C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01F-80D4-4340-97BE-EA3B7FB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491-D356-46CD-8344-854BEF6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8AB7-4491-4265-8ED8-9BED287EE14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07F3-D59D-431C-A14A-03F4A654DA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28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圣诞老人卡通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78592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41320" y="6454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7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28:00Z</dcterms:created>
  <dc:creator>Moyea Software</dc:creator>
  <dc:description>Made by Moyea Software. To find more free PowerPoint templates, please visit http://www.dvd-ppt-slideshow.com/powerpoint-knowledge/powerpoint-templates.html</dc:description>
  <cp:keywords>Christmas free PowerPoint template download PPT template PowerPoint templates slideshow template POT POTX Power Point template slide show template</cp:keywords>
  <dc:language>en-US</dc:language>
  <cp:lastModifiedBy>Administrator</cp:lastModifiedBy>
  <dcterms:modified xsi:type="dcterms:W3CDTF">2015-01-10T08:48:22Z</dcterms:modified>
  <cp:revision>1</cp:revision>
  <dc:subject>Christmas PowerPoint Template</dc:subject>
  <dc:title>Moyea Free Christmas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