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17EA-3532-4113-B17E-A77EA5A6BC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423D-6BD8-408D-BDF9-1F6B7B3E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4B96-8128-4C6C-A499-02F793CD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2907-1ED6-4EC9-B714-87A27F2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C8A2-4995-440E-B9AA-ECC944DF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A81C-49D9-4BD7-ACF8-AE5673FF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156B-4C88-494C-B1D2-248E3159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65AD-E385-4F2B-A899-7FCFFF5B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F41C-8F02-41A5-A0D5-60B5A96B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681F-7A6E-4204-9A5F-D3BF52B2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C99D-FE8E-482B-8A4C-BDF31FD2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F5FC-D7E7-4B03-82A2-E9F825217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2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166760" cy="129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 rot="3915000">
            <a:off x="8210880" y="366480"/>
            <a:ext cx="771480" cy="7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9960" y="2060280"/>
            <a:ext cx="59720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6964-E543-4A25-8858-252B8A60D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9960" y="2060280"/>
            <a:ext cx="59720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圣诞礼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06880" y="2852640"/>
            <a:ext cx="496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2680" y="6021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8892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10T08:54:12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