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CC5-7CD1-4EC1-B90D-58D174A8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4BA-E9E7-488B-9D0E-FF67CFAC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6CB-9332-4071-8CC9-CB2E5A37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46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1236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46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1236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51E-EA2C-44B6-9FEA-78830437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91C4-B876-49C1-B91D-4F0BE2EB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4552-1080-40EB-9F1A-181A490D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0C4-FE2B-47AC-B33B-3D7D967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DD1C-33F9-46D7-BFB7-77103AE8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703A-26B3-4587-B0E5-B86A88D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3FAB-41F5-4CA0-96D9-6D91EC73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80EE-1B72-4C06-AD71-88C87BE7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750-E1A3-4B10-A556-819035C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82A4-5378-4EB7-94BE-1A7C968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D0E9-F2AF-40A1-9D10-9BFE7204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8489-43B2-44B7-A7ED-1AE0A59F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0D64-5A45-4F45-8037-D0833D78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460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2360" y="170028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460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2360" y="40644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1E60-C740-4111-96D8-07FEDA85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03C-45D2-453D-8BB0-8576C57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202-EA8B-44FD-A673-65F36E98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92B-2360-446E-B224-1825222B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EA4-77A5-45D6-B57E-17E6944A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0C4-9C6C-4D1F-8B69-03F04CD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7040" y="40644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B75-0BE6-4CF2-9559-6703A2C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B31-42D2-4F86-8ADE-71ADFC8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3.png"/><Relationship Id="rId18" Type="http://schemas.openxmlformats.org/officeDocument/2006/relationships/image" Target="../media/image6.png"/><Relationship Id="rId19" Type="http://schemas.openxmlformats.org/officeDocument/2006/relationships/image" Target="../media/image3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E4BA-02C2-4B69-8990-0C5B21F49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未知"/>
          <p:cNvSpPr/>
          <p:nvPr/>
        </p:nvSpPr>
        <p:spPr>
          <a:xfrm rot="10800000">
            <a:off x="0" y="-360"/>
            <a:ext cx="9144000" cy="1989000"/>
          </a:xfrm>
          <a:custGeom>
            <a:avLst/>
            <a:gdLst/>
            <a:ahLst/>
            <a:rect l="l" t="t" r="r" b="b"/>
            <a:pathLst>
              <a:path w="1987" h="793">
                <a:moveTo>
                  <a:pt x="0" y="241"/>
                </a:moveTo>
                <a:cubicBezTo>
                  <a:pt x="0" y="793"/>
                  <a:pt x="0" y="793"/>
                  <a:pt x="0" y="793"/>
                </a:cubicBezTo>
                <a:cubicBezTo>
                  <a:pt x="1987" y="793"/>
                  <a:pt x="1987" y="793"/>
                  <a:pt x="1987" y="793"/>
                </a:cubicBezTo>
                <a:cubicBezTo>
                  <a:pt x="1987" y="3"/>
                  <a:pt x="1987" y="3"/>
                  <a:pt x="1987" y="3"/>
                </a:cubicBezTo>
                <a:cubicBezTo>
                  <a:pt x="1987" y="0"/>
                  <a:pt x="1987" y="0"/>
                  <a:pt x="1987" y="0"/>
                </a:cubicBezTo>
                <a:cubicBezTo>
                  <a:pt x="1987" y="0"/>
                  <a:pt x="1662" y="293"/>
                  <a:pt x="767" y="321"/>
                </a:cubicBezTo>
                <a:cubicBezTo>
                  <a:pt x="767" y="321"/>
                  <a:pt x="170" y="325"/>
                  <a:pt x="0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4005360"/>
            <a:ext cx="8785080" cy="2852640"/>
            <a:chOff x="250920" y="4005360"/>
            <a:chExt cx="8785080" cy="285264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2484360" y="566100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8615520" y="400536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250920" y="522936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3851280" y="643752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1042920" y="617724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5735880" y="4880160"/>
              <a:ext cx="42048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9"/>
            <a:stretch/>
          </p:blipFill>
          <p:spPr>
            <a:xfrm>
              <a:off x="4511880" y="552924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10"/>
            <a:stretch/>
          </p:blipFill>
          <p:spPr>
            <a:xfrm>
              <a:off x="8388360" y="623736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1"/>
            <a:stretch/>
          </p:blipFill>
          <p:spPr>
            <a:xfrm>
              <a:off x="7607520" y="58165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" descr=""/>
            <p:cNvPicPr/>
            <p:nvPr/>
          </p:nvPicPr>
          <p:blipFill>
            <a:blip r:embed="rId12"/>
            <a:stretch/>
          </p:blipFill>
          <p:spPr>
            <a:xfrm>
              <a:off x="7464600" y="48085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" descr=""/>
            <p:cNvPicPr/>
            <p:nvPr/>
          </p:nvPicPr>
          <p:blipFill>
            <a:blip r:embed="rId13"/>
            <a:stretch/>
          </p:blipFill>
          <p:spPr>
            <a:xfrm>
              <a:off x="6228000" y="616608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" name=""/>
          <p:cNvGrpSpPr/>
          <p:nvPr/>
        </p:nvGrpSpPr>
        <p:grpSpPr>
          <a:xfrm>
            <a:off x="1022400" y="1150920"/>
            <a:ext cx="453960" cy="474840"/>
            <a:chOff x="1022400" y="1150920"/>
            <a:chExt cx="453960" cy="474840"/>
          </a:xfrm>
        </p:grpSpPr>
        <p:pic>
          <p:nvPicPr>
            <p:cNvPr id="18" name="" descr=""/>
            <p:cNvPicPr/>
            <p:nvPr/>
          </p:nvPicPr>
          <p:blipFill>
            <a:blip r:embed="rId14"/>
            <a:stretch/>
          </p:blipFill>
          <p:spPr>
            <a:xfrm>
              <a:off x="1022400" y="1150920"/>
              <a:ext cx="45396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" descr=""/>
            <p:cNvPicPr/>
            <p:nvPr/>
          </p:nvPicPr>
          <p:blipFill>
            <a:blip r:embed="rId15"/>
            <a:stretch/>
          </p:blipFill>
          <p:spPr>
            <a:xfrm>
              <a:off x="1112760" y="1210320"/>
              <a:ext cx="277920" cy="2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" name="" descr=""/>
          <p:cNvPicPr/>
          <p:nvPr/>
        </p:nvPicPr>
        <p:blipFill>
          <a:blip r:embed="rId16"/>
          <a:srcRect l="0" t="35120" r="0" b="0"/>
          <a:stretch/>
        </p:blipFill>
        <p:spPr>
          <a:xfrm>
            <a:off x="7164360" y="0"/>
            <a:ext cx="1746360" cy="194472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482760" y="1054080"/>
            <a:ext cx="504720" cy="528480"/>
            <a:chOff x="482760" y="1054080"/>
            <a:chExt cx="504720" cy="528480"/>
          </a:xfrm>
        </p:grpSpPr>
        <p:pic>
          <p:nvPicPr>
            <p:cNvPr id="23" name="" descr=""/>
            <p:cNvPicPr/>
            <p:nvPr/>
          </p:nvPicPr>
          <p:blipFill>
            <a:blip r:embed="rId17"/>
            <a:stretch/>
          </p:blipFill>
          <p:spPr>
            <a:xfrm>
              <a:off x="482760" y="1054080"/>
              <a:ext cx="50472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" descr=""/>
            <p:cNvPicPr/>
            <p:nvPr/>
          </p:nvPicPr>
          <p:blipFill>
            <a:blip r:embed="rId18"/>
            <a:stretch/>
          </p:blipFill>
          <p:spPr>
            <a:xfrm>
              <a:off x="594720" y="1132560"/>
              <a:ext cx="287280" cy="30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" name=""/>
          <p:cNvGrpSpPr/>
          <p:nvPr/>
        </p:nvGrpSpPr>
        <p:grpSpPr>
          <a:xfrm>
            <a:off x="193680" y="1243080"/>
            <a:ext cx="574560" cy="601560"/>
            <a:chOff x="193680" y="1243080"/>
            <a:chExt cx="574560" cy="601560"/>
          </a:xfrm>
        </p:grpSpPr>
        <p:pic>
          <p:nvPicPr>
            <p:cNvPr id="26" name="" descr=""/>
            <p:cNvPicPr/>
            <p:nvPr/>
          </p:nvPicPr>
          <p:blipFill>
            <a:blip r:embed="rId19"/>
            <a:stretch/>
          </p:blipFill>
          <p:spPr>
            <a:xfrm>
              <a:off x="193680" y="1243080"/>
              <a:ext cx="57456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" descr=""/>
            <p:cNvPicPr/>
            <p:nvPr/>
          </p:nvPicPr>
          <p:blipFill>
            <a:blip r:embed="rId20"/>
            <a:stretch/>
          </p:blipFill>
          <p:spPr>
            <a:xfrm>
              <a:off x="321120" y="1332360"/>
              <a:ext cx="326880" cy="342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未知"/>
          <p:cNvSpPr/>
          <p:nvPr/>
        </p:nvSpPr>
        <p:spPr>
          <a:xfrm>
            <a:off x="0" y="-1440"/>
            <a:ext cx="9137520" cy="6370560"/>
          </a:xfrm>
          <a:custGeom>
            <a:avLst/>
            <a:gdLst/>
            <a:ahLst/>
            <a:rect l="l" t="t" r="r" b="b"/>
            <a:pathLst>
              <a:path w="1990" h="1178">
                <a:moveTo>
                  <a:pt x="1990" y="626"/>
                </a:moveTo>
                <a:cubicBezTo>
                  <a:pt x="1990" y="0"/>
                  <a:pt x="1990" y="0"/>
                  <a:pt x="199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8"/>
                  <a:pt x="0" y="898"/>
                  <a:pt x="0" y="898"/>
                </a:cubicBezTo>
                <a:cubicBezTo>
                  <a:pt x="0" y="898"/>
                  <a:pt x="1049" y="1178"/>
                  <a:pt x="1990" y="626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0" y="3222720"/>
            <a:ext cx="9144000" cy="3633840"/>
          </a:xfrm>
          <a:custGeom>
            <a:avLst/>
            <a:gdLst/>
            <a:ahLst/>
            <a:rect l="l" t="t" r="r" b="b"/>
            <a:pathLst>
              <a:path w="1987" h="793">
                <a:moveTo>
                  <a:pt x="0" y="241"/>
                </a:moveTo>
                <a:cubicBezTo>
                  <a:pt x="0" y="793"/>
                  <a:pt x="0" y="793"/>
                  <a:pt x="0" y="793"/>
                </a:cubicBezTo>
                <a:cubicBezTo>
                  <a:pt x="1987" y="793"/>
                  <a:pt x="1987" y="793"/>
                  <a:pt x="1987" y="793"/>
                </a:cubicBezTo>
                <a:cubicBezTo>
                  <a:pt x="1987" y="3"/>
                  <a:pt x="1987" y="3"/>
                  <a:pt x="1987" y="3"/>
                </a:cubicBezTo>
                <a:cubicBezTo>
                  <a:pt x="1987" y="0"/>
                  <a:pt x="1987" y="0"/>
                  <a:pt x="1987" y="0"/>
                </a:cubicBezTo>
                <a:cubicBezTo>
                  <a:pt x="1987" y="0"/>
                  <a:pt x="1662" y="293"/>
                  <a:pt x="767" y="321"/>
                </a:cubicBezTo>
                <a:cubicBezTo>
                  <a:pt x="767" y="321"/>
                  <a:pt x="170" y="325"/>
                  <a:pt x="0" y="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00280"/>
            <a:ext cx="9144000" cy="223200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3672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7E29-A1EF-4D55-8FE7-4AE88691F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615520" y="400536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50920" y="522936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8459640" y="530064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508720" y="573408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403280" y="522936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119160" y="645336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2050920" y="658188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588000" y="658188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1042920" y="602136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4356000" y="5373720"/>
            <a:ext cx="420840" cy="42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51280" y="638172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5796000" y="501336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7020000" y="581652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6"/>
          <a:stretch/>
        </p:blipFill>
        <p:spPr>
          <a:xfrm>
            <a:off x="7667640" y="479736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7"/>
          <a:stretch/>
        </p:blipFill>
        <p:spPr>
          <a:xfrm>
            <a:off x="8459640" y="6237360"/>
            <a:ext cx="420840" cy="420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8"/>
          <a:stretch/>
        </p:blipFill>
        <p:spPr>
          <a:xfrm>
            <a:off x="5796000" y="609300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9"/>
          <a:stretch/>
        </p:blipFill>
        <p:spPr>
          <a:xfrm>
            <a:off x="2351160" y="552924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0"/>
          <a:stretch/>
        </p:blipFill>
        <p:spPr>
          <a:xfrm>
            <a:off x="3143160" y="6093000"/>
            <a:ext cx="276480" cy="276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7236000" y="452124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2"/>
          <a:stretch/>
        </p:blipFill>
        <p:spPr>
          <a:xfrm>
            <a:off x="574560" y="0"/>
            <a:ext cx="3997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3672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圣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055960" y="3006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3:22:40Z</dcterms:created>
  <dc:creator/>
  <dc:description/>
  <dc:language>en-US</dc:language>
  <cp:lastModifiedBy>Sunny </cp:lastModifiedBy>
  <dcterms:modified xsi:type="dcterms:W3CDTF">2015-01-10T09:27:5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