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3D03D-9790-47A5-8E09-E92CCB87E0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5000" y="208080"/>
            <a:ext cx="64706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072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579120"/>
            <a:ext cx="82072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BD468-9EED-43E7-A638-7DA9102AB9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5000" y="208080"/>
            <a:ext cx="64706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40050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907920"/>
            <a:ext cx="40050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579120"/>
            <a:ext cx="40050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579120"/>
            <a:ext cx="40050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A3ACD-2459-4116-9AC3-7DC845F200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5000" y="208080"/>
            <a:ext cx="64706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26424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907920"/>
            <a:ext cx="26424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907920"/>
            <a:ext cx="26424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579120"/>
            <a:ext cx="26424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579120"/>
            <a:ext cx="26424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579120"/>
            <a:ext cx="26424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8A438-9B9A-4215-B2C4-A3C4E52DC6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05000" y="208080"/>
            <a:ext cx="64706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20728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5000" y="208080"/>
            <a:ext cx="64706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072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5000" y="208080"/>
            <a:ext cx="64706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4005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880" y="907920"/>
            <a:ext cx="4005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05000" y="208080"/>
            <a:ext cx="64706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05000" y="208080"/>
            <a:ext cx="647064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5000" y="208080"/>
            <a:ext cx="64706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40050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880" y="907920"/>
            <a:ext cx="4005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579120"/>
            <a:ext cx="40050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5000" y="208080"/>
            <a:ext cx="64706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20728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ADAF0-8BFF-4828-9ADB-A3BD41F7C8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05000" y="208080"/>
            <a:ext cx="64706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4005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907920"/>
            <a:ext cx="40050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880" y="3579120"/>
            <a:ext cx="40050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05000" y="208080"/>
            <a:ext cx="64706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40050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907920"/>
            <a:ext cx="40050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579120"/>
            <a:ext cx="82072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05000" y="208080"/>
            <a:ext cx="64706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072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579120"/>
            <a:ext cx="82072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05000" y="208080"/>
            <a:ext cx="64706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40050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880" y="907920"/>
            <a:ext cx="40050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579120"/>
            <a:ext cx="40050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880" y="3579120"/>
            <a:ext cx="40050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05000" y="208080"/>
            <a:ext cx="64706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26424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3240" y="907920"/>
            <a:ext cx="26424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8120" y="907920"/>
            <a:ext cx="26424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579120"/>
            <a:ext cx="26424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3240" y="3579120"/>
            <a:ext cx="26424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8120" y="3579120"/>
            <a:ext cx="26424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5000" y="208080"/>
            <a:ext cx="64706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072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741CB-E019-48E3-8881-8164A2B7A3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5000" y="208080"/>
            <a:ext cx="64706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4005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907920"/>
            <a:ext cx="4005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73CC5-4F8D-4300-853C-F6F963B52F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5000" y="208080"/>
            <a:ext cx="64706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C9B40-E144-4488-A813-C1172661C5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5000" y="208080"/>
            <a:ext cx="647064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09F9E-7409-4210-9E6C-32C054896B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5000" y="208080"/>
            <a:ext cx="64706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40050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907920"/>
            <a:ext cx="4005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579120"/>
            <a:ext cx="40050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F5886-4565-49C8-8E55-DA851512F2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5000" y="208080"/>
            <a:ext cx="64706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4005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907920"/>
            <a:ext cx="40050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579120"/>
            <a:ext cx="40050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52924-6B35-4394-993F-6FF2044A1D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5000" y="208080"/>
            <a:ext cx="64706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40050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907920"/>
            <a:ext cx="40050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579120"/>
            <a:ext cx="82072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55763-1AA7-4713-BB27-4822850E55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907920"/>
            <a:ext cx="82072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细黑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细黑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细黑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细黑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细黑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细黑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细黑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092720" y="63273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页数 </a:t>
            </a:r>
            <a:fld id="{5A932F06-A72A-40E4-9DB3-A1DDCCDA55C1}" type="slidenum">
              <a:rPr b="1" i="1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2205000" y="208080"/>
            <a:ext cx="64706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468360" y="115920"/>
            <a:ext cx="2975040" cy="90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76360" y="2060640"/>
            <a:ext cx="53989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华文细黑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细黑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华文细黑"/>
            </a:endParaRPr>
          </a:p>
          <a:p>
            <a:pPr lvl="2" marL="914400" algn="ctr">
              <a:spcBef>
                <a:spcPts val="349"/>
              </a:spcBef>
              <a:buClr>
                <a:srgbClr val="ffffff"/>
              </a:buClr>
              <a:buFont typeface="华文细黑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</a:rPr>
              <a:t>Third Outline Level</a:t>
            </a:r>
            <a:endParaRPr b="0" lang="en-US" sz="1400" spc="-1" strike="noStrike">
              <a:solidFill>
                <a:srgbClr val="ffffff"/>
              </a:solidFill>
              <a:latin typeface="华文细黑"/>
            </a:endParaRPr>
          </a:p>
          <a:p>
            <a:pPr lvl="3" marL="1371600" algn="ctr">
              <a:spcBef>
                <a:spcPts val="300"/>
              </a:spcBef>
              <a:buClr>
                <a:srgbClr val="ffffff"/>
              </a:buClr>
              <a:buFont typeface="华文细黑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细黑"/>
              </a:rPr>
              <a:t>Fourth Outline Level</a:t>
            </a:r>
            <a:endParaRPr b="0" lang="en-US" sz="1200" spc="-1" strike="noStrike">
              <a:solidFill>
                <a:srgbClr val="ffffff"/>
              </a:solidFill>
              <a:latin typeface="华文细黑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76360" y="2290320"/>
            <a:ext cx="5398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</a:rPr>
              <a:t>圣诞小雪人</a:t>
            </a:r>
            <a:r>
              <a:rPr b="1" lang="en-US" sz="3200" spc="-1" strike="noStrike">
                <a:solidFill>
                  <a:srgbClr val="ffffff"/>
                </a:solidFill>
                <a:latin typeface="华文细黑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华文细黑"/>
              </a:rPr>
              <a:t>模板</a:t>
            </a:r>
            <a:endParaRPr b="1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274920" y="342864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细黑"/>
              </a:rPr>
              <a:t>单击添加署名或公司信息</a:t>
            </a: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651640" y="404640"/>
            <a:ext cx="2974680" cy="90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05000" y="208080"/>
            <a:ext cx="64706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072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CE8E8-D0D4-4FA5-B5F4-DDF4A57DDD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3780000" y="3176640"/>
            <a:ext cx="497988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3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感谢观赏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您的公司信息（联系方式及落款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651640" y="404640"/>
            <a:ext cx="2974680" cy="90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FF9A5-66DE-44D3-9C70-D91A685D49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使用规范说明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！</a:t>
            </a:r>
            <a:endParaRPr b="0" lang="en-US" sz="1600" spc="-1" strike="noStrike">
              <a:solidFill>
                <a:srgbClr val="ffffff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ffffff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ffffff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ffffff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69B72-11EE-4A24-AB1B-CBA0EB3AB2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10:25:56Z</dcterms:created>
  <dc:creator/>
  <dc:description/>
  <dc:language>en-US</dc:language>
  <cp:lastModifiedBy>小田</cp:lastModifiedBy>
  <dcterms:modified xsi:type="dcterms:W3CDTF">2015-01-10T08:32:50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