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CBF-E7B1-4D9E-9CDD-C0DFBA21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BAD-268E-4C01-92B6-4812A07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3A3-FBC9-49E8-8A40-5BA1AB5D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6D5-098D-4491-A00E-2AA5934C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9B73-0889-44B3-BB7F-40BB488F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BA6-E2DF-49A0-BF2B-D085D1E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F94-11A7-4EFC-9126-A045340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2BBC-23CE-487D-A202-53F97791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48D-7088-4CA2-AA47-15869FD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6BB7-9AF3-4989-B395-AE6766C5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4BA-6CF6-483C-A324-417F48D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302-CD94-4DE4-B4BC-8FFE5135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811E-3833-4B89-9AAF-E0C5402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A4A-533C-48B4-B6DD-A00F2D7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ABDC-FC8C-4939-9EFE-51C37807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EF5-AA34-4B78-A2CE-E76242F4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390-B8C6-4E7F-90EB-FCA5FA48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D78-E0F7-47EC-9487-70CB989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2C4-BA3D-4ECC-890E-5ABCBC6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82A-59CE-4748-B611-AB6BFF0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164-381E-4DC0-880B-2888D135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344-FB06-4B5E-B228-D782E92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CFA-E701-44E0-B7B0-FDB5025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7FB-321A-4C7A-8EC3-D6CAFDF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274-7F6F-4195-B3AA-CE4E52CA0AB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89CF-FD81-46A8-B418-4DAFB07A538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十二生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生肖解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448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猴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九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猴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作动词时指胡闹、瞎弄、捣蛋。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top monkeying about with the TV set !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不 要瞎弄电视机！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一词搭配的词组、习语和俚语很多非常有趣。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t sb’s monkey up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使某人 生气，激怒某人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r last word has really put his monkey up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你最后一句话实在使 他大为生气；又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ke a monkey of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愚弄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 monkey with a long tail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抵押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get the monkey off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戒除吸毒恶习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ve a monkey on one’s back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毒瘾很深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猴：即兴，领导力，机智，聪慧，稳定，忠心，狡诈，自信，用计，愚蠢，饶舌，投机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猴——猴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骨碎补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：有强筋活络、行瘀止血之功效。可适用于关节风湿病、蛀牙痛、小儿疳积、跌打损伤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6448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鸡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十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指首领，头目，神气十足的人，与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组成的词组多姿多彩，如：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of the walk / school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支配别人的人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 cock of the loft / dunghill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在小天地中称王称霸的人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ive like fighting cocke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生活很好，尤指吃得好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- and - bull story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荒诞的故事， 无稽之谈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用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表达的谚语：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t is a sad house where the hen crows louder than the cock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牝 鸡司晨，家之不祥（意指：丈夫软弱而一切由妻子作主的家庭是不会幸福的，当然这是一 种夫权思想）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：弹性，保守，热心，漂亮，坦诚，幽默，傲慢，自炫，夸耀，盲目崇拜，放荡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——鸡血藤：有补血活血、舒筋活络、强筋健骨等功效。适用于血虚衰弱、筋骨疼痛、月经不调、经闭不通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十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狗——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汉语中常用“狗”比喻人，如“忠实走狗”、“看家狗”，成语“狗苟蝇营”、“狗彘不 若”等。在英语中除了喻人外，还有丰富多彩的词组、谚语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作名词时指无赖汉，坏蛋、废物，不受喜爱（或欢迎）的人。有时加形容词修饰可指各 种人，如：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You dirty dog !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你这个坏小子！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lucky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幸运儿；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dumb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沉默不语 的人，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sly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暗中寻欢的人和暗地里偷鸡摸狗的人；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dog in the manger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占着茅坑 不拉屎的人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用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表达的谚语：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 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1. Barking dogs seldom bite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吠犬不咬人（意指：对于高声发出恐吓，或惯于大声吼叫 的人，勿须当真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2. Every dog has his day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凡人皆有得意日（意指：大家都有走运的一天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3. Dog does not eat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同类不相残；同室不操戈。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     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狗：持久，责任，英雄气息，聪颖，可敬，道德感，不安，嘲讽，批评，不善，社交，自以为是，圆滑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狗——狗肾：有补肝肾、强筋骨及祛风湿等功效。可适用腰疼背痛、风湿痛等症。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猪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十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猪——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　在英语中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一词指未阉割的公猪和公野猪，涉及猪的词语有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ig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猪、小猪、野猪）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o g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食用猪）、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ow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牝猪）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wine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猪：旧用法）。十二生肖用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，比喻贪婪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猪：审慎，逸乐，勇敢，文化，真挚，诚实，轻信，重物质，愤怒，犹豫，愚顽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猪——猪犄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鱼腥草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：有清热利湿之效。适用于肺痈、肺结核、痢疾、风热感冒等症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2296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鼠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at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英语中用以比喻讨厌鬼，可耻的人，告密者，密探，破坏罢工的人；美国俚语指新学生、下流女人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当看到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mell a ra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这一词组时，是指人们怀疑在做错某事。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 rat race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则表示激烈的竞争 。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ats desert a sinking ship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（船沉鼠先逃，这一谚语意指那些一遇到危险就争先寻求 安全或一看见困难便躲得老远的人。）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鼠：吸引力，社交能力，影响力，智力，俭省，魅力，紧张，权力欲，赘言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鼠——鼠曲草：有补脾益气，祛风化痰之效。适用于风寒咳嗽、脾虚浮肿、慢性支气管炎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0" y="1987560"/>
            <a:ext cx="4097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牛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涉及“牛”的汉语成语很多，如“对牛弹琴”、“牛蹄之涔”等。英语中涉及“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”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的表 达方式则不多。用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－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yed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形容眼睛大的人；用短语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The black Ox has trod on sb’s foo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表示灾祸已降临到某人头上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：正直，创新，有目的，勤勉，稳定，善言，固执，冷漠，偏见，缓慢，报复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——牛膝：有活血、祛瘀、强筋骨及利尿等功效。适用于经闭不通、难产、腰膝疼痛、下肢风湿痛、尿血、尿道涩痛等症。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0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三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虎——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ig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指凶恶的人，虎狼之徒；英国人指穿制服的马夫；口语中常指比赛的劲敌。中国和东南亚 国家常以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aper tiger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比喻貌似强大而实质虚弱的敌人。词组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ide the tiger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表示以非常不 确定或危险的方式生活。虎：热诚，好运，勇敢，慈善，魅力，权威，冲动，吹嘘，易怒，放纵，不服从，飘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虎——虎杖：有活血行气、祛风除湿之功效。适用于慢性阑尾炎、关节风湿痛、湿疹等症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兔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在英国俚语中，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指坐车不买票的人。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组成的词组有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ke a hare of sb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愚弄 某人。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tart a 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。在讨论中提出枝节问题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例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 start a hare ever time at the meeting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每次讨论你都提出与题无关的问题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英语中有许多关于兔的谚语，如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1. First catch your har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勿谋之过早（意指：不要过于乐观）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. You cannot run with the hare and hunt with hound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不能两面讨好（意指：不要耍 两面派）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兔：机智，谨慎，技巧，长寿，德行，，秘密，业余，过于拘谨，忧郁，自炫，复杂 ，善良，希望，温柔，爱心，美丽，可爱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兔——菟丝子：有补肾固精、养肝明目等功效。可用于肾亏遗精、阳痿、小便频数及两眼昏花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龙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ragon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龙在中国人民的心目中占有崇高的位置，有关龙的成语非常多，且含有褒义。如“龙跃凤 鸣”、“龙骧虎步”等。在外国语言中，赞扬龙的词语非常之少，且含有贬义。如“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ragon”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指凶暴的人，严厉的人，凶恶严格的监护人，凶恶的老妇人（尤指很少给在其看管下姑 娘自由的老妇人）等。为了区别于中国具有吉祥意义的中国龙与恶龙，特将中国龙译为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ong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，发音亦发汉语“龙”之纯正之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龙：力量，热心，成功，胆量，健康，多情，僵直，迷惑，不信任，自夸，不满多言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龙——龙胆草：有解热、清火、解毒、清湿热等功效。适用于急性热病的高热、手足抽搐痉挛及黄疸、胆石症、风火赤眼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05440" cy="381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六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蛇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指冷酷阴险的人，虚伪的人，卑鄙的人；美国俚语指追求和欺骗少女的男子或男阿飞。由 此看到，在英语中，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”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往往含有贬义。如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John’s behavior should him to be a snak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约翰的行为表明他是一个冷酷阴险的人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组成的成语习语、谚语有许多，简举几例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 snake in the grass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潜伏的敌人或危险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o warm a snake in one’s bosom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养虎贻患，姑息坏人。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akd heed of the snake in the grass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草里防蛇。蛇：直觉，睿智，吸引力，机敏，谨慎，同情，掩饰，贪得，奢侈，傲慢，懒惰，孤芳自赏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蛇——蛇莓：有清热凉血之功效。可适用于血热崩漏、乳痈、带状疱疹、毒蛇咬伤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马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七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马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ors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英美国家的人很喜欢马，因此，用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orse”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这个词组成的词组、成语、谚语非常之多，此举几例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1. get on the high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摆架子，目空一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. work like a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辛苦的干活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3. horse doctor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兽医、庸医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4. dark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竞争中出人意料的获胜者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he voters were surprised when the dark horse won the nomination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那个无名小 卒在竞争中获胜时，投票者无不大吃一惊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马：说服力，时尚，自治力，灵敏，受人欢迎，成就，自私，急促，狂妄， 急躁，反抗，自负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   马——马齿苋：有清热解毒、止痢之功效。适用于细菌性痢疾、疮疡热毒、丹毒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羊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八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——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heep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英语中指害羞而忸怩的人，胆小鬼，驯服的人。有关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heep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的谚语不少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1. As well be hanged for a sheep as a lamb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偷羊偷羔都是绞（死）；偷大偷小统是贼 （意指：一不做，二不休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2. There’s a black sheep in every flock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每一羊群里都会有一只黑羊，丑儿子家家有 （意指：每个家里都会有个败家子。）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3. He that makes himself a sheep shall be eaten by the wolf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甘心做绵羊，早晚喂 豹狼（人弱受人欺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4. The sheep who tallks peace with a wolf will soon be mutton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向狼乞求和平， 很快就会变成羊肉（意指，切勿向敌人乞求和平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作名词时指顽童、淘气鬼，猴子似的人，易受欺的人。如：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hat are you doing, you young monkey !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你在干什么呀，小捣蛋鬼！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：发明，奇想，敏感，有礼，毅力，品味，依附，悲观，缺乏远见，不实际，迟缓，担忧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羊——羊蹄草：有解毒杀虫之效。可适用于癣、汗斑、口疮、跌打损伤等症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6:41:21Z</dcterms:created>
  <dc:creator/>
  <dc:description/>
  <dc:language>en-US</dc:language>
  <cp:lastModifiedBy>微软用户</cp:lastModifiedBy>
  <dcterms:modified xsi:type="dcterms:W3CDTF">2015-01-10T09:23:5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