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EE8A-E50E-48A9-8DA3-624F9899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2280"/>
            <a:ext cx="822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F86B-AAAD-4050-AE70-36995C99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228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228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02AF-A39A-46F8-AF5B-A77B2B0F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228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228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228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421D-96DE-4EEB-AD80-D2737918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DCF-A37E-48C9-B639-90FF150F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E45B-6D7E-4EFE-8C41-6C1146DC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1E94-41D0-42CC-AB76-B8FDAD5B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7F7-7B88-4691-A610-DFA1371C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E77E-EE3E-4DDC-BE8B-052EE644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228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ECA3-8083-4CAF-A29D-1E8F83DB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228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89A0-FFBB-42A5-8A17-6AF79EA0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2280"/>
            <a:ext cx="822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C28B-569F-4BE2-815A-D43E6949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粗宋简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00544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00544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00544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6A4F-534C-472A-9291-DA2310824D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533520" y="396720"/>
            <a:ext cx="8138880" cy="53406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0" y="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0" y="477036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1467000" y="1035000"/>
            <a:ext cx="6345000" cy="3375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689120" y="1809720"/>
            <a:ext cx="5765760" cy="1770120"/>
            <a:chOff x="1689120" y="1809720"/>
            <a:chExt cx="5765760" cy="1770120"/>
          </a:xfrm>
        </p:grpSpPr>
        <p:sp>
          <p:nvSpPr>
            <p:cNvPr id="46" name="矩形 1"/>
            <p:cNvSpPr/>
            <p:nvPr/>
          </p:nvSpPr>
          <p:spPr>
            <a:xfrm>
              <a:off x="1689120" y="1809720"/>
              <a:ext cx="5765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f497d"/>
                  </a:solidFill>
                  <a:latin typeface="方正粗宋简体"/>
                  <a:ea typeface="方正粗宋简体"/>
                </a:rPr>
                <a:t>西南财经大学社会工作专业</a:t>
              </a:r>
              <a:br>
                <a:rPr sz="3200"/>
              </a:br>
              <a:r>
                <a:rPr b="0" lang="zh-CN" sz="3200" spc="-1" strike="noStrike">
                  <a:solidFill>
                    <a:srgbClr val="1f497d"/>
                  </a:solidFill>
                  <a:latin typeface="方正粗宋简体"/>
                  <a:ea typeface="方正粗宋简体"/>
                </a:rPr>
                <a:t>瑞泉馨城社区实习汇报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" name="Picture 4" descr=""/>
            <p:cNvPicPr/>
            <p:nvPr/>
          </p:nvPicPr>
          <p:blipFill>
            <a:blip r:embed="rId2"/>
            <a:stretch/>
          </p:blipFill>
          <p:spPr>
            <a:xfrm>
              <a:off x="4017600" y="3016080"/>
              <a:ext cx="1108800" cy="56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/>
          <p:nvPr/>
        </p:nvSpPr>
        <p:spPr>
          <a:xfrm>
            <a:off x="-3240" y="503568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49400"/>
            <a:ext cx="82072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粗宋简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083960"/>
            <a:ext cx="842472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7286760" y="262080"/>
            <a:ext cx="1388880" cy="276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4"/>
          <p:cNvSpPr/>
          <p:nvPr/>
        </p:nvSpPr>
        <p:spPr>
          <a:xfrm>
            <a:off x="541440" y="3325680"/>
            <a:ext cx="82818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5"/>
          <p:cNvSpPr/>
          <p:nvPr/>
        </p:nvSpPr>
        <p:spPr>
          <a:xfrm>
            <a:off x="0" y="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0" y="477036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049640" y="1362240"/>
            <a:ext cx="3036960" cy="2659320"/>
            <a:chOff x="4049640" y="1362240"/>
            <a:chExt cx="3036960" cy="2659320"/>
          </a:xfrm>
        </p:grpSpPr>
        <p:sp>
          <p:nvSpPr>
            <p:cNvPr id="52" name="矩形 7"/>
            <p:cNvSpPr/>
            <p:nvPr/>
          </p:nvSpPr>
          <p:spPr>
            <a:xfrm>
              <a:off x="4049640" y="2098800"/>
              <a:ext cx="30369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社区走访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入户宣传和调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联系合作商家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热线工作人员访谈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4127760" y="1362240"/>
              <a:ext cx="2958840" cy="585000"/>
              <a:chOff x="4127760" y="1362240"/>
              <a:chExt cx="2958840" cy="585000"/>
            </a:xfrm>
          </p:grpSpPr>
          <p:sp>
            <p:nvSpPr>
              <p:cNvPr id="54" name="矩形 8"/>
              <p:cNvSpPr/>
              <p:nvPr/>
            </p:nvSpPr>
            <p:spPr>
              <a:xfrm>
                <a:off x="4353120" y="1362240"/>
                <a:ext cx="1155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1f497d"/>
                    </a:solidFill>
                    <a:latin typeface="方正粗宋简体"/>
                    <a:ea typeface="方正粗宋简体"/>
                  </a:rPr>
                  <a:t>实践内容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直接连接符 12"/>
              <p:cNvSpPr/>
              <p:nvPr/>
            </p:nvSpPr>
            <p:spPr>
              <a:xfrm>
                <a:off x="4127760" y="1947240"/>
                <a:ext cx="2958840" cy="0"/>
              </a:xfrm>
              <a:prstGeom prst="line">
                <a:avLst/>
              </a:prstGeom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6" name=""/>
          <p:cNvGrpSpPr/>
          <p:nvPr/>
        </p:nvGrpSpPr>
        <p:grpSpPr>
          <a:xfrm>
            <a:off x="1781280" y="1362240"/>
            <a:ext cx="1846080" cy="2676240"/>
            <a:chOff x="1781280" y="1362240"/>
            <a:chExt cx="1846080" cy="2676240"/>
          </a:xfrm>
        </p:grpSpPr>
        <p:grpSp>
          <p:nvGrpSpPr>
            <p:cNvPr id="57" name=""/>
            <p:cNvGrpSpPr/>
            <p:nvPr/>
          </p:nvGrpSpPr>
          <p:grpSpPr>
            <a:xfrm>
              <a:off x="1911960" y="1452960"/>
              <a:ext cx="1593000" cy="2494800"/>
              <a:chOff x="1911960" y="1452960"/>
              <a:chExt cx="1593000" cy="2494800"/>
            </a:xfrm>
          </p:grpSpPr>
          <p:pic>
            <p:nvPicPr>
              <p:cNvPr id="58" name="Picture 5" descr="E:\我的咋库\他们的\张学敬实习汇报\实习\实习照片\http_imgloadCAT5XEBL.jpg"/>
              <p:cNvPicPr/>
              <p:nvPr/>
            </p:nvPicPr>
            <p:blipFill>
              <a:blip r:embed="rId1"/>
              <a:stretch/>
            </p:blipFill>
            <p:spPr>
              <a:xfrm>
                <a:off x="1911960" y="1452960"/>
                <a:ext cx="1586880" cy="118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18080" y="2759400"/>
                <a:ext cx="1586880" cy="1188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" name="矩形 21"/>
            <p:cNvSpPr/>
            <p:nvPr/>
          </p:nvSpPr>
          <p:spPr>
            <a:xfrm>
              <a:off x="1781280" y="1362240"/>
              <a:ext cx="1846080" cy="2676240"/>
            </a:xfrm>
            <a:prstGeom prst="rect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5"/>
          <p:cNvSpPr/>
          <p:nvPr/>
        </p:nvSpPr>
        <p:spPr>
          <a:xfrm>
            <a:off x="0" y="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0" y="477036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4049640" y="2098800"/>
            <a:ext cx="362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群众对于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4365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热线的态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商家对于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4365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热线的态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4365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热线的服务情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4365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人员与职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127760" y="1362240"/>
            <a:ext cx="2958840" cy="585720"/>
            <a:chOff x="4127760" y="1362240"/>
            <a:chExt cx="2958840" cy="585720"/>
          </a:xfrm>
        </p:grpSpPr>
        <p:sp>
          <p:nvSpPr>
            <p:cNvPr id="65" name="矩形 8"/>
            <p:cNvSpPr/>
            <p:nvPr/>
          </p:nvSpPr>
          <p:spPr>
            <a:xfrm>
              <a:off x="4436640" y="136224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f497d"/>
                  </a:solidFill>
                  <a:latin typeface="方正粗宋简体"/>
                  <a:ea typeface="方正粗宋简体"/>
                </a:rPr>
                <a:t>现状与思考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直接连接符 12"/>
            <p:cNvSpPr/>
            <p:nvPr/>
          </p:nvSpPr>
          <p:spPr>
            <a:xfrm>
              <a:off x="4127760" y="1947960"/>
              <a:ext cx="295884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781280" y="1362240"/>
            <a:ext cx="1846080" cy="2676240"/>
            <a:chOff x="1781280" y="1362240"/>
            <a:chExt cx="1846080" cy="2676240"/>
          </a:xfrm>
        </p:grpSpPr>
        <p:grpSp>
          <p:nvGrpSpPr>
            <p:cNvPr id="68" name=""/>
            <p:cNvGrpSpPr/>
            <p:nvPr/>
          </p:nvGrpSpPr>
          <p:grpSpPr>
            <a:xfrm>
              <a:off x="1912680" y="1452960"/>
              <a:ext cx="1591200" cy="2494800"/>
              <a:chOff x="1912680" y="1452960"/>
              <a:chExt cx="1591200" cy="2494800"/>
            </a:xfrm>
          </p:grpSpPr>
          <p:pic>
            <p:nvPicPr>
              <p:cNvPr id="69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912680" y="1452960"/>
                <a:ext cx="1585080" cy="118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18800" y="2759400"/>
                <a:ext cx="1585080" cy="1188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" name="矩形 15"/>
            <p:cNvSpPr/>
            <p:nvPr/>
          </p:nvSpPr>
          <p:spPr>
            <a:xfrm>
              <a:off x="1781280" y="1362240"/>
              <a:ext cx="1846080" cy="2676240"/>
            </a:xfrm>
            <a:prstGeom prst="rect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rcRect l="50287" t="0" r="-1476" b="0"/>
          <a:stretch/>
        </p:blipFill>
        <p:spPr>
          <a:xfrm>
            <a:off x="6480" y="-247680"/>
            <a:ext cx="3012840" cy="5870520"/>
          </a:xfrm>
          <a:prstGeom prst="rect">
            <a:avLst/>
          </a:prstGeom>
          <a:ln w="0">
            <a:noFill/>
          </a:ln>
        </p:spPr>
      </p:pic>
      <p:sp>
        <p:nvSpPr>
          <p:cNvPr id="73" name="矩形 2"/>
          <p:cNvSpPr/>
          <p:nvPr/>
        </p:nvSpPr>
        <p:spPr>
          <a:xfrm>
            <a:off x="0" y="0"/>
            <a:ext cx="3914640" cy="5400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0" y="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0" y="477036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3846960" y="2408400"/>
            <a:ext cx="1602720" cy="5814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f497d"/>
                </a:solidFill>
                <a:latin typeface="方正粗宋简体"/>
                <a:ea typeface="方正粗宋简体"/>
              </a:rPr>
              <a:t>我们的建议</a:t>
            </a:r>
            <a:r>
              <a:rPr b="0" lang="zh-CN" sz="1600" spc="-1" strike="noStrike">
                <a:solidFill>
                  <a:srgbClr val="1f497d"/>
                </a:solidFill>
                <a:latin typeface="方正粗宋简体"/>
                <a:ea typeface="方正粗宋简体"/>
              </a:rPr>
              <a:t>（一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40160" y="990720"/>
            <a:ext cx="3216600" cy="1417680"/>
            <a:chOff x="4340160" y="990720"/>
            <a:chExt cx="3216600" cy="1417680"/>
          </a:xfrm>
        </p:grpSpPr>
        <p:sp>
          <p:nvSpPr>
            <p:cNvPr id="78" name="直接连接符 4"/>
            <p:cNvSpPr/>
            <p:nvPr/>
          </p:nvSpPr>
          <p:spPr>
            <a:xfrm flipH="1" flipV="1">
              <a:off x="4340160" y="1530720"/>
              <a:ext cx="307440" cy="8776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直接连接符 12"/>
            <p:cNvSpPr/>
            <p:nvPr/>
          </p:nvSpPr>
          <p:spPr>
            <a:xfrm>
              <a:off x="4340160" y="1530720"/>
              <a:ext cx="111816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14"/>
            <p:cNvSpPr/>
            <p:nvPr/>
          </p:nvSpPr>
          <p:spPr>
            <a:xfrm>
              <a:off x="5585040" y="1350720"/>
              <a:ext cx="546480" cy="45972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f497d"/>
                  </a:solidFill>
                  <a:latin typeface="Calibri"/>
                </a:rPr>
                <a:t>宣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15"/>
            <p:cNvSpPr/>
            <p:nvPr/>
          </p:nvSpPr>
          <p:spPr>
            <a:xfrm>
              <a:off x="6964560" y="990720"/>
              <a:ext cx="592200" cy="36828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多样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Box 16"/>
            <p:cNvSpPr/>
            <p:nvPr/>
          </p:nvSpPr>
          <p:spPr>
            <a:xfrm>
              <a:off x="6964560" y="1401120"/>
              <a:ext cx="592200" cy="36828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生动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17"/>
            <p:cNvSpPr/>
            <p:nvPr/>
          </p:nvSpPr>
          <p:spPr>
            <a:xfrm>
              <a:off x="6964560" y="1800720"/>
              <a:ext cx="592200" cy="36828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集中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直接连接符 20"/>
            <p:cNvSpPr/>
            <p:nvPr/>
          </p:nvSpPr>
          <p:spPr>
            <a:xfrm flipV="1">
              <a:off x="6258600" y="1175400"/>
              <a:ext cx="563400" cy="4060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直接连接符 22"/>
            <p:cNvSpPr/>
            <p:nvPr/>
          </p:nvSpPr>
          <p:spPr>
            <a:xfrm>
              <a:off x="6258600" y="1581480"/>
              <a:ext cx="563400" cy="432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直接连接符 24"/>
            <p:cNvSpPr/>
            <p:nvPr/>
          </p:nvSpPr>
          <p:spPr>
            <a:xfrm>
              <a:off x="6258600" y="1581480"/>
              <a:ext cx="563400" cy="40392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339800" y="2992320"/>
            <a:ext cx="3476520" cy="1470600"/>
            <a:chOff x="4339800" y="2992320"/>
            <a:chExt cx="3476520" cy="1470600"/>
          </a:xfrm>
        </p:grpSpPr>
        <p:sp>
          <p:nvSpPr>
            <p:cNvPr id="88" name="直接连接符 26"/>
            <p:cNvSpPr/>
            <p:nvPr/>
          </p:nvSpPr>
          <p:spPr>
            <a:xfrm flipH="1">
              <a:off x="4339800" y="2992320"/>
              <a:ext cx="307800" cy="87804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直接连接符 29"/>
            <p:cNvSpPr/>
            <p:nvPr/>
          </p:nvSpPr>
          <p:spPr>
            <a:xfrm>
              <a:off x="4340160" y="3870360"/>
              <a:ext cx="111852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33"/>
            <p:cNvSpPr/>
            <p:nvPr/>
          </p:nvSpPr>
          <p:spPr>
            <a:xfrm>
              <a:off x="5601240" y="3555000"/>
              <a:ext cx="592200" cy="64260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f497d"/>
                  </a:solidFill>
                  <a:latin typeface="Calibri"/>
                </a:rPr>
                <a:t>话务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f497d"/>
                  </a:solidFill>
                  <a:latin typeface="Calibri"/>
                </a:rPr>
                <a:t>的培训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6333840" y="3284640"/>
              <a:ext cx="1482480" cy="1178280"/>
              <a:chOff x="6333840" y="3284640"/>
              <a:chExt cx="1482480" cy="1178280"/>
            </a:xfrm>
          </p:grpSpPr>
          <p:sp>
            <p:nvSpPr>
              <p:cNvPr id="92" name="TextBox 34"/>
              <p:cNvSpPr/>
              <p:nvPr/>
            </p:nvSpPr>
            <p:spPr>
              <a:xfrm>
                <a:off x="7086960" y="3284640"/>
                <a:ext cx="729360" cy="368280"/>
              </a:xfrm>
              <a:prstGeom prst="rect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专业技能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TextBox 35"/>
              <p:cNvSpPr/>
              <p:nvPr/>
            </p:nvSpPr>
            <p:spPr>
              <a:xfrm>
                <a:off x="7086960" y="3695040"/>
                <a:ext cx="729360" cy="368280"/>
              </a:xfrm>
              <a:prstGeom prst="rect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生活问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TextBox 36"/>
              <p:cNvSpPr/>
              <p:nvPr/>
            </p:nvSpPr>
            <p:spPr>
              <a:xfrm>
                <a:off x="7086960" y="4094640"/>
                <a:ext cx="729360" cy="368280"/>
              </a:xfrm>
              <a:prstGeom prst="rect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呼叫转移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直接连接符 37"/>
              <p:cNvSpPr/>
              <p:nvPr/>
            </p:nvSpPr>
            <p:spPr>
              <a:xfrm flipV="1">
                <a:off x="6333840" y="3469320"/>
                <a:ext cx="563760" cy="406080"/>
              </a:xfrm>
              <a:prstGeom prst="line">
                <a:avLst/>
              </a:prstGeom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直接连接符 38"/>
              <p:cNvSpPr/>
              <p:nvPr/>
            </p:nvSpPr>
            <p:spPr>
              <a:xfrm>
                <a:off x="6333840" y="3875400"/>
                <a:ext cx="563760" cy="4320"/>
              </a:xfrm>
              <a:prstGeom prst="line">
                <a:avLst/>
              </a:prstGeom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直接连接符 39"/>
              <p:cNvSpPr/>
              <p:nvPr/>
            </p:nvSpPr>
            <p:spPr>
              <a:xfrm>
                <a:off x="6333840" y="3875400"/>
                <a:ext cx="563760" cy="403920"/>
              </a:xfrm>
              <a:prstGeom prst="line">
                <a:avLst/>
              </a:prstGeom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rcRect l="0" t="0" r="49722" b="0"/>
          <a:stretch/>
        </p:blipFill>
        <p:spPr>
          <a:xfrm>
            <a:off x="6248520" y="-231840"/>
            <a:ext cx="2958840" cy="5872320"/>
          </a:xfrm>
          <a:prstGeom prst="rect">
            <a:avLst/>
          </a:prstGeom>
          <a:ln w="0">
            <a:noFill/>
          </a:ln>
        </p:spPr>
      </p:pic>
      <p:sp>
        <p:nvSpPr>
          <p:cNvPr id="99" name="矩形 6"/>
          <p:cNvSpPr/>
          <p:nvPr/>
        </p:nvSpPr>
        <p:spPr>
          <a:xfrm>
            <a:off x="5292720" y="0"/>
            <a:ext cx="3914640" cy="5400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rcRect l="50287" t="0" r="-1476" b="0"/>
          <a:stretch/>
        </p:blipFill>
        <p:spPr>
          <a:xfrm>
            <a:off x="9207360" y="-247680"/>
            <a:ext cx="3011760" cy="5870520"/>
          </a:xfrm>
          <a:prstGeom prst="rect">
            <a:avLst/>
          </a:prstGeom>
          <a:ln w="0">
            <a:noFill/>
          </a:ln>
        </p:spPr>
      </p:pic>
      <p:sp>
        <p:nvSpPr>
          <p:cNvPr id="101" name="矩形 28"/>
          <p:cNvSpPr/>
          <p:nvPr/>
        </p:nvSpPr>
        <p:spPr>
          <a:xfrm>
            <a:off x="0" y="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29"/>
          <p:cNvSpPr/>
          <p:nvPr/>
        </p:nvSpPr>
        <p:spPr>
          <a:xfrm>
            <a:off x="0" y="477036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46"/>
          <p:cNvSpPr/>
          <p:nvPr/>
        </p:nvSpPr>
        <p:spPr>
          <a:xfrm>
            <a:off x="4242600" y="2408400"/>
            <a:ext cx="1674360" cy="5814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f497d"/>
                </a:solidFill>
                <a:latin typeface="方正粗宋简体"/>
                <a:ea typeface="方正粗宋简体"/>
              </a:rPr>
              <a:t>我们的建议</a:t>
            </a:r>
            <a:r>
              <a:rPr b="0" lang="zh-CN" sz="1200" spc="-1" strike="noStrike">
                <a:solidFill>
                  <a:srgbClr val="1f497d"/>
                </a:solidFill>
                <a:latin typeface="方正粗宋简体"/>
              </a:rPr>
              <a:t>（二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64000" y="990720"/>
            <a:ext cx="4215600" cy="1417680"/>
            <a:chOff x="864000" y="990720"/>
            <a:chExt cx="4215600" cy="1417680"/>
          </a:xfrm>
        </p:grpSpPr>
        <p:sp>
          <p:nvSpPr>
            <p:cNvPr id="105" name="直接连接符 44"/>
            <p:cNvSpPr/>
            <p:nvPr/>
          </p:nvSpPr>
          <p:spPr>
            <a:xfrm flipH="1" flipV="1">
              <a:off x="4848840" y="1530720"/>
              <a:ext cx="230760" cy="8776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直接连接符 40"/>
            <p:cNvSpPr/>
            <p:nvPr/>
          </p:nvSpPr>
          <p:spPr>
            <a:xfrm flipH="1">
              <a:off x="3730680" y="1530720"/>
              <a:ext cx="111924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矩形 41"/>
            <p:cNvSpPr/>
            <p:nvPr/>
          </p:nvSpPr>
          <p:spPr>
            <a:xfrm>
              <a:off x="2835000" y="1260720"/>
              <a:ext cx="714240" cy="52020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f497d"/>
                  </a:solidFill>
                  <a:latin typeface="Calibri"/>
                </a:rPr>
                <a:t>合作商家的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f497d"/>
                  </a:solidFill>
                  <a:latin typeface="Calibri"/>
                </a:rPr>
                <a:t>选择和评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55"/>
            <p:cNvSpPr/>
            <p:nvPr/>
          </p:nvSpPr>
          <p:spPr>
            <a:xfrm>
              <a:off x="864000" y="990720"/>
              <a:ext cx="1003680" cy="36828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调整服务种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Box 56"/>
            <p:cNvSpPr/>
            <p:nvPr/>
          </p:nvSpPr>
          <p:spPr>
            <a:xfrm>
              <a:off x="864000" y="1401120"/>
              <a:ext cx="1003680" cy="36828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完善合作协议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57"/>
            <p:cNvSpPr/>
            <p:nvPr/>
          </p:nvSpPr>
          <p:spPr>
            <a:xfrm>
              <a:off x="878400" y="1800720"/>
              <a:ext cx="981000" cy="32220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Calibri"/>
                </a:rPr>
                <a:t>档案建立与考核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直接连接符 50"/>
            <p:cNvSpPr/>
            <p:nvPr/>
          </p:nvSpPr>
          <p:spPr>
            <a:xfrm flipH="1" flipV="1">
              <a:off x="2150640" y="1175040"/>
              <a:ext cx="500400" cy="3466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直接连接符 52"/>
            <p:cNvSpPr/>
            <p:nvPr/>
          </p:nvSpPr>
          <p:spPr>
            <a:xfrm flipH="1">
              <a:off x="2150640" y="1522440"/>
              <a:ext cx="500400" cy="6336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直接连接符 58"/>
            <p:cNvSpPr/>
            <p:nvPr/>
          </p:nvSpPr>
          <p:spPr>
            <a:xfrm flipH="1">
              <a:off x="2156760" y="1522440"/>
              <a:ext cx="493920" cy="4438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236960" y="2992320"/>
            <a:ext cx="3842640" cy="1477080"/>
            <a:chOff x="1236960" y="2992320"/>
            <a:chExt cx="3842640" cy="1477080"/>
          </a:xfrm>
        </p:grpSpPr>
        <p:sp>
          <p:nvSpPr>
            <p:cNvPr id="115" name="直接连接符 45"/>
            <p:cNvSpPr/>
            <p:nvPr/>
          </p:nvSpPr>
          <p:spPr>
            <a:xfrm flipH="1">
              <a:off x="4848840" y="2992320"/>
              <a:ext cx="230760" cy="87912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直接连接符 53"/>
            <p:cNvSpPr/>
            <p:nvPr/>
          </p:nvSpPr>
          <p:spPr>
            <a:xfrm flipH="1">
              <a:off x="3731040" y="3871440"/>
              <a:ext cx="111960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矩形 69"/>
            <p:cNvSpPr/>
            <p:nvPr/>
          </p:nvSpPr>
          <p:spPr>
            <a:xfrm>
              <a:off x="2811960" y="3695400"/>
              <a:ext cx="729360" cy="36828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f497d"/>
                  </a:solidFill>
                  <a:latin typeface="Calibri"/>
                </a:rPr>
                <a:t>档案管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Box 70"/>
            <p:cNvSpPr/>
            <p:nvPr/>
          </p:nvSpPr>
          <p:spPr>
            <a:xfrm>
              <a:off x="1236960" y="3290040"/>
              <a:ext cx="729360" cy="36828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居民信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71"/>
            <p:cNvSpPr/>
            <p:nvPr/>
          </p:nvSpPr>
          <p:spPr>
            <a:xfrm>
              <a:off x="1236960" y="3701160"/>
              <a:ext cx="729360" cy="36828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商家信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72"/>
            <p:cNvSpPr/>
            <p:nvPr/>
          </p:nvSpPr>
          <p:spPr>
            <a:xfrm>
              <a:off x="1236960" y="4101120"/>
              <a:ext cx="729360" cy="36828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服务案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直接连接符 64"/>
            <p:cNvSpPr/>
            <p:nvPr/>
          </p:nvSpPr>
          <p:spPr>
            <a:xfrm flipH="1" flipV="1">
              <a:off x="2155320" y="3475080"/>
              <a:ext cx="466920" cy="40536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直接连接符 66"/>
            <p:cNvSpPr/>
            <p:nvPr/>
          </p:nvSpPr>
          <p:spPr>
            <a:xfrm flipH="1">
              <a:off x="2155320" y="3880440"/>
              <a:ext cx="466920" cy="540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直接连接符 68"/>
            <p:cNvSpPr/>
            <p:nvPr/>
          </p:nvSpPr>
          <p:spPr>
            <a:xfrm flipH="1">
              <a:off x="2155320" y="3880440"/>
              <a:ext cx="466920" cy="40536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-3240" y="503568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5"/>
          <p:cNvSpPr/>
          <p:nvPr/>
        </p:nvSpPr>
        <p:spPr>
          <a:xfrm>
            <a:off x="0" y="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0" y="477036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049640" y="1362240"/>
            <a:ext cx="3683880" cy="1744920"/>
            <a:chOff x="4049640" y="1362240"/>
            <a:chExt cx="3683880" cy="1744920"/>
          </a:xfrm>
        </p:grpSpPr>
        <p:sp>
          <p:nvSpPr>
            <p:cNvPr id="128" name="矩形 7"/>
            <p:cNvSpPr/>
            <p:nvPr/>
          </p:nvSpPr>
          <p:spPr>
            <a:xfrm>
              <a:off x="4049640" y="2098800"/>
              <a:ext cx="3035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4365  </a:t>
              </a: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现在的性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性质转变的利与弊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4127760" y="1362240"/>
              <a:ext cx="3605760" cy="585000"/>
              <a:chOff x="4127760" y="1362240"/>
              <a:chExt cx="3605760" cy="585000"/>
            </a:xfrm>
          </p:grpSpPr>
          <p:sp>
            <p:nvSpPr>
              <p:cNvPr id="130" name="矩形 8"/>
              <p:cNvSpPr/>
              <p:nvPr/>
            </p:nvSpPr>
            <p:spPr>
              <a:xfrm>
                <a:off x="4529520" y="1362240"/>
                <a:ext cx="320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1f497d"/>
                    </a:solidFill>
                    <a:latin typeface="方正粗宋简体"/>
                    <a:ea typeface="方正粗宋简体"/>
                  </a:rPr>
                  <a:t>24365</a:t>
                </a:r>
                <a:r>
                  <a:rPr b="0" lang="zh-CN" sz="3200" spc="-1" strike="noStrike">
                    <a:solidFill>
                      <a:srgbClr val="1f497d"/>
                    </a:solidFill>
                    <a:latin typeface="方正粗宋简体"/>
                    <a:ea typeface="方正粗宋简体"/>
                  </a:rPr>
                  <a:t>组织性质的思考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直接连接符 12"/>
              <p:cNvSpPr/>
              <p:nvPr/>
            </p:nvSpPr>
            <p:spPr>
              <a:xfrm>
                <a:off x="4127760" y="1947240"/>
                <a:ext cx="2957760" cy="0"/>
              </a:xfrm>
              <a:prstGeom prst="line">
                <a:avLst/>
              </a:prstGeom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2" name=""/>
          <p:cNvGrpSpPr/>
          <p:nvPr/>
        </p:nvGrpSpPr>
        <p:grpSpPr>
          <a:xfrm>
            <a:off x="1913040" y="1454040"/>
            <a:ext cx="1590480" cy="2492640"/>
            <a:chOff x="1913040" y="1454040"/>
            <a:chExt cx="1590480" cy="2492640"/>
          </a:xfrm>
        </p:grpSpPr>
        <p:pic>
          <p:nvPicPr>
            <p:cNvPr id="133" name="Picture 5" descr=""/>
            <p:cNvPicPr/>
            <p:nvPr/>
          </p:nvPicPr>
          <p:blipFill>
            <a:blip r:embed="rId1"/>
            <a:stretch/>
          </p:blipFill>
          <p:spPr>
            <a:xfrm>
              <a:off x="1913040" y="1454040"/>
              <a:ext cx="1584360" cy="11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5" descr=""/>
            <p:cNvPicPr/>
            <p:nvPr/>
          </p:nvPicPr>
          <p:blipFill>
            <a:blip r:embed="rId2"/>
            <a:stretch/>
          </p:blipFill>
          <p:spPr>
            <a:xfrm>
              <a:off x="1919160" y="2759040"/>
              <a:ext cx="1584360" cy="11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矩形 21"/>
          <p:cNvSpPr/>
          <p:nvPr/>
        </p:nvSpPr>
        <p:spPr>
          <a:xfrm>
            <a:off x="1781280" y="1362240"/>
            <a:ext cx="1846080" cy="2676240"/>
          </a:xfrm>
          <a:prstGeom prst="rect">
            <a:avLst/>
          </a:prstGeom>
          <a:noFill/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5"/>
          <p:cNvSpPr/>
          <p:nvPr/>
        </p:nvSpPr>
        <p:spPr>
          <a:xfrm>
            <a:off x="0" y="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0" y="477036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7"/>
          <p:cNvSpPr/>
          <p:nvPr/>
        </p:nvSpPr>
        <p:spPr>
          <a:xfrm>
            <a:off x="4751280" y="1530360"/>
            <a:ext cx="3036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独立的决策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决定自己的发展路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保证中立性与独立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极大的节约运营成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公信力和群众监督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-326880" y="1050840"/>
            <a:ext cx="5657760" cy="371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5"/>
          <p:cNvSpPr/>
          <p:nvPr/>
        </p:nvSpPr>
        <p:spPr>
          <a:xfrm>
            <a:off x="0" y="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0" y="477036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3722760" y="1050840"/>
            <a:ext cx="5664240" cy="3719520"/>
          </a:xfrm>
          <a:prstGeom prst="rect">
            <a:avLst/>
          </a:prstGeom>
          <a:ln w="0">
            <a:noFill/>
          </a:ln>
        </p:spPr>
      </p:pic>
      <p:sp>
        <p:nvSpPr>
          <p:cNvPr id="143" name="矩形 11"/>
          <p:cNvSpPr/>
          <p:nvPr/>
        </p:nvSpPr>
        <p:spPr>
          <a:xfrm>
            <a:off x="836640" y="1500120"/>
            <a:ext cx="4005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无法借助某些政府手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进行宣传和推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需要接受市场的考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忽视了顾客的感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文化与社会认同的不成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5"/>
          <p:cNvSpPr/>
          <p:nvPr/>
        </p:nvSpPr>
        <p:spPr>
          <a:xfrm>
            <a:off x="0" y="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6"/>
          <p:cNvSpPr/>
          <p:nvPr/>
        </p:nvSpPr>
        <p:spPr>
          <a:xfrm>
            <a:off x="0" y="477036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E:\我的咋库\他们的\张学敬实习汇报\实习\22的.jpg"/>
          <p:cNvPicPr/>
          <p:nvPr/>
        </p:nvPicPr>
        <p:blipFill>
          <a:blip r:embed="rId1"/>
          <a:stretch/>
        </p:blipFill>
        <p:spPr>
          <a:xfrm>
            <a:off x="3603600" y="1332000"/>
            <a:ext cx="1936800" cy="1679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3809880" y="3011400"/>
            <a:ext cx="1524240" cy="858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66920" y="4915080"/>
            <a:ext cx="45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3T13:22:08Z</dcterms:created>
  <dc:creator/>
  <dc:description/>
  <dc:language>en-US</dc:language>
  <cp:lastModifiedBy>微软用户</cp:lastModifiedBy>
  <dcterms:modified xsi:type="dcterms:W3CDTF">2015-01-10T08:10:17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