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1C6-8603-4067-BDD3-FDAEDD3E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32-2476-4FDA-9E87-B3EFAEE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F1F-194A-4E31-975B-D7F5EC4F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C72-B770-4DA6-9A97-6416D3F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7A49-D15F-4CCF-80D9-D8F119B1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6D22-E55D-452B-BCD4-8EECAEB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7F84-42A3-4560-9288-91A232FD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8AC-47A7-4A76-9508-CCAB5F8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683-907A-4086-B8F8-691430F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167-56E5-410B-AB31-2FFB71B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F0BE-FE7E-49B1-8F29-AA08570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779-FEC5-4F07-A7F2-B279523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12A2-CB6B-4B33-85EF-8EFA73C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1E4-266E-4F08-BB80-9779AD2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0B5B-6434-4690-948E-9A4D847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1CB6-D5B6-4973-8AB7-E940762B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04AE-A7BF-4350-9722-73CFB768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E45-0A66-4301-9FC3-1A4C4BD4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A6F-6DFD-4B3D-9C56-E95BC89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D88-6B54-44B3-87AA-BF905A6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860-05B5-4205-9ACC-855ACF09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B76-9CA6-44A9-A6E5-9696EAC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058-1D6C-4B28-8D29-5C03BA7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385-A2CF-4042-B3BB-0588FA1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98756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037-5560-4E27-BEED-63837317FF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968640" y="62848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864120" y="6284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FAFE-87ED-4D1A-AAFB-684CC9C5E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9527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D3C-FFB7-4FF4-88E4-7F41230E9B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933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95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2E1-4D82-43F2-94D7-BEF1994F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间的齿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PT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596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27360" y="645336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596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6800" y="630864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8:58:36Z</dcterms:created>
  <dc:creator/>
  <dc:description/>
  <dc:language>en-US</dc:language>
  <cp:lastModifiedBy>keke</cp:lastModifiedBy>
  <dcterms:modified xsi:type="dcterms:W3CDTF">2015-01-10T12:23:38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