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B21-9298-434D-9428-D4A67B83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0E9-8D69-4529-B9CE-668768F5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E53-410F-40C2-8825-2E701190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6A4-5886-4890-AE9E-985239DE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A99C-08B3-43B2-BC34-6E86661A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1FF0-E374-4C4C-8549-38413291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6330-46DE-47BD-9012-4F25F2D3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0A1F-15D6-47D6-A7A3-CFAF20C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4D66-0668-4814-8B54-F1433555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7979-B90B-49E6-A950-1742B639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DBDC-4500-414B-BCA1-2D2A7AA0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695-62E5-4E57-9BE7-C9DE7A01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B5FA-0DC3-4FB6-8ECA-3E4E6043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F3B4-CFCB-424A-AA3F-5094674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F9FD-69AB-4486-B4FE-B646D15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2A58-6074-45FE-BF5F-2CB639DD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1598-0DC1-4F64-8C71-997D855A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8CB-4D8B-4E84-90FB-7506DC1B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B08-6A5D-4038-9F57-A33DF7A0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A2B-8E1D-42B1-9419-D8549943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11A-35C9-4025-BA77-80FE8C8B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D5F-F519-4675-A701-CBA7839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28A-2165-42FE-9F3A-035C20F1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FF7-4E7F-4A3D-8E02-6EA4EE3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7548-ABEC-4926-B067-799D9F98D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F291-5672-4880-854E-0A0C418FB40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25440" y="3522240"/>
            <a:ext cx="6400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8:21Z</dcterms:created>
  <dc:creator/>
  <dc:description/>
  <dc:language>en-US</dc:language>
  <cp:lastModifiedBy/>
  <dcterms:modified xsi:type="dcterms:W3CDTF">2015-01-10T12:18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