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124-5BD9-43D2-8732-4B09F3E5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DCC-CF75-494C-9DF5-CC76E423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3F6-5B0D-41C3-B270-EF9ADCE6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BE2-5552-4D63-8DBE-E781C819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5577-C1EF-43DC-9883-1E36DCA2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396F-7169-480A-8564-84F90F79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DF4B-B7F9-48B4-B1EE-623EDD1B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BEBB-B42B-4628-ACB3-1CC9608D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B8A0-D89C-4C97-A076-B0E7E6EA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1845-A739-46CD-9394-488BE3ED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0943-E04B-4B19-B19D-68859F8F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6CF-7598-4443-9525-AD0D89C8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29FB-58AF-494E-B701-963EEFB9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D57B-C91A-446D-880D-217866DE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379C-2A85-4197-9015-EAB08840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CF59-0595-4B1E-8A66-D19F0412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8B91-6277-466C-A2BA-E22AA936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A86-B0B9-4A03-93BA-11353F85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050-7D99-4455-88F6-DA046D9F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8E1-C78D-4EB4-A490-F68850D0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BE9-6941-4537-B875-A8508FB5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0CE-3216-4991-AE71-7630EAF3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AFB-C549-4B85-A29B-5C49B917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7C7-0A29-4A48-B031-D4F4B373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CC9B-F675-4F3C-9DD8-72A1D84C2A4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4A36-6BF7-4270-B476-2445A6341E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9D65-374C-4E94-8289-A0847A0CC2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5F00-5B5C-4EFA-9EA5-627A2B1F9F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7" descr=""/>
          <p:cNvPicPr/>
          <p:nvPr/>
        </p:nvPicPr>
        <p:blipFill>
          <a:blip r:embed="rId1"/>
          <a:stretch/>
        </p:blipFill>
        <p:spPr>
          <a:xfrm>
            <a:off x="1187280" y="1339920"/>
            <a:ext cx="6840720" cy="46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246360" y="595008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图片 3" descr=""/>
          <p:cNvPicPr/>
          <p:nvPr/>
        </p:nvPicPr>
        <p:blipFill>
          <a:blip r:embed="rId1"/>
          <a:srcRect l="8265" t="14653" r="11411" b="68212"/>
          <a:stretch/>
        </p:blipFill>
        <p:spPr>
          <a:xfrm>
            <a:off x="1187280" y="1339920"/>
            <a:ext cx="6840720" cy="1062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6840720" cy="3672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466560" y="18900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原画欣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3" descr=""/>
          <p:cNvPicPr/>
          <p:nvPr/>
        </p:nvPicPr>
        <p:blipFill>
          <a:blip r:embed="rId1"/>
          <a:srcRect l="9049" t="84275" r="13776" b="1802"/>
          <a:stretch/>
        </p:blipFill>
        <p:spPr>
          <a:xfrm>
            <a:off x="1184400" y="5113440"/>
            <a:ext cx="6821280" cy="904680"/>
          </a:xfrm>
          <a:prstGeom prst="rect">
            <a:avLst/>
          </a:prstGeom>
          <a:ln w="0">
            <a:noFill/>
          </a:ln>
        </p:spPr>
      </p:pic>
      <p:sp>
        <p:nvSpPr>
          <p:cNvPr id="91" name="矩形 10"/>
          <p:cNvSpPr/>
          <p:nvPr/>
        </p:nvSpPr>
        <p:spPr>
          <a:xfrm>
            <a:off x="3492360" y="1628640"/>
            <a:ext cx="2374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黑体"/>
                <a:ea typeface="黑体"/>
              </a:rPr>
              <a:t>书剑恩仇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1979640" y="2349360"/>
            <a:ext cx="525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书剑恩仇录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编自同名武侠文学名著的大型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DMMORPG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金庸武侠开山之作。在研发过程中，主创团队凭借全球领先的自主研发引擎，细腻刻画了陈家洛与香香公主的爱恨情仇，以及快意江湖的红花会群雄，成功打造出中国首款奇情武侠网游巨作，为传统武侠网游市场带来一股清新之气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466560" y="18900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6360" y="609444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1547640" y="1592280"/>
            <a:ext cx="1260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403280" y="3909960"/>
            <a:ext cx="6369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entagon 12"/>
          <p:cNvSpPr/>
          <p:nvPr/>
        </p:nvSpPr>
        <p:spPr>
          <a:xfrm>
            <a:off x="1652760" y="3594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entagon 12"/>
          <p:cNvSpPr/>
          <p:nvPr/>
        </p:nvSpPr>
        <p:spPr>
          <a:xfrm>
            <a:off x="2529000" y="3594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entagon 12"/>
          <p:cNvSpPr/>
          <p:nvPr/>
        </p:nvSpPr>
        <p:spPr>
          <a:xfrm>
            <a:off x="3406680" y="3594240"/>
            <a:ext cx="927360" cy="287280"/>
          </a:xfrm>
          <a:custGeom>
            <a:avLst/>
            <a:gdLst>
              <a:gd name="textAreaLeft" fmla="*/ 0 w 927360"/>
              <a:gd name="textAreaRight" fmla="*/ 927720 w 927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entagon 12"/>
          <p:cNvSpPr/>
          <p:nvPr/>
        </p:nvSpPr>
        <p:spPr>
          <a:xfrm>
            <a:off x="4334040" y="3594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entagon 12"/>
          <p:cNvSpPr/>
          <p:nvPr/>
        </p:nvSpPr>
        <p:spPr>
          <a:xfrm>
            <a:off x="5226120" y="3594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entagon 12"/>
          <p:cNvSpPr/>
          <p:nvPr/>
        </p:nvSpPr>
        <p:spPr>
          <a:xfrm>
            <a:off x="6119640" y="3594240"/>
            <a:ext cx="900360" cy="287280"/>
          </a:xfrm>
          <a:custGeom>
            <a:avLst/>
            <a:gdLst>
              <a:gd name="textAreaLeft" fmla="*/ 0 w 900360"/>
              <a:gd name="textAreaRight" fmla="*/ 900720 w 900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entagon 12"/>
          <p:cNvSpPr/>
          <p:nvPr/>
        </p:nvSpPr>
        <p:spPr>
          <a:xfrm>
            <a:off x="7016760" y="3594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08" y="0"/>
                </a:lnTo>
                <a:lnTo>
                  <a:pt x="21600" y="10800"/>
                </a:lnTo>
                <a:lnTo>
                  <a:pt x="187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548080" y="3603600"/>
            <a:ext cx="1440" cy="216000"/>
            <a:chOff x="2548080" y="3603600"/>
            <a:chExt cx="1440" cy="216000"/>
          </a:xfrm>
        </p:grpSpPr>
        <p:sp>
          <p:nvSpPr>
            <p:cNvPr id="105" name="Line 19"/>
            <p:cNvSpPr/>
            <p:nvPr/>
          </p:nvSpPr>
          <p:spPr>
            <a:xfrm>
              <a:off x="2548080" y="3603600"/>
              <a:ext cx="1440" cy="216000"/>
            </a:xfrm>
            <a:prstGeom prst="line">
              <a:avLst/>
            </a:prstGeom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2548080" y="360360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441600" y="3603600"/>
            <a:ext cx="1800" cy="216000"/>
            <a:chOff x="3441600" y="3603600"/>
            <a:chExt cx="1800" cy="216000"/>
          </a:xfrm>
        </p:grpSpPr>
        <p:sp>
          <p:nvSpPr>
            <p:cNvPr id="108" name="Line 20"/>
            <p:cNvSpPr/>
            <p:nvPr/>
          </p:nvSpPr>
          <p:spPr>
            <a:xfrm>
              <a:off x="3441600" y="3603600"/>
              <a:ext cx="1800" cy="216000"/>
            </a:xfrm>
            <a:prstGeom prst="line">
              <a:avLst/>
            </a:prstGeom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3441600" y="3603600"/>
              <a:ext cx="18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335480" y="3603600"/>
            <a:ext cx="1440" cy="216000"/>
            <a:chOff x="4335480" y="3603600"/>
            <a:chExt cx="1440" cy="216000"/>
          </a:xfrm>
        </p:grpSpPr>
        <p:sp>
          <p:nvSpPr>
            <p:cNvPr id="111" name="Line 21"/>
            <p:cNvSpPr/>
            <p:nvPr/>
          </p:nvSpPr>
          <p:spPr>
            <a:xfrm>
              <a:off x="4335480" y="3603600"/>
              <a:ext cx="1440" cy="216000"/>
            </a:xfrm>
            <a:prstGeom prst="line">
              <a:avLst/>
            </a:prstGeom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4335480" y="360360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124680" y="3603600"/>
            <a:ext cx="1440" cy="216000"/>
            <a:chOff x="6124680" y="3603600"/>
            <a:chExt cx="1440" cy="216000"/>
          </a:xfrm>
        </p:grpSpPr>
        <p:sp>
          <p:nvSpPr>
            <p:cNvPr id="114" name="Line 22"/>
            <p:cNvSpPr/>
            <p:nvPr/>
          </p:nvSpPr>
          <p:spPr>
            <a:xfrm>
              <a:off x="6124680" y="3603600"/>
              <a:ext cx="1440" cy="216000"/>
            </a:xfrm>
            <a:prstGeom prst="line">
              <a:avLst/>
            </a:prstGeom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6124680" y="360360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229360" y="3603600"/>
            <a:ext cx="1440" cy="216000"/>
            <a:chOff x="5229360" y="3603600"/>
            <a:chExt cx="1440" cy="216000"/>
          </a:xfrm>
        </p:grpSpPr>
        <p:sp>
          <p:nvSpPr>
            <p:cNvPr id="117" name="Line 23"/>
            <p:cNvSpPr/>
            <p:nvPr/>
          </p:nvSpPr>
          <p:spPr>
            <a:xfrm>
              <a:off x="5229360" y="3603600"/>
              <a:ext cx="1440" cy="216000"/>
            </a:xfrm>
            <a:prstGeom prst="line">
              <a:avLst/>
            </a:prstGeom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5229360" y="360360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entagon 12"/>
          <p:cNvSpPr/>
          <p:nvPr/>
        </p:nvSpPr>
        <p:spPr>
          <a:xfrm>
            <a:off x="1403280" y="3595680"/>
            <a:ext cx="5508720" cy="287280"/>
          </a:xfrm>
          <a:custGeom>
            <a:avLst/>
            <a:gdLst>
              <a:gd name="textAreaLeft" fmla="*/ 0 w 5508720"/>
              <a:gd name="textAreaRight" fmla="*/ 5508720 w 5508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8"/>
          <p:cNvSpPr/>
          <p:nvPr/>
        </p:nvSpPr>
        <p:spPr>
          <a:xfrm>
            <a:off x="2836800" y="35942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9"/>
          <p:cNvSpPr/>
          <p:nvPr/>
        </p:nvSpPr>
        <p:spPr>
          <a:xfrm>
            <a:off x="3705120" y="3594240"/>
            <a:ext cx="7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0"/>
          <p:cNvSpPr/>
          <p:nvPr/>
        </p:nvSpPr>
        <p:spPr>
          <a:xfrm>
            <a:off x="4564800" y="35942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1"/>
          <p:cNvSpPr/>
          <p:nvPr/>
        </p:nvSpPr>
        <p:spPr>
          <a:xfrm>
            <a:off x="5361840" y="35942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3"/>
          <p:cNvSpPr/>
          <p:nvPr/>
        </p:nvSpPr>
        <p:spPr>
          <a:xfrm>
            <a:off x="6912000" y="3594240"/>
            <a:ext cx="860400" cy="27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01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4"/>
          <p:cNvSpPr/>
          <p:nvPr/>
        </p:nvSpPr>
        <p:spPr>
          <a:xfrm>
            <a:off x="1972440" y="35942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654200" y="1968120"/>
            <a:ext cx="73080" cy="1810080"/>
            <a:chOff x="1654200" y="1968120"/>
            <a:chExt cx="73080" cy="1810080"/>
          </a:xfrm>
        </p:grpSpPr>
        <p:sp>
          <p:nvSpPr>
            <p:cNvPr id="127" name="直接连接符 28"/>
            <p:cNvSpPr/>
            <p:nvPr/>
          </p:nvSpPr>
          <p:spPr>
            <a:xfrm flipV="1">
              <a:off x="1690920" y="1968120"/>
              <a:ext cx="0" cy="18097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流程图: 联系 29"/>
            <p:cNvSpPr/>
            <p:nvPr/>
          </p:nvSpPr>
          <p:spPr>
            <a:xfrm>
              <a:off x="1654200" y="3706200"/>
              <a:ext cx="73080" cy="72000"/>
            </a:xfrm>
            <a:prstGeom prst="flowChartConnector">
              <a:avLst/>
            </a:prstGeom>
            <a:solidFill>
              <a:srgbClr val="7f7f7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73"/>
          <p:cNvSpPr/>
          <p:nvPr/>
        </p:nvSpPr>
        <p:spPr>
          <a:xfrm>
            <a:off x="6056280" y="3594240"/>
            <a:ext cx="85572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590920" y="2257200"/>
            <a:ext cx="73080" cy="1541520"/>
            <a:chOff x="2590920" y="2257200"/>
            <a:chExt cx="73080" cy="1541520"/>
          </a:xfrm>
        </p:grpSpPr>
        <p:sp>
          <p:nvSpPr>
            <p:cNvPr id="131" name="直接连接符 32"/>
            <p:cNvSpPr/>
            <p:nvPr/>
          </p:nvSpPr>
          <p:spPr>
            <a:xfrm flipV="1">
              <a:off x="2627640" y="2257200"/>
              <a:ext cx="0" cy="15411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流程图: 联系 33"/>
            <p:cNvSpPr/>
            <p:nvPr/>
          </p:nvSpPr>
          <p:spPr>
            <a:xfrm>
              <a:off x="2590920" y="3727080"/>
              <a:ext cx="73080" cy="71640"/>
            </a:xfrm>
            <a:prstGeom prst="flowChartConnector">
              <a:avLst/>
            </a:prstGeom>
            <a:solidFill>
              <a:srgbClr val="7f7f7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454560" y="2565000"/>
            <a:ext cx="72720" cy="1219680"/>
            <a:chOff x="3454560" y="2565000"/>
            <a:chExt cx="72720" cy="1219680"/>
          </a:xfrm>
        </p:grpSpPr>
        <p:sp>
          <p:nvSpPr>
            <p:cNvPr id="134" name="直接连接符 36"/>
            <p:cNvSpPr/>
            <p:nvPr/>
          </p:nvSpPr>
          <p:spPr>
            <a:xfrm flipV="1">
              <a:off x="3490920" y="2565000"/>
              <a:ext cx="0" cy="12193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流程图: 联系 37"/>
            <p:cNvSpPr/>
            <p:nvPr/>
          </p:nvSpPr>
          <p:spPr>
            <a:xfrm>
              <a:off x="3454560" y="3712680"/>
              <a:ext cx="72720" cy="72000"/>
            </a:xfrm>
            <a:prstGeom prst="flowChartConnector">
              <a:avLst/>
            </a:prstGeom>
            <a:solidFill>
              <a:srgbClr val="7f7f7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19640" y="2873160"/>
            <a:ext cx="71280" cy="911520"/>
            <a:chOff x="4319640" y="2873160"/>
            <a:chExt cx="71280" cy="911520"/>
          </a:xfrm>
        </p:grpSpPr>
        <p:sp>
          <p:nvSpPr>
            <p:cNvPr id="137" name="直接连接符 40"/>
            <p:cNvSpPr/>
            <p:nvPr/>
          </p:nvSpPr>
          <p:spPr>
            <a:xfrm flipV="1">
              <a:off x="4355280" y="2873160"/>
              <a:ext cx="0" cy="9111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流程图: 联系 41"/>
            <p:cNvSpPr/>
            <p:nvPr/>
          </p:nvSpPr>
          <p:spPr>
            <a:xfrm>
              <a:off x="4319640" y="3712680"/>
              <a:ext cx="71280" cy="72000"/>
            </a:xfrm>
            <a:prstGeom prst="flowChartConnector">
              <a:avLst/>
            </a:prstGeom>
            <a:solidFill>
              <a:srgbClr val="7f7f7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183280" y="3174480"/>
            <a:ext cx="71280" cy="614880"/>
            <a:chOff x="5183280" y="3174480"/>
            <a:chExt cx="71280" cy="614880"/>
          </a:xfrm>
        </p:grpSpPr>
        <p:sp>
          <p:nvSpPr>
            <p:cNvPr id="140" name="直接连接符 44"/>
            <p:cNvSpPr/>
            <p:nvPr/>
          </p:nvSpPr>
          <p:spPr>
            <a:xfrm flipV="1">
              <a:off x="5218920" y="3174480"/>
              <a:ext cx="0" cy="6145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流程图: 联系 45"/>
            <p:cNvSpPr/>
            <p:nvPr/>
          </p:nvSpPr>
          <p:spPr>
            <a:xfrm>
              <a:off x="5183280" y="3717360"/>
              <a:ext cx="71280" cy="72000"/>
            </a:xfrm>
            <a:prstGeom prst="flowChartConnector">
              <a:avLst/>
            </a:prstGeom>
            <a:solidFill>
              <a:srgbClr val="7f7f7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904000" y="3717720"/>
            <a:ext cx="71280" cy="648000"/>
            <a:chOff x="5904000" y="3717720"/>
            <a:chExt cx="71280" cy="648000"/>
          </a:xfrm>
        </p:grpSpPr>
        <p:sp>
          <p:nvSpPr>
            <p:cNvPr id="143" name="直接连接符 48"/>
            <p:cNvSpPr/>
            <p:nvPr/>
          </p:nvSpPr>
          <p:spPr>
            <a:xfrm>
              <a:off x="5939640" y="3718080"/>
              <a:ext cx="0" cy="64764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流程图: 联系 49"/>
            <p:cNvSpPr/>
            <p:nvPr/>
          </p:nvSpPr>
          <p:spPr>
            <a:xfrm flipV="1">
              <a:off x="5904000" y="3717360"/>
              <a:ext cx="71280" cy="70920"/>
            </a:xfrm>
            <a:prstGeom prst="flowChartConnector">
              <a:avLst/>
            </a:prstGeom>
            <a:solidFill>
              <a:srgbClr val="7f7f7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767640" y="3718080"/>
            <a:ext cx="71280" cy="1008000"/>
            <a:chOff x="6767640" y="3718080"/>
            <a:chExt cx="71280" cy="1008000"/>
          </a:xfrm>
        </p:grpSpPr>
        <p:sp>
          <p:nvSpPr>
            <p:cNvPr id="146" name="直接连接符 52"/>
            <p:cNvSpPr/>
            <p:nvPr/>
          </p:nvSpPr>
          <p:spPr>
            <a:xfrm>
              <a:off x="6803280" y="3718080"/>
              <a:ext cx="0" cy="1008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流程图: 联系 53"/>
            <p:cNvSpPr/>
            <p:nvPr/>
          </p:nvSpPr>
          <p:spPr>
            <a:xfrm flipV="1">
              <a:off x="6767640" y="3717720"/>
              <a:ext cx="71280" cy="70920"/>
            </a:xfrm>
            <a:prstGeom prst="flowChartConnector">
              <a:avLst/>
            </a:prstGeom>
            <a:solidFill>
              <a:srgbClr val="7f7f7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559640" y="3717720"/>
            <a:ext cx="71640" cy="1440000"/>
            <a:chOff x="7559640" y="3717720"/>
            <a:chExt cx="71640" cy="1440000"/>
          </a:xfrm>
        </p:grpSpPr>
        <p:sp>
          <p:nvSpPr>
            <p:cNvPr id="149" name="直接连接符 56"/>
            <p:cNvSpPr/>
            <p:nvPr/>
          </p:nvSpPr>
          <p:spPr>
            <a:xfrm>
              <a:off x="7595640" y="3718080"/>
              <a:ext cx="0" cy="143964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流程图: 联系 57"/>
            <p:cNvSpPr/>
            <p:nvPr/>
          </p:nvSpPr>
          <p:spPr>
            <a:xfrm flipV="1">
              <a:off x="7559640" y="3717720"/>
              <a:ext cx="71640" cy="68400"/>
            </a:xfrm>
            <a:prstGeom prst="flowChartConnector">
              <a:avLst/>
            </a:prstGeom>
            <a:solidFill>
              <a:srgbClr val="7f7f7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59"/>
          <p:cNvSpPr/>
          <p:nvPr/>
        </p:nvSpPr>
        <p:spPr>
          <a:xfrm>
            <a:off x="2482920" y="1879560"/>
            <a:ext cx="1262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0"/>
          <p:cNvSpPr/>
          <p:nvPr/>
        </p:nvSpPr>
        <p:spPr>
          <a:xfrm>
            <a:off x="3348000" y="2239920"/>
            <a:ext cx="1260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1"/>
          <p:cNvSpPr/>
          <p:nvPr/>
        </p:nvSpPr>
        <p:spPr>
          <a:xfrm>
            <a:off x="5796000" y="4076640"/>
            <a:ext cx="1262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2"/>
          <p:cNvSpPr/>
          <p:nvPr/>
        </p:nvSpPr>
        <p:spPr>
          <a:xfrm>
            <a:off x="4211640" y="2492280"/>
            <a:ext cx="1262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3"/>
          <p:cNvSpPr/>
          <p:nvPr/>
        </p:nvSpPr>
        <p:spPr>
          <a:xfrm>
            <a:off x="5076720" y="2819520"/>
            <a:ext cx="1260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4"/>
          <p:cNvSpPr/>
          <p:nvPr/>
        </p:nvSpPr>
        <p:spPr>
          <a:xfrm>
            <a:off x="6661080" y="4437000"/>
            <a:ext cx="1260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5"/>
          <p:cNvSpPr/>
          <p:nvPr/>
        </p:nvSpPr>
        <p:spPr>
          <a:xfrm>
            <a:off x="6983280" y="4940280"/>
            <a:ext cx="1262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6"/>
          <p:cNvSpPr/>
          <p:nvPr/>
        </p:nvSpPr>
        <p:spPr>
          <a:xfrm>
            <a:off x="466560" y="18900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荣誉殿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67" descr=""/>
          <p:cNvPicPr/>
          <p:nvPr/>
        </p:nvPicPr>
        <p:blipFill>
          <a:blip r:embed="rId1"/>
          <a:srcRect l="17639" t="15349" r="17639" b="64700"/>
          <a:stretch/>
        </p:blipFill>
        <p:spPr>
          <a:xfrm>
            <a:off x="1187280" y="4653000"/>
            <a:ext cx="3456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6"/>
          <p:cNvSpPr/>
          <p:nvPr/>
        </p:nvSpPr>
        <p:spPr>
          <a:xfrm>
            <a:off x="1403280" y="2205000"/>
            <a:ext cx="1935360" cy="395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4a7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6"/>
          <p:cNvSpPr/>
          <p:nvPr/>
        </p:nvSpPr>
        <p:spPr>
          <a:xfrm>
            <a:off x="1285920" y="2603520"/>
            <a:ext cx="2071800" cy="2225520"/>
          </a:xfrm>
          <a:custGeom>
            <a:avLst/>
            <a:gdLst>
              <a:gd name="textAreaLeft" fmla="*/ 43560 w 2071800"/>
              <a:gd name="textAreaRight" fmla="*/ 2028240 w 2071800"/>
              <a:gd name="textAreaTop" fmla="*/ 43560 h 2225520"/>
              <a:gd name="textAreaBottom" fmla="*/ 2181960 h 2225520"/>
            </a:gdLst>
            <a:ahLst/>
            <a:rect l="textAreaLeft" t="textAreaTop" r="textAreaRight" b="textAreaBottom"/>
            <a:pathLst>
              <a:path w="21600" h="23202">
                <a:moveTo>
                  <a:pt x="1557" y="0"/>
                </a:moveTo>
                <a:arcTo wR="1557" hR="1557" stAng="16200000" swAng="-5400000"/>
                <a:lnTo>
                  <a:pt x="0" y="21645"/>
                </a:lnTo>
                <a:arcTo wR="1557" hR="1557" stAng="10800000" swAng="-5400000"/>
                <a:lnTo>
                  <a:pt x="20043" y="23202"/>
                </a:lnTo>
                <a:arcTo wR="1557" hR="1557" stAng="5400000" swAng="-5400000"/>
                <a:lnTo>
                  <a:pt x="21600" y="1557"/>
                </a:lnTo>
                <a:arcTo wR="1557" hR="155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7"/>
          <p:cNvSpPr/>
          <p:nvPr/>
        </p:nvSpPr>
        <p:spPr>
          <a:xfrm>
            <a:off x="3579840" y="2603520"/>
            <a:ext cx="2071800" cy="2225520"/>
          </a:xfrm>
          <a:custGeom>
            <a:avLst/>
            <a:gdLst>
              <a:gd name="textAreaLeft" fmla="*/ 43560 w 2071800"/>
              <a:gd name="textAreaRight" fmla="*/ 2028240 w 2071800"/>
              <a:gd name="textAreaTop" fmla="*/ 43560 h 2225520"/>
              <a:gd name="textAreaBottom" fmla="*/ 2181960 h 2225520"/>
            </a:gdLst>
            <a:ahLst/>
            <a:rect l="textAreaLeft" t="textAreaTop" r="textAreaRight" b="textAreaBottom"/>
            <a:pathLst>
              <a:path w="21600" h="23202">
                <a:moveTo>
                  <a:pt x="1557" y="0"/>
                </a:moveTo>
                <a:arcTo wR="1557" hR="1557" stAng="16200000" swAng="-5400000"/>
                <a:lnTo>
                  <a:pt x="0" y="21645"/>
                </a:lnTo>
                <a:arcTo wR="1557" hR="1557" stAng="10800000" swAng="-5400000"/>
                <a:lnTo>
                  <a:pt x="20043" y="23202"/>
                </a:lnTo>
                <a:arcTo wR="1557" hR="1557" stAng="5400000" swAng="-5400000"/>
                <a:lnTo>
                  <a:pt x="21600" y="1557"/>
                </a:lnTo>
                <a:arcTo wR="1557" hR="155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8"/>
          <p:cNvSpPr/>
          <p:nvPr/>
        </p:nvSpPr>
        <p:spPr>
          <a:xfrm>
            <a:off x="5821200" y="2603520"/>
            <a:ext cx="2071800" cy="2225520"/>
          </a:xfrm>
          <a:custGeom>
            <a:avLst/>
            <a:gdLst>
              <a:gd name="textAreaLeft" fmla="*/ 43560 w 2071800"/>
              <a:gd name="textAreaRight" fmla="*/ 2028240 w 2071800"/>
              <a:gd name="textAreaTop" fmla="*/ 43560 h 2225520"/>
              <a:gd name="textAreaBottom" fmla="*/ 2181960 h 2225520"/>
            </a:gdLst>
            <a:ahLst/>
            <a:rect l="textAreaLeft" t="textAreaTop" r="textAreaRight" b="textAreaBottom"/>
            <a:pathLst>
              <a:path w="21600" h="23202">
                <a:moveTo>
                  <a:pt x="1557" y="0"/>
                </a:moveTo>
                <a:arcTo wR="1557" hR="1557" stAng="16200000" swAng="-5400000"/>
                <a:lnTo>
                  <a:pt x="0" y="21645"/>
                </a:lnTo>
                <a:arcTo wR="1557" hR="1557" stAng="10800000" swAng="-5400000"/>
                <a:lnTo>
                  <a:pt x="20043" y="23202"/>
                </a:lnTo>
                <a:arcTo wR="1557" hR="1557" stAng="5400000" swAng="-5400000"/>
                <a:lnTo>
                  <a:pt x="21600" y="1557"/>
                </a:lnTo>
                <a:arcTo wR="1557" hR="155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3635280" y="2205000"/>
            <a:ext cx="1935360" cy="395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4a7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867280" y="2205000"/>
            <a:ext cx="1935360" cy="395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4a7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3" descr=""/>
          <p:cNvPicPr/>
          <p:nvPr/>
        </p:nvPicPr>
        <p:blipFill>
          <a:blip r:embed="rId1"/>
          <a:srcRect l="11413" t="82178" r="29526" b="14374"/>
          <a:stretch/>
        </p:blipFill>
        <p:spPr>
          <a:xfrm>
            <a:off x="1116000" y="5805360"/>
            <a:ext cx="6912000" cy="276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246360" y="609444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图片 3" descr=""/>
          <p:cNvPicPr/>
          <p:nvPr/>
        </p:nvPicPr>
        <p:blipFill>
          <a:blip r:embed="rId1"/>
          <a:srcRect l="16222" t="19553" r="14533" b="18503"/>
          <a:stretch/>
        </p:blipFill>
        <p:spPr>
          <a:xfrm>
            <a:off x="1187280" y="1339920"/>
            <a:ext cx="684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5580000" y="4437000"/>
            <a:ext cx="208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4788000" y="364500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28120" y="616572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4:51:24Z</dcterms:created>
  <dc:creator/>
  <dc:description/>
  <dc:language>en-US</dc:language>
  <cp:lastModifiedBy>ecma</cp:lastModifiedBy>
  <dcterms:modified xsi:type="dcterms:W3CDTF">2015-01-10T08:55:51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