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728-FE21-41FD-B073-89F8ED76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D39-1FF8-49DE-8A49-EBF83C5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2A9-9227-4A26-B312-8952DCC5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A8C-DD55-4715-9276-B9B0C89F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576-5BE6-457D-A87F-E617DBA3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3589-AA52-48BA-846C-A3F0B8D0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06E1-9EE7-4FB4-A0CF-928D4BDE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C9A-C180-4617-8EDE-D7F4DE8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FE5-19A6-447B-A3A4-7998F098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E4F-F63E-4A1A-928B-180C8FB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BEF4-EB02-4AF1-A729-65E46A9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5A3-74DD-480E-9A32-08B6AEF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2117-B86F-4318-A721-B0EEA11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744-C365-4A70-9A6D-7A07324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9CBA-4446-45D8-A02F-E924FC7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10C9-220A-4F5B-8C57-6992855C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A16-F9DE-419A-8B6B-31E743EB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C98E-4389-4AB6-AB78-FFB9A86B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F912-128F-46D0-93A7-1475197C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180A-45EE-4CAC-B113-EAE495F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E212-1A31-493C-98EE-3176C09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7A18-16FD-4A4F-95F8-0C64570B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A7A-7A2B-464C-8AAC-D7CF6F33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172E-8389-429D-B48B-B75EC5BF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77FD-D800-48EE-A8F5-B617177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6245-8F10-48F0-9613-49F2E4C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B354-1A14-4D92-B073-1777790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66D1-CB81-4772-857B-55EA4F23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3460-3DED-4EE2-9839-4B1F2002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98F4-0A8C-4581-B979-436C95AE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3608-9090-42FF-A7A3-22EBAEBF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9C85-7A7B-4F4A-8677-46574C4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8CA6-0FC9-4542-8702-5693523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447-5042-4635-A420-AEF9ECF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48BF-C082-4885-B6CA-EF34937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42CC-321F-43F8-9D9D-3C978468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4885-8582-46B2-AD26-BAE05F18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3F38-193A-4585-BA92-97FE3B7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99A1-40CB-497E-946E-A9C4B35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F225-0BCA-45A9-B551-6683DB82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29C2-CEAD-45D9-8096-1BBE166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21BD-F086-4EA1-AB55-AB7E83B0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4BC9-743F-4BF2-99B4-0A58A96A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C82-9629-4B75-9E30-EF239B0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0CB-146E-43D5-B6C1-04C2E3F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E2E-A37E-43C0-8A65-16E2FFE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FA4-107F-4951-8464-435A7C6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A5F-DE16-4F64-B061-239B652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ECBE-BA94-4684-BC77-BAD1567BA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585-844E-4E5F-AA1F-E44A1EA512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3B1-E2C9-4F94-8C48-766A572EA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A2A-3B09-4867-BA03-FE5AC84C9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68520" y="4676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设计及相关企业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7111440" y="4653000"/>
            <a:ext cx="1217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945120" y="5149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36:25Z</dcterms:created>
  <dc:creator>锐普</dc:creator>
  <dc:description/>
  <dc:language>en-US</dc:language>
  <cp:lastModifiedBy>User</cp:lastModifiedBy>
  <dcterms:modified xsi:type="dcterms:W3CDTF">2015-01-10T12:36:59Z</dcterms:modified>
  <cp:revision>10</cp:revision>
  <dc:subject/>
  <dc:title>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