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3D7-706E-498C-A0AD-0DE695F9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FF1-4338-4D8B-9627-FFCB27BA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6B5-B349-47DD-AAF5-BA395C3C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027-69C8-45EF-937A-21587382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DB91-7A1F-479E-9273-95CF0FF5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D323-0B42-4F2B-B2F4-C684D681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A88D-3321-4592-A85E-364FAC0D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9ABD-BF78-4E4C-B338-F9B70A73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4290-6D03-4762-A35F-F3615189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DC5-BD5F-4EF6-A7C2-8C429666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9121-9043-41EE-BC7C-9C5B7BF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603-B7B2-41DC-8B18-A132CC06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C8F3-5593-489D-8C1C-C15BA98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0F85-9DFF-454F-878C-7E6071F4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3465-6E9D-4F06-9377-51A5DDD0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00D8-E381-4F69-AA4C-BE408BF7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6FD3-4883-4219-9743-FBDBF580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F64-888E-428E-8804-BD779495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698-6461-4FE3-8027-E8674159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DE1-A9AF-47E9-B0F2-524217B1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589-8D3E-418D-945F-CE211BDA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D407-8E88-4A5B-AFF9-C3AF5318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07D-8858-4670-ACC0-5132365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C92-D8D4-4899-8E97-45EF934B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a99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99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99e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530A-1774-47E6-B52E-A71FD6C958B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E110-43C7-40A2-A455-2D52279CEDB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d5f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a99e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a99e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a99e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深蓝工作报告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d5f4"/>
                </a:solidFill>
                <a:latin typeface="Arial"/>
              </a:rPr>
              <a:t>单击此处添加副标题</a:t>
            </a:r>
            <a:endParaRPr b="0" lang="en-US" sz="2800" spc="-1" strike="noStrike">
              <a:solidFill>
                <a:srgbClr val="9cd5f4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日程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9810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4617"/>
              </a:gs>
              <a:gs pos="50000">
                <a:srgbClr val="be9932"/>
              </a:gs>
              <a:gs pos="100000">
                <a:srgbClr val="57461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8954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13466c"/>
              </a:gs>
              <a:gs pos="50000">
                <a:srgbClr val="2a99ec"/>
              </a:gs>
              <a:gs pos="100000">
                <a:srgbClr val="13466c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8098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511d"/>
              </a:gs>
              <a:gs pos="50000">
                <a:srgbClr val="70b040"/>
              </a:gs>
              <a:gs pos="100000">
                <a:srgbClr val="3351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724280"/>
            <a:ext cx="541008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14161"/>
              </a:gs>
              <a:gs pos="50000">
                <a:srgbClr val="6b8ed3"/>
              </a:gs>
              <a:gs pos="100000">
                <a:srgbClr val="31416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d5f4"/>
                </a:solidFill>
                <a:latin typeface="Verdana"/>
              </a:rPr>
              <a:t> </a:t>
            </a: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循环图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91" name="未知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2a99ec"/>
              </a:gs>
              <a:gs pos="100000">
                <a:srgbClr val="eaf4f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beacf"/>
              </a:gs>
              <a:gs pos="100000">
                <a:srgbClr val="70b04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6d8b3"/>
              </a:gs>
              <a:gs pos="100000">
                <a:srgbClr val="be993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cae5f9"/>
              </a:gs>
              <a:gs pos="100000">
                <a:srgbClr val="2a99e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cd5f4"/>
              </a:gs>
              <a:gs pos="100000">
                <a:srgbClr val="678da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dae2f3"/>
              </a:gs>
              <a:gs pos="100000">
                <a:srgbClr val="6b8ed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40160" y="350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a83"/>
                </a:solidFill>
                <a:latin typeface="Verdana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31800" y="19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a83"/>
                </a:solidFill>
                <a:latin typeface="Verdana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3640" y="218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a83"/>
                </a:solidFill>
                <a:latin typeface="Verdana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73720" y="4495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a83"/>
                </a:solidFill>
                <a:latin typeface="Verdana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2760" y="5119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2a83"/>
                </a:solidFill>
                <a:latin typeface="Verdana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循环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1014840" y="1295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添加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流程图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6668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6668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6668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4617"/>
              </a:gs>
              <a:gs pos="100000">
                <a:srgbClr val="be993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8616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11d"/>
              </a:gs>
              <a:gs pos="100000">
                <a:srgbClr val="70b04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3466c"/>
              </a:gs>
              <a:gs pos="100000">
                <a:srgbClr val="2a99e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框图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120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128" name="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33511d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134" name="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2a99ec"/>
                </a:gs>
                <a:gs pos="100000">
                  <a:srgbClr val="13466c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9804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052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072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3560" y="2071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452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700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948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62320" y="3352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表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025720"/>
          <a:ext cx="7620120" cy="34002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标题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三维饼图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0066cc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601600">
            <a:off x="1461960" y="20649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601600">
            <a:off x="1517400" y="190332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601600">
            <a:off x="1382400" y="1920960"/>
            <a:ext cx="5748840" cy="29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67" y="14960"/>
                </a:moveTo>
                <a:arcTo wR="10800" hR="10800" stAng="1359439" swAng="2520569"/>
                <a:lnTo>
                  <a:pt x="10800" y="10800"/>
                </a:lnTo>
                <a:close/>
              </a:path>
              <a:path fill="none" w="21600" h="21600">
                <a:moveTo>
                  <a:pt x="20767" y="14960"/>
                </a:moveTo>
                <a:arcTo wR="10800" hR="10800" stAng="1359439" swAng="2520569"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0601600">
            <a:off x="1434960" y="1888560"/>
            <a:ext cx="569844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rot="20602200">
            <a:off x="1438200" y="1902960"/>
            <a:ext cx="575244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601600">
            <a:off x="1440000" y="1900800"/>
            <a:ext cx="56826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rot="20602200">
            <a:off x="1423440" y="190800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未知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29560" y="1222560"/>
            <a:ext cx="6918480" cy="4356720"/>
            <a:chOff x="529560" y="1222560"/>
            <a:chExt cx="6918480" cy="4356720"/>
          </a:xfrm>
        </p:grpSpPr>
        <p:sp>
          <p:nvSpPr>
            <p:cNvPr id="162" name=""/>
            <p:cNvSpPr/>
            <p:nvPr/>
          </p:nvSpPr>
          <p:spPr>
            <a:xfrm rot="20712600">
              <a:off x="782280" y="1994040"/>
              <a:ext cx="6412680" cy="28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 rot="20712600">
              <a:off x="4186080" y="31921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96097"/>
                </a:gs>
              </a:gsLst>
              <a:lin ang="143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 rot="20712600">
              <a:off x="5562000" y="33602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03680" y="925200"/>
            <a:ext cx="6957360" cy="4863240"/>
            <a:chOff x="1003680" y="925200"/>
            <a:chExt cx="6957360" cy="4863240"/>
          </a:xfrm>
        </p:grpSpPr>
        <p:sp>
          <p:nvSpPr>
            <p:cNvPr id="166" name="未知"/>
            <p:cNvSpPr/>
            <p:nvPr/>
          </p:nvSpPr>
          <p:spPr>
            <a:xfrm rot="20601600">
              <a:off x="6073560" y="326340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17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539200">
              <a:off x="1323720" y="1811160"/>
              <a:ext cx="6316920" cy="3090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33" y="15040"/>
                  </a:moveTo>
                  <a:arcTo wR="10800" hR="10800" stAng="1386854" swAng="2493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33" y="15040"/>
                  </a:moveTo>
                  <a:arcTo wR="10800" hR="10800" stAng="1386854" swAng="2493154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 rot="20601600">
              <a:off x="4757760" y="309348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e8dd3"/>
                </a:gs>
                <a:gs pos="100000">
                  <a:srgbClr val="5007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17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gradFill rotWithShape="0">
            <a:gsLst>
              <a:gs pos="0">
                <a:srgbClr val="152a83"/>
              </a:gs>
              <a:gs pos="100000">
                <a:srgbClr val="060d2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71600" y="243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71400" y="1981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42600" y="2743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14000" y="40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6480" y="426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7920" y="342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870120" y="4103640"/>
            <a:ext cx="1512720" cy="1511280"/>
            <a:chOff x="870120" y="4103640"/>
            <a:chExt cx="1512720" cy="1511280"/>
          </a:xfrm>
        </p:grpSpPr>
        <p:sp>
          <p:nvSpPr>
            <p:cNvPr id="178" name=""/>
            <p:cNvSpPr/>
            <p:nvPr/>
          </p:nvSpPr>
          <p:spPr>
            <a:xfrm>
              <a:off x="870120" y="4103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cd5f4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70120" y="41036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9cd5f4"/>
                </a:gs>
                <a:gs pos="100000">
                  <a:srgbClr val="b9e0f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69120" y="4202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47283"/>
                </a:gs>
                <a:gs pos="50000">
                  <a:srgbClr val="9cd5f4"/>
                </a:gs>
                <a:gs pos="100000">
                  <a:srgbClr val="5472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69120" y="42022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b6776"/>
                </a:gs>
                <a:gs pos="100000">
                  <a:srgbClr val="9cd5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35000" y="42681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476270"/>
                </a:gs>
                <a:gs pos="100000">
                  <a:srgbClr val="9cd5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市场分析图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463760" y="232740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cd5f4"/>
              </a:gs>
              <a:gs pos="100000">
                <a:srgbClr val="ddf0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486320" y="4051440"/>
            <a:ext cx="1512720" cy="1511280"/>
            <a:chOff x="4486320" y="4051440"/>
            <a:chExt cx="1512720" cy="1511280"/>
          </a:xfrm>
        </p:grpSpPr>
        <p:sp>
          <p:nvSpPr>
            <p:cNvPr id="186" name=""/>
            <p:cNvSpPr/>
            <p:nvPr/>
          </p:nvSpPr>
          <p:spPr>
            <a:xfrm>
              <a:off x="4486320" y="40514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e993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86320" y="40514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be9932"/>
                </a:gs>
                <a:gs pos="100000">
                  <a:srgbClr val="d8c3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85320" y="41500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6521a"/>
                </a:gs>
                <a:gs pos="50000">
                  <a:srgbClr val="be9932"/>
                </a:gs>
                <a:gs pos="100000">
                  <a:srgbClr val="6652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85320" y="41500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5c4a18"/>
                </a:gs>
                <a:gs pos="100000">
                  <a:srgbClr val="be99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51200" y="42159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574617"/>
                </a:gs>
                <a:gs pos="100000">
                  <a:srgbClr val="be9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59400" y="4051440"/>
            <a:ext cx="1513080" cy="1511280"/>
            <a:chOff x="6359400" y="4051440"/>
            <a:chExt cx="1513080" cy="1511280"/>
          </a:xfrm>
        </p:grpSpPr>
        <p:sp>
          <p:nvSpPr>
            <p:cNvPr id="192" name=""/>
            <p:cNvSpPr/>
            <p:nvPr/>
          </p:nvSpPr>
          <p:spPr>
            <a:xfrm>
              <a:off x="6359400" y="40514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b8e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59400" y="405144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6b8ed3"/>
                </a:gs>
                <a:gs pos="100000">
                  <a:srgbClr val="9bb2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58400" y="41500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94c71"/>
                </a:gs>
                <a:gs pos="50000">
                  <a:srgbClr val="6b8ed3"/>
                </a:gs>
                <a:gs pos="100000">
                  <a:srgbClr val="394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58400" y="415008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334466"/>
                </a:gs>
                <a:gs pos="100000">
                  <a:srgbClr val="6b8e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4280" y="421596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314161"/>
                </a:gs>
                <a:gs pos="100000">
                  <a:srgbClr val="6b8e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687760" y="4051440"/>
            <a:ext cx="1512720" cy="1511280"/>
            <a:chOff x="2687760" y="4051440"/>
            <a:chExt cx="1512720" cy="1511280"/>
          </a:xfrm>
        </p:grpSpPr>
        <p:sp>
          <p:nvSpPr>
            <p:cNvPr id="198" name=""/>
            <p:cNvSpPr/>
            <p:nvPr/>
          </p:nvSpPr>
          <p:spPr>
            <a:xfrm>
              <a:off x="2687760" y="40514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0b04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87760" y="405144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70b040"/>
                </a:gs>
                <a:gs pos="100000">
                  <a:srgbClr val="9ac7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86760" y="41500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c5e22"/>
                </a:gs>
                <a:gs pos="50000">
                  <a:srgbClr val="70b040"/>
                </a:gs>
                <a:gs pos="100000">
                  <a:srgbClr val="3c5e2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86760" y="415008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6551f"/>
                </a:gs>
                <a:gs pos="100000">
                  <a:srgbClr val="70b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52640" y="42159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3511d"/>
                </a:gs>
                <a:gs pos="100000">
                  <a:srgbClr val="70b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905120" y="1689120"/>
            <a:ext cx="4876560" cy="457200"/>
          </a:xfrm>
          <a:prstGeom prst="roundRect">
            <a:avLst>
              <a:gd name="adj" fmla="val 50000"/>
            </a:avLst>
          </a:prstGeom>
          <a:solidFill>
            <a:srgbClr val="2a99e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5920" y="467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3520" y="467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4720" y="4675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8280" y="466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93360" y="60958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0b04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d5f4"/>
                </a:solidFill>
                <a:latin typeface="Verdana"/>
              </a:rPr>
              <a:t>使用规范说明</a:t>
            </a:r>
            <a:endParaRPr b="0" lang="en-US" sz="4000" spc="-1" strike="noStrike">
              <a:solidFill>
                <a:srgbClr val="9cd5f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70b04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7:59:14Z</dcterms:created>
  <dc:creator/>
  <dc:description/>
  <dc:language>en-US</dc:language>
  <cp:lastModifiedBy/>
  <dcterms:modified xsi:type="dcterms:W3CDTF">2015-01-10T11:36:51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367952052</vt:lpwstr>
  </property>
</Properties>
</file>