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DAA-4F47-48DD-B897-19E2A138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93F-96C8-4FAC-B27B-AC32AE46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AF7-BB9F-46F9-8004-44CB13BC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964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2428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500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0964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2428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91C-717F-4273-BD2F-458A93F6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B57B-BB14-45C0-99F9-105933A8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4B2A-0DCD-47E4-A399-FB4B5484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077F-4851-40D1-9EDF-C7658387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5405-5C2E-4F69-8DDE-A74B22D0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4757-AB32-423B-8FFB-CBCC49B0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0E41-8954-4518-A78D-7F133F0A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BDA4-5760-4B14-8ADF-83A9E62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308-0145-496A-A8D0-509135BF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8E76-73F5-4C9D-A7E0-BA33EBD5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3195-155D-4567-814B-EB66AA34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7A4C-25D3-4CAF-A5C6-B1BA9A08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BABB-2F02-496B-8FF4-ACE875D3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964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2428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500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0964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52428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253A-80FE-45D5-BC57-AF094A28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B4C-4A94-4578-A3A8-B197BC83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B86-FF48-49C5-9C11-7F611416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489-EFD0-43ED-BF87-6887CC02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AAF-3F9E-4D56-9D28-09A1A31C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1CD-433A-4200-9CDB-AFC3AAB1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51F-9190-4425-B12A-BFBF1EFA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7B9-24C4-4C16-BEDE-61295AC3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内页副本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8024760" y="31104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图片 8" descr="圣诞.jp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7"/>
          <p:cNvSpPr/>
          <p:nvPr/>
        </p:nvSpPr>
        <p:spPr>
          <a:xfrm>
            <a:off x="8024760" y="31104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10" descr="1.png"/>
          <p:cNvPicPr/>
          <p:nvPr/>
        </p:nvPicPr>
        <p:blipFill>
          <a:blip r:embed="rId4"/>
          <a:stretch/>
        </p:blipFill>
        <p:spPr>
          <a:xfrm>
            <a:off x="7574040" y="600120"/>
            <a:ext cx="911160" cy="860400"/>
          </a:xfrm>
          <a:prstGeom prst="rect">
            <a:avLst/>
          </a:prstGeom>
          <a:ln w="0">
            <a:noFill/>
          </a:ln>
        </p:spPr>
      </p:pic>
      <p:pic>
        <p:nvPicPr>
          <p:cNvPr id="5" name="图片 11" descr="1.png"/>
          <p:cNvPicPr/>
          <p:nvPr/>
        </p:nvPicPr>
        <p:blipFill>
          <a:blip r:embed="rId5"/>
          <a:stretch/>
        </p:blipFill>
        <p:spPr>
          <a:xfrm rot="20010600">
            <a:off x="6254640" y="5997600"/>
            <a:ext cx="911160" cy="860400"/>
          </a:xfrm>
          <a:prstGeom prst="rect">
            <a:avLst/>
          </a:prstGeom>
          <a:ln w="0">
            <a:noFill/>
          </a:ln>
        </p:spPr>
      </p:pic>
      <p:pic>
        <p:nvPicPr>
          <p:cNvPr id="6" name="图片 12" descr="1.png"/>
          <p:cNvPicPr/>
          <p:nvPr/>
        </p:nvPicPr>
        <p:blipFill>
          <a:blip r:embed="rId6"/>
          <a:stretch/>
        </p:blipFill>
        <p:spPr>
          <a:xfrm rot="20010600">
            <a:off x="7746840" y="5803560"/>
            <a:ext cx="584280" cy="552600"/>
          </a:xfrm>
          <a:prstGeom prst="rect">
            <a:avLst/>
          </a:prstGeom>
          <a:ln w="0">
            <a:noFill/>
          </a:ln>
        </p:spPr>
      </p:pic>
      <p:pic>
        <p:nvPicPr>
          <p:cNvPr id="7" name="图片 13" descr="1.png"/>
          <p:cNvPicPr/>
          <p:nvPr/>
        </p:nvPicPr>
        <p:blipFill>
          <a:blip r:embed="rId7"/>
          <a:stretch/>
        </p:blipFill>
        <p:spPr>
          <a:xfrm rot="20010600">
            <a:off x="7715160" y="4624560"/>
            <a:ext cx="911160" cy="860400"/>
          </a:xfrm>
          <a:prstGeom prst="rect">
            <a:avLst/>
          </a:prstGeom>
          <a:ln w="0">
            <a:noFill/>
          </a:ln>
        </p:spPr>
      </p:pic>
      <p:pic>
        <p:nvPicPr>
          <p:cNvPr id="8" name="图片 14" descr="1.png"/>
          <p:cNvPicPr/>
          <p:nvPr/>
        </p:nvPicPr>
        <p:blipFill>
          <a:blip r:embed="rId8"/>
          <a:stretch/>
        </p:blipFill>
        <p:spPr>
          <a:xfrm rot="20010600">
            <a:off x="7262280" y="3381480"/>
            <a:ext cx="438480" cy="412560"/>
          </a:xfrm>
          <a:prstGeom prst="rect">
            <a:avLst/>
          </a:prstGeom>
          <a:ln w="0">
            <a:noFill/>
          </a:ln>
        </p:spPr>
      </p:pic>
      <p:pic>
        <p:nvPicPr>
          <p:cNvPr id="9" name="图片 15" descr="1.png"/>
          <p:cNvPicPr/>
          <p:nvPr/>
        </p:nvPicPr>
        <p:blipFill>
          <a:blip r:embed="rId9"/>
          <a:stretch/>
        </p:blipFill>
        <p:spPr>
          <a:xfrm rot="20010600">
            <a:off x="8011800" y="2474640"/>
            <a:ext cx="374760" cy="35244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6" descr="1.png"/>
          <p:cNvPicPr/>
          <p:nvPr/>
        </p:nvPicPr>
        <p:blipFill>
          <a:blip r:embed="rId10"/>
          <a:stretch/>
        </p:blipFill>
        <p:spPr>
          <a:xfrm rot="20010600">
            <a:off x="7702200" y="2098800"/>
            <a:ext cx="277920" cy="2635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5D5D-DEC6-44ED-BEC7-9BE36E441E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" descr="内页副本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8024760" y="31104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8" descr="内页副本.jp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8024760" y="31104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FBB3-E498-4AFD-90B0-218A566455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5080" y="2357280"/>
            <a:ext cx="6429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细黑"/>
              </a:rPr>
              <a:t>深蓝色精品圣诞</a:t>
            </a:r>
            <a:r>
              <a:rPr b="1" lang="zh-CN" sz="3600" spc="-1" strike="noStrike">
                <a:solidFill>
                  <a:srgbClr val="ffffff"/>
                </a:solidFill>
                <a:latin typeface="华文细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华文细黑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5440" y="3246120"/>
            <a:ext cx="49672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华文细黑"/>
              </a:rPr>
              <a:t>单击此处添加副标题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"/>
          <p:cNvSpPr/>
          <p:nvPr/>
        </p:nvSpPr>
        <p:spPr>
          <a:xfrm>
            <a:off x="572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模板使用说明</a:t>
            </a: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95000" y="1071720"/>
            <a:ext cx="89154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；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模板中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，更换您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本模板默认字体为“华文细黑”，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如需修改字体请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版权说明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此模板为免费模板，请不要用于任何形式的付费下载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5080" y="2357280"/>
            <a:ext cx="6429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华文细黑"/>
              </a:rPr>
              <a:t>感谢聆听！</a:t>
            </a:r>
            <a:endParaRPr b="1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95440" y="3246120"/>
            <a:ext cx="49672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华文细黑"/>
              </a:rPr>
              <a:t>Thanks for your time</a:t>
            </a:r>
            <a:r>
              <a:rPr b="0" lang="zh-CN" sz="1600" spc="-1" strike="noStrike">
                <a:solidFill>
                  <a:srgbClr val="898989"/>
                </a:solidFill>
                <a:latin typeface="华文细黑"/>
              </a:rPr>
              <a:t>！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1376280"/>
            <a:ext cx="9126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587520" y="4222800"/>
            <a:ext cx="89708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5:14:40Z</dcterms:created>
  <dc:creator/>
  <dc:description/>
  <dc:language>en-US</dc:language>
  <cp:lastModifiedBy>许多</cp:lastModifiedBy>
  <dcterms:modified xsi:type="dcterms:W3CDTF">2015-01-10T09:08:28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