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47B-1B1D-4E2B-887D-9150E98A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64F-CBC5-4B3D-AB85-9B1D11D7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78D-ED7A-4DC3-A9D0-C5CAD550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EB9-9426-4B54-8D44-DF3A0363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E9F-B505-4969-9884-C34C66A0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6E3-ECB0-453F-8749-143402C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457-E230-405C-8DF5-B3691751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B39-B42E-40F8-8A7D-84E7B60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3C0-D987-423E-9753-3D4E8AF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558-7061-44B9-A02E-891EB551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B39-9770-416D-BD51-80BB148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33B-740D-47DD-986F-28EAD49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0D92-408F-4894-9BCB-B5AFCE209A86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262626"/>
                </a:solidFill>
                <a:latin typeface="Calibri"/>
              </a:rPr>
              <a:t>深绿色</a:t>
            </a:r>
            <a:r>
              <a:rPr b="0" lang="zh-CN" sz="3800" spc="-1" strike="noStrike">
                <a:solidFill>
                  <a:srgbClr val="262626"/>
                </a:solidFill>
                <a:latin typeface="Calibri"/>
                <a:ea typeface="宋体"/>
              </a:rPr>
              <a:t>PPT</a:t>
            </a:r>
            <a:r>
              <a:rPr b="0" lang="fr-CA" sz="3800" spc="-1" strike="noStrike">
                <a:solidFill>
                  <a:srgbClr val="262626"/>
                </a:solidFill>
                <a:latin typeface="Calibri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98360"/>
            <a:ext cx="64008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Company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3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748880" y="6404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1:40:49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1T09:29:24Z</dcterms:modified>
  <cp:revision>1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