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88B9-D1BE-4FB2-9C90-B31E88B3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CF34-2D03-44F4-B472-D4A21BF3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60D4-6C48-430A-A31B-76B04FD3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E2F3-B2AD-462D-813B-35F3C771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B38B-63E5-4234-902B-6EB273FB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1D2E-9961-4AD0-9A0B-DAF46F5B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2864-23F5-4C4A-AEBC-AFA8FFA8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4840-E240-439A-82B2-1879F0A0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4586-202D-4DEE-842B-000EE263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6352-1C31-4179-8C77-9DE9F130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357-F431-4111-9EBB-4019B2DC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17E9-8EEE-4A2B-AC0C-C436E8DE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6B03-E918-42F8-99C8-1BC72221D7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4"/>
          <p:cNvSpPr/>
          <p:nvPr/>
        </p:nvSpPr>
        <p:spPr>
          <a:xfrm>
            <a:off x="4581360" y="3308400"/>
            <a:ext cx="37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深蓝时尚报告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直接连接符 16"/>
          <p:cNvSpPr/>
          <p:nvPr/>
        </p:nvSpPr>
        <p:spPr>
          <a:xfrm>
            <a:off x="4579920" y="3821040"/>
            <a:ext cx="3382920" cy="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文本框 18"/>
          <p:cNvSpPr/>
          <p:nvPr/>
        </p:nvSpPr>
        <p:spPr>
          <a:xfrm>
            <a:off x="4794120" y="388152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re adds your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971960" y="1630440"/>
            <a:ext cx="2544840" cy="1469880"/>
            <a:chOff x="4971960" y="1630440"/>
            <a:chExt cx="2544840" cy="1469880"/>
          </a:xfrm>
        </p:grpSpPr>
        <p:sp>
          <p:nvSpPr>
            <p:cNvPr id="45" name="Rectangle 9"/>
            <p:cNvSpPr/>
            <p:nvPr/>
          </p:nvSpPr>
          <p:spPr>
            <a:xfrm>
              <a:off x="5109120" y="2378160"/>
              <a:ext cx="297360" cy="7189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Line 13"/>
            <p:cNvSpPr/>
            <p:nvPr/>
          </p:nvSpPr>
          <p:spPr>
            <a:xfrm>
              <a:off x="4971960" y="3099600"/>
              <a:ext cx="2544840" cy="720"/>
            </a:xfrm>
            <a:prstGeom prst="line">
              <a:avLst/>
            </a:prstGeom>
            <a:ln w="28440">
              <a:solidFill>
                <a:srgbClr val="dc7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5088240" y="1630440"/>
              <a:ext cx="2406240" cy="68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8716" y="16145"/>
                  </a:lnTo>
                  <a:lnTo>
                    <a:pt x="11906" y="6850"/>
                  </a:lnTo>
                  <a:lnTo>
                    <a:pt x="21600" y="0"/>
                  </a:lnTo>
                </a:path>
              </a:pathLst>
            </a:custGeom>
            <a:noFill/>
            <a:ln w="19080">
              <a:solidFill>
                <a:srgbClr val="ffc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590800" y="2315160"/>
              <a:ext cx="297360" cy="7819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Rectangle 9"/>
            <p:cNvSpPr/>
            <p:nvPr/>
          </p:nvSpPr>
          <p:spPr>
            <a:xfrm>
              <a:off x="6072120" y="2202840"/>
              <a:ext cx="297360" cy="8938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6553440" y="1967040"/>
              <a:ext cx="297360" cy="11300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7034760" y="1809720"/>
              <a:ext cx="297360" cy="12870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文本框 26"/>
          <p:cNvSpPr/>
          <p:nvPr/>
        </p:nvSpPr>
        <p:spPr>
          <a:xfrm>
            <a:off x="119160" y="638028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公司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27"/>
          <p:cNvSpPr/>
          <p:nvPr/>
        </p:nvSpPr>
        <p:spPr>
          <a:xfrm>
            <a:off x="10844280" y="638028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E5B1-21C7-48BA-B597-4FC419322507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10341000" y="600084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14"/>
          <p:cNvSpPr/>
          <p:nvPr/>
        </p:nvSpPr>
        <p:spPr>
          <a:xfrm>
            <a:off x="1533600" y="1239840"/>
            <a:ext cx="11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接连接符 16"/>
          <p:cNvSpPr/>
          <p:nvPr/>
        </p:nvSpPr>
        <p:spPr>
          <a:xfrm>
            <a:off x="1687680" y="1922400"/>
            <a:ext cx="3382920" cy="0"/>
          </a:xfrm>
          <a:prstGeom prst="line">
            <a:avLst/>
          </a:prstGeom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文本框 18"/>
          <p:cNvSpPr/>
          <p:nvPr/>
        </p:nvSpPr>
        <p:spPr>
          <a:xfrm>
            <a:off x="2319480" y="2682720"/>
            <a:ext cx="31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re adds your Tit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2"/>
          <p:cNvSpPr/>
          <p:nvPr/>
        </p:nvSpPr>
        <p:spPr>
          <a:xfrm flipH="1">
            <a:off x="1971720" y="2719440"/>
            <a:ext cx="347760" cy="44748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15"/>
          <p:cNvSpPr/>
          <p:nvPr/>
        </p:nvSpPr>
        <p:spPr>
          <a:xfrm>
            <a:off x="1687680" y="2614680"/>
            <a:ext cx="3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7"/>
          <p:cNvSpPr/>
          <p:nvPr/>
        </p:nvSpPr>
        <p:spPr>
          <a:xfrm>
            <a:off x="2319480" y="3567240"/>
            <a:ext cx="31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re adds your Tit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接连接符 19"/>
          <p:cNvSpPr/>
          <p:nvPr/>
        </p:nvSpPr>
        <p:spPr>
          <a:xfrm flipH="1">
            <a:off x="1971720" y="3605040"/>
            <a:ext cx="347760" cy="44784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25"/>
          <p:cNvSpPr/>
          <p:nvPr/>
        </p:nvSpPr>
        <p:spPr>
          <a:xfrm>
            <a:off x="1687680" y="3498840"/>
            <a:ext cx="3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文本框 26"/>
          <p:cNvSpPr/>
          <p:nvPr/>
        </p:nvSpPr>
        <p:spPr>
          <a:xfrm>
            <a:off x="2319480" y="4451400"/>
            <a:ext cx="31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re adds your Tit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直接连接符 27"/>
          <p:cNvSpPr/>
          <p:nvPr/>
        </p:nvSpPr>
        <p:spPr>
          <a:xfrm flipH="1">
            <a:off x="1971720" y="4489560"/>
            <a:ext cx="347760" cy="44748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28"/>
          <p:cNvSpPr/>
          <p:nvPr/>
        </p:nvSpPr>
        <p:spPr>
          <a:xfrm>
            <a:off x="1687680" y="4383000"/>
            <a:ext cx="3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9"/>
          <p:cNvSpPr/>
          <p:nvPr/>
        </p:nvSpPr>
        <p:spPr>
          <a:xfrm>
            <a:off x="7209000" y="2682720"/>
            <a:ext cx="31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re adds your Tit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直接连接符 30"/>
          <p:cNvSpPr/>
          <p:nvPr/>
        </p:nvSpPr>
        <p:spPr>
          <a:xfrm flipH="1">
            <a:off x="6861240" y="2719440"/>
            <a:ext cx="347760" cy="44748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31"/>
          <p:cNvSpPr/>
          <p:nvPr/>
        </p:nvSpPr>
        <p:spPr>
          <a:xfrm>
            <a:off x="6578640" y="2614680"/>
            <a:ext cx="3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32"/>
          <p:cNvSpPr/>
          <p:nvPr/>
        </p:nvSpPr>
        <p:spPr>
          <a:xfrm>
            <a:off x="7209000" y="3567240"/>
            <a:ext cx="31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re adds your Tit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接连接符 33"/>
          <p:cNvSpPr/>
          <p:nvPr/>
        </p:nvSpPr>
        <p:spPr>
          <a:xfrm flipH="1">
            <a:off x="6861240" y="3605040"/>
            <a:ext cx="347760" cy="44784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34"/>
          <p:cNvSpPr/>
          <p:nvPr/>
        </p:nvSpPr>
        <p:spPr>
          <a:xfrm>
            <a:off x="6578640" y="3498840"/>
            <a:ext cx="3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文本框 35"/>
          <p:cNvSpPr/>
          <p:nvPr/>
        </p:nvSpPr>
        <p:spPr>
          <a:xfrm>
            <a:off x="7209000" y="4451400"/>
            <a:ext cx="31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re adds your Tit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接连接符 36"/>
          <p:cNvSpPr/>
          <p:nvPr/>
        </p:nvSpPr>
        <p:spPr>
          <a:xfrm flipH="1">
            <a:off x="6861240" y="4489560"/>
            <a:ext cx="347760" cy="447480"/>
          </a:xfrm>
          <a:prstGeom prst="line">
            <a:avLst/>
          </a:prstGeom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37"/>
          <p:cNvSpPr/>
          <p:nvPr/>
        </p:nvSpPr>
        <p:spPr>
          <a:xfrm>
            <a:off x="6578640" y="4383000"/>
            <a:ext cx="3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本框 38"/>
          <p:cNvSpPr/>
          <p:nvPr/>
        </p:nvSpPr>
        <p:spPr>
          <a:xfrm>
            <a:off x="119160" y="638028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公司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文本框 39"/>
          <p:cNvSpPr/>
          <p:nvPr/>
        </p:nvSpPr>
        <p:spPr>
          <a:xfrm>
            <a:off x="10844280" y="638028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6074-DE99-4C82-B03B-2B69AD2BBC06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直接连接符 16"/>
          <p:cNvSpPr/>
          <p:nvPr/>
        </p:nvSpPr>
        <p:spPr>
          <a:xfrm>
            <a:off x="1617840" y="1922400"/>
            <a:ext cx="3384360" cy="0"/>
          </a:xfrm>
          <a:prstGeom prst="line">
            <a:avLst/>
          </a:prstGeom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18"/>
          <p:cNvSpPr/>
          <p:nvPr/>
        </p:nvSpPr>
        <p:spPr>
          <a:xfrm>
            <a:off x="1523880" y="139860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re adds your Tit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1617840" y="2066760"/>
            <a:ext cx="8708760" cy="2426040"/>
          </a:xfrm>
          <a:prstGeom prst="rect">
            <a:avLst/>
          </a:prstGeom>
          <a:noFill/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23"/>
          <p:cNvSpPr/>
          <p:nvPr/>
        </p:nvSpPr>
        <p:spPr>
          <a:xfrm>
            <a:off x="2255760" y="2103480"/>
            <a:ext cx="737712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文本框 38"/>
          <p:cNvSpPr/>
          <p:nvPr/>
        </p:nvSpPr>
        <p:spPr>
          <a:xfrm>
            <a:off x="119160" y="638028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公司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文本框 39"/>
          <p:cNvSpPr/>
          <p:nvPr/>
        </p:nvSpPr>
        <p:spPr>
          <a:xfrm>
            <a:off x="10844280" y="638028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7246-A3B4-40EA-99AE-75832439C614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直接连接符 16"/>
          <p:cNvSpPr/>
          <p:nvPr/>
        </p:nvSpPr>
        <p:spPr>
          <a:xfrm>
            <a:off x="1617840" y="1922400"/>
            <a:ext cx="3384360" cy="0"/>
          </a:xfrm>
          <a:prstGeom prst="line">
            <a:avLst/>
          </a:prstGeom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文本框 18"/>
          <p:cNvSpPr/>
          <p:nvPr/>
        </p:nvSpPr>
        <p:spPr>
          <a:xfrm>
            <a:off x="1523880" y="139860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re adds your Tit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38"/>
          <p:cNvSpPr/>
          <p:nvPr/>
        </p:nvSpPr>
        <p:spPr>
          <a:xfrm>
            <a:off x="119160" y="638028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公司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39"/>
          <p:cNvSpPr/>
          <p:nvPr/>
        </p:nvSpPr>
        <p:spPr>
          <a:xfrm>
            <a:off x="10844280" y="638028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F66C-4D38-4F52-9AD4-AE93100BE39E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341720" y="2387520"/>
            <a:ext cx="1823040" cy="1823040"/>
            <a:chOff x="1341720" y="2387520"/>
            <a:chExt cx="1823040" cy="1823040"/>
          </a:xfrm>
        </p:grpSpPr>
        <p:sp>
          <p:nvSpPr>
            <p:cNvPr id="88" name="同心圆 2"/>
            <p:cNvSpPr/>
            <p:nvPr/>
          </p:nvSpPr>
          <p:spPr>
            <a:xfrm>
              <a:off x="1523880" y="2563920"/>
              <a:ext cx="1471680" cy="1471680"/>
            </a:xfrm>
            <a:custGeom>
              <a:avLst/>
              <a:gdLst/>
              <a:ahLst/>
              <a:rect l="l" t="t" r="r" b="b"/>
              <a:pathLst>
                <a:path w="1471729" h="1471729">
                  <a:moveTo>
                    <a:pt x="0" y="735865"/>
                  </a:moveTo>
                  <a:cubicBezTo>
                    <a:pt x="0" y="329458"/>
                    <a:pt x="329458" y="0"/>
                    <a:pt x="735865" y="0"/>
                  </a:cubicBezTo>
                  <a:cubicBezTo>
                    <a:pt x="1142272" y="0"/>
                    <a:pt x="1471730" y="329458"/>
                    <a:pt x="1471730" y="735865"/>
                  </a:cubicBezTo>
                  <a:cubicBezTo>
                    <a:pt x="1471730" y="1142272"/>
                    <a:pt x="1142272" y="1471730"/>
                    <a:pt x="735865" y="1471730"/>
                  </a:cubicBezTo>
                  <a:cubicBezTo>
                    <a:pt x="329458" y="1471730"/>
                    <a:pt x="0" y="1142272"/>
                    <a:pt x="0" y="735865"/>
                  </a:cubicBezTo>
                  <a:close/>
                  <a:moveTo>
                    <a:pt x="0" y="735865"/>
                  </a:moveTo>
                  <a:cubicBezTo>
                    <a:pt x="0" y="1142272"/>
                    <a:pt x="329458" y="1471730"/>
                    <a:pt x="735865" y="1471730"/>
                  </a:cubicBezTo>
                  <a:cubicBezTo>
                    <a:pt x="1142272" y="1471730"/>
                    <a:pt x="1471730" y="1142272"/>
                    <a:pt x="1471730" y="735865"/>
                  </a:cubicBezTo>
                  <a:cubicBezTo>
                    <a:pt x="1471730" y="329458"/>
                    <a:pt x="1142272" y="0"/>
                    <a:pt x="735865" y="0"/>
                  </a:cubicBezTo>
                  <a:cubicBezTo>
                    <a:pt x="329458" y="0"/>
                    <a:pt x="0" y="329458"/>
                    <a:pt x="0" y="735865"/>
                  </a:cubicBez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空心弧 3"/>
            <p:cNvSpPr/>
            <p:nvPr/>
          </p:nvSpPr>
          <p:spPr>
            <a:xfrm rot="12246000">
              <a:off x="1563120" y="2608920"/>
              <a:ext cx="1379880" cy="1379880"/>
            </a:xfrm>
            <a:custGeom>
              <a:avLst/>
              <a:gdLst/>
              <a:ahLst/>
              <a:rect l="l" t="t" r="r" b="b"/>
              <a:pathLst>
                <a:path w="1379646" h="1379648">
                  <a:moveTo>
                    <a:pt x="0" y="689824"/>
                  </a:moveTo>
                  <a:cubicBezTo>
                    <a:pt x="0" y="390829"/>
                    <a:pt x="192617" y="125873"/>
                    <a:pt x="477031" y="33641"/>
                  </a:cubicBezTo>
                  <a:cubicBezTo>
                    <a:pt x="761445" y="-58591"/>
                    <a:pt x="1072897" y="42902"/>
                    <a:pt x="1248365" y="284995"/>
                  </a:cubicBezTo>
                  <a:cubicBezTo>
                    <a:pt x="1423832" y="527088"/>
                    <a:pt x="1423364" y="854659"/>
                    <a:pt x="1247205" y="1096249"/>
                  </a:cubicBezTo>
                  <a:lnTo>
                    <a:pt x="1093624" y="984263"/>
                  </a:lnTo>
                  <a:cubicBezTo>
                    <a:pt x="1221244" y="809241"/>
                    <a:pt x="1221584" y="571928"/>
                    <a:pt x="1094465" y="396542"/>
                  </a:cubicBezTo>
                  <a:cubicBezTo>
                    <a:pt x="967346" y="221155"/>
                    <a:pt x="741711" y="147627"/>
                    <a:pt x="535664" y="214446"/>
                  </a:cubicBezTo>
                  <a:cubicBezTo>
                    <a:pt x="329618" y="281264"/>
                    <a:pt x="190074" y="473215"/>
                    <a:pt x="190074" y="689825"/>
                  </a:cubicBezTo>
                  <a:lnTo>
                    <a:pt x="0" y="689824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977720" y="2387520"/>
            <a:ext cx="1822680" cy="1823040"/>
            <a:chOff x="4977720" y="2387520"/>
            <a:chExt cx="1822680" cy="1823040"/>
          </a:xfrm>
        </p:grpSpPr>
        <p:sp>
          <p:nvSpPr>
            <p:cNvPr id="91" name="同心圆 11"/>
            <p:cNvSpPr/>
            <p:nvPr/>
          </p:nvSpPr>
          <p:spPr>
            <a:xfrm>
              <a:off x="5159520" y="2563920"/>
              <a:ext cx="1471320" cy="1471680"/>
            </a:xfrm>
            <a:custGeom>
              <a:avLst/>
              <a:gdLst/>
              <a:ahLst/>
              <a:rect l="l" t="t" r="r" b="b"/>
              <a:pathLst>
                <a:path w="1471729" h="1471729">
                  <a:moveTo>
                    <a:pt x="0" y="735865"/>
                  </a:moveTo>
                  <a:cubicBezTo>
                    <a:pt x="0" y="329458"/>
                    <a:pt x="329458" y="0"/>
                    <a:pt x="735865" y="0"/>
                  </a:cubicBezTo>
                  <a:cubicBezTo>
                    <a:pt x="1142272" y="0"/>
                    <a:pt x="1471730" y="329458"/>
                    <a:pt x="1471730" y="735865"/>
                  </a:cubicBezTo>
                  <a:cubicBezTo>
                    <a:pt x="1471730" y="1142272"/>
                    <a:pt x="1142272" y="1471730"/>
                    <a:pt x="735865" y="1471730"/>
                  </a:cubicBezTo>
                  <a:cubicBezTo>
                    <a:pt x="329458" y="1471730"/>
                    <a:pt x="0" y="1142272"/>
                    <a:pt x="0" y="735865"/>
                  </a:cubicBezTo>
                  <a:close/>
                  <a:moveTo>
                    <a:pt x="0" y="735865"/>
                  </a:moveTo>
                  <a:cubicBezTo>
                    <a:pt x="0" y="1142272"/>
                    <a:pt x="329458" y="1471730"/>
                    <a:pt x="735865" y="1471730"/>
                  </a:cubicBezTo>
                  <a:cubicBezTo>
                    <a:pt x="1142272" y="1471730"/>
                    <a:pt x="1471730" y="1142272"/>
                    <a:pt x="1471730" y="735865"/>
                  </a:cubicBezTo>
                  <a:cubicBezTo>
                    <a:pt x="1471730" y="329458"/>
                    <a:pt x="1142272" y="0"/>
                    <a:pt x="735865" y="0"/>
                  </a:cubicBezTo>
                  <a:cubicBezTo>
                    <a:pt x="329458" y="0"/>
                    <a:pt x="0" y="329458"/>
                    <a:pt x="0" y="735865"/>
                  </a:cubicBez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空心弧 12"/>
            <p:cNvSpPr/>
            <p:nvPr/>
          </p:nvSpPr>
          <p:spPr>
            <a:xfrm rot="12246000">
              <a:off x="5199120" y="2608920"/>
              <a:ext cx="1379520" cy="1379880"/>
            </a:xfrm>
            <a:custGeom>
              <a:avLst/>
              <a:gdLst/>
              <a:ahLst/>
              <a:rect l="l" t="t" r="r" b="b"/>
              <a:pathLst>
                <a:path w="1379646" h="1379648">
                  <a:moveTo>
                    <a:pt x="149057" y="1118109"/>
                  </a:moveTo>
                  <a:cubicBezTo>
                    <a:pt x="-72511" y="838350"/>
                    <a:pt x="-44122" y="435781"/>
                    <a:pt x="214515" y="189885"/>
                  </a:cubicBezTo>
                  <a:cubicBezTo>
                    <a:pt x="473152" y="-56011"/>
                    <a:pt x="876641" y="-64043"/>
                    <a:pt x="1144860" y="171366"/>
                  </a:cubicBezTo>
                  <a:cubicBezTo>
                    <a:pt x="1413078" y="406774"/>
                    <a:pt x="1457465" y="807894"/>
                    <a:pt x="1247206" y="1096249"/>
                  </a:cubicBezTo>
                  <a:lnTo>
                    <a:pt x="1093624" y="984263"/>
                  </a:lnTo>
                  <a:cubicBezTo>
                    <a:pt x="1245948" y="775361"/>
                    <a:pt x="1213791" y="484766"/>
                    <a:pt x="1019479" y="314222"/>
                  </a:cubicBezTo>
                  <a:cubicBezTo>
                    <a:pt x="825166" y="143678"/>
                    <a:pt x="532854" y="149497"/>
                    <a:pt x="345482" y="327639"/>
                  </a:cubicBezTo>
                  <a:cubicBezTo>
                    <a:pt x="158110" y="505780"/>
                    <a:pt x="137543" y="797425"/>
                    <a:pt x="298060" y="1000100"/>
                  </a:cubicBezTo>
                  <a:lnTo>
                    <a:pt x="149057" y="111810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8612640" y="2387520"/>
            <a:ext cx="1823040" cy="1823040"/>
            <a:chOff x="8612640" y="2387520"/>
            <a:chExt cx="1823040" cy="1823040"/>
          </a:xfrm>
        </p:grpSpPr>
        <p:sp>
          <p:nvSpPr>
            <p:cNvPr id="94" name="同心圆 14"/>
            <p:cNvSpPr/>
            <p:nvPr/>
          </p:nvSpPr>
          <p:spPr>
            <a:xfrm>
              <a:off x="8794800" y="2563920"/>
              <a:ext cx="1471680" cy="1471680"/>
            </a:xfrm>
            <a:custGeom>
              <a:avLst/>
              <a:gdLst/>
              <a:ahLst/>
              <a:rect l="l" t="t" r="r" b="b"/>
              <a:pathLst>
                <a:path w="1471729" h="1471729">
                  <a:moveTo>
                    <a:pt x="0" y="735865"/>
                  </a:moveTo>
                  <a:cubicBezTo>
                    <a:pt x="0" y="329458"/>
                    <a:pt x="329458" y="0"/>
                    <a:pt x="735865" y="0"/>
                  </a:cubicBezTo>
                  <a:cubicBezTo>
                    <a:pt x="1142272" y="0"/>
                    <a:pt x="1471730" y="329458"/>
                    <a:pt x="1471730" y="735865"/>
                  </a:cubicBezTo>
                  <a:cubicBezTo>
                    <a:pt x="1471730" y="1142272"/>
                    <a:pt x="1142272" y="1471730"/>
                    <a:pt x="735865" y="1471730"/>
                  </a:cubicBezTo>
                  <a:cubicBezTo>
                    <a:pt x="329458" y="1471730"/>
                    <a:pt x="0" y="1142272"/>
                    <a:pt x="0" y="735865"/>
                  </a:cubicBezTo>
                  <a:close/>
                  <a:moveTo>
                    <a:pt x="0" y="735865"/>
                  </a:moveTo>
                  <a:cubicBezTo>
                    <a:pt x="0" y="1142272"/>
                    <a:pt x="329458" y="1471730"/>
                    <a:pt x="735865" y="1471730"/>
                  </a:cubicBezTo>
                  <a:cubicBezTo>
                    <a:pt x="1142272" y="1471730"/>
                    <a:pt x="1471730" y="1142272"/>
                    <a:pt x="1471730" y="735865"/>
                  </a:cubicBezTo>
                  <a:cubicBezTo>
                    <a:pt x="1471730" y="329458"/>
                    <a:pt x="1142272" y="0"/>
                    <a:pt x="735865" y="0"/>
                  </a:cubicBezTo>
                  <a:cubicBezTo>
                    <a:pt x="329458" y="0"/>
                    <a:pt x="0" y="329458"/>
                    <a:pt x="0" y="735865"/>
                  </a:cubicBez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空心弧 15"/>
            <p:cNvSpPr/>
            <p:nvPr/>
          </p:nvSpPr>
          <p:spPr>
            <a:xfrm rot="12246000">
              <a:off x="8834040" y="2608920"/>
              <a:ext cx="1379880" cy="1379880"/>
            </a:xfrm>
            <a:custGeom>
              <a:avLst/>
              <a:gdLst/>
              <a:ahLst/>
              <a:rect l="l" t="t" r="r" b="b"/>
              <a:pathLst>
                <a:path w="1379646" h="1379648">
                  <a:moveTo>
                    <a:pt x="580497" y="8718"/>
                  </a:moveTo>
                  <a:cubicBezTo>
                    <a:pt x="856448" y="-35576"/>
                    <a:pt x="1131857" y="91014"/>
                    <a:pt x="1277929" y="329287"/>
                  </a:cubicBezTo>
                  <a:cubicBezTo>
                    <a:pt x="1424001" y="567560"/>
                    <a:pt x="1411868" y="870425"/>
                    <a:pt x="1247204" y="1096249"/>
                  </a:cubicBezTo>
                  <a:lnTo>
                    <a:pt x="1093624" y="984263"/>
                  </a:lnTo>
                  <a:cubicBezTo>
                    <a:pt x="1212916" y="820662"/>
                    <a:pt x="1221706" y="601249"/>
                    <a:pt x="1115883" y="428630"/>
                  </a:cubicBezTo>
                  <a:cubicBezTo>
                    <a:pt x="1010059" y="256010"/>
                    <a:pt x="810537" y="164302"/>
                    <a:pt x="610621" y="196391"/>
                  </a:cubicBezTo>
                  <a:lnTo>
                    <a:pt x="580497" y="8718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文本框 5"/>
          <p:cNvSpPr/>
          <p:nvPr/>
        </p:nvSpPr>
        <p:spPr>
          <a:xfrm>
            <a:off x="1849320" y="2976480"/>
            <a:ext cx="99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6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17"/>
          <p:cNvSpPr/>
          <p:nvPr/>
        </p:nvSpPr>
        <p:spPr>
          <a:xfrm>
            <a:off x="5398920" y="2976480"/>
            <a:ext cx="99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75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9"/>
          <p:cNvSpPr/>
          <p:nvPr/>
        </p:nvSpPr>
        <p:spPr>
          <a:xfrm>
            <a:off x="9034560" y="2976480"/>
            <a:ext cx="9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5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2"/>
          <p:cNvSpPr/>
          <p:nvPr/>
        </p:nvSpPr>
        <p:spPr>
          <a:xfrm>
            <a:off x="1468440" y="424800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2"/>
          <p:cNvSpPr/>
          <p:nvPr/>
        </p:nvSpPr>
        <p:spPr>
          <a:xfrm>
            <a:off x="5159520" y="424800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12"/>
          <p:cNvSpPr/>
          <p:nvPr/>
        </p:nvSpPr>
        <p:spPr>
          <a:xfrm>
            <a:off x="8794800" y="424800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直接连接符 16"/>
          <p:cNvSpPr/>
          <p:nvPr/>
        </p:nvSpPr>
        <p:spPr>
          <a:xfrm>
            <a:off x="1617840" y="1922400"/>
            <a:ext cx="3384360" cy="0"/>
          </a:xfrm>
          <a:prstGeom prst="line">
            <a:avLst/>
          </a:prstGeom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18"/>
          <p:cNvSpPr/>
          <p:nvPr/>
        </p:nvSpPr>
        <p:spPr>
          <a:xfrm>
            <a:off x="1523880" y="139860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re adds your Tit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38"/>
          <p:cNvSpPr/>
          <p:nvPr/>
        </p:nvSpPr>
        <p:spPr>
          <a:xfrm>
            <a:off x="119160" y="638028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公司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39"/>
          <p:cNvSpPr/>
          <p:nvPr/>
        </p:nvSpPr>
        <p:spPr>
          <a:xfrm>
            <a:off x="10844280" y="638028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1F7D-F14D-4A0A-B771-FCE6948B01EE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文本框 12"/>
          <p:cNvSpPr/>
          <p:nvPr/>
        </p:nvSpPr>
        <p:spPr>
          <a:xfrm>
            <a:off x="1419120" y="4378320"/>
            <a:ext cx="28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573200" y="3049560"/>
            <a:ext cx="1219320" cy="824040"/>
            <a:chOff x="1573200" y="3049560"/>
            <a:chExt cx="1219320" cy="824040"/>
          </a:xfrm>
        </p:grpSpPr>
        <p:sp>
          <p:nvSpPr>
            <p:cNvPr id="108" name="任意多边形 1"/>
            <p:cNvSpPr/>
            <p:nvPr/>
          </p:nvSpPr>
          <p:spPr>
            <a:xfrm>
              <a:off x="1573200" y="3049560"/>
              <a:ext cx="460440" cy="822600"/>
            </a:xfrm>
            <a:custGeom>
              <a:avLst/>
              <a:gdLst/>
              <a:ahLst/>
              <a:rect l="l" t="t" r="r" b="b"/>
              <a:pathLst>
                <a:path w="682995" h="1221233">
                  <a:moveTo>
                    <a:pt x="682995" y="0"/>
                  </a:moveTo>
                  <a:lnTo>
                    <a:pt x="0" y="829277"/>
                  </a:lnTo>
                  <a:lnTo>
                    <a:pt x="653178" y="1221233"/>
                  </a:lnTo>
                  <a:lnTo>
                    <a:pt x="682995" y="0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任意多边形 6"/>
            <p:cNvSpPr/>
            <p:nvPr/>
          </p:nvSpPr>
          <p:spPr>
            <a:xfrm>
              <a:off x="2008080" y="3051000"/>
              <a:ext cx="784440" cy="822600"/>
            </a:xfrm>
            <a:custGeom>
              <a:avLst/>
              <a:gdLst/>
              <a:ahLst/>
              <a:rect l="l" t="t" r="r" b="b"/>
              <a:pathLst>
                <a:path w="1164159" h="1219709">
                  <a:moveTo>
                    <a:pt x="36951" y="0"/>
                  </a:moveTo>
                  <a:lnTo>
                    <a:pt x="1164159" y="836412"/>
                  </a:lnTo>
                  <a:lnTo>
                    <a:pt x="0" y="1219709"/>
                  </a:lnTo>
                  <a:lnTo>
                    <a:pt x="36951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170320" y="2835360"/>
            <a:ext cx="1536840" cy="1038240"/>
            <a:chOff x="5170320" y="2835360"/>
            <a:chExt cx="1536840" cy="1038240"/>
          </a:xfrm>
        </p:grpSpPr>
        <p:sp>
          <p:nvSpPr>
            <p:cNvPr id="111" name="任意多边形 24"/>
            <p:cNvSpPr/>
            <p:nvPr/>
          </p:nvSpPr>
          <p:spPr>
            <a:xfrm>
              <a:off x="5170320" y="2835360"/>
              <a:ext cx="579600" cy="1036800"/>
            </a:xfrm>
            <a:custGeom>
              <a:avLst/>
              <a:gdLst/>
              <a:ahLst/>
              <a:rect l="l" t="t" r="r" b="b"/>
              <a:pathLst>
                <a:path w="682995" h="1221233">
                  <a:moveTo>
                    <a:pt x="682995" y="0"/>
                  </a:moveTo>
                  <a:lnTo>
                    <a:pt x="0" y="829277"/>
                  </a:lnTo>
                  <a:lnTo>
                    <a:pt x="653178" y="1221233"/>
                  </a:lnTo>
                  <a:lnTo>
                    <a:pt x="682995" y="0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任意多边形 25"/>
            <p:cNvSpPr/>
            <p:nvPr/>
          </p:nvSpPr>
          <p:spPr>
            <a:xfrm>
              <a:off x="5717880" y="2838240"/>
              <a:ext cx="989280" cy="1035360"/>
            </a:xfrm>
            <a:custGeom>
              <a:avLst/>
              <a:gdLst/>
              <a:ahLst/>
              <a:rect l="l" t="t" r="r" b="b"/>
              <a:pathLst>
                <a:path w="1164159" h="1219709">
                  <a:moveTo>
                    <a:pt x="36951" y="0"/>
                  </a:moveTo>
                  <a:lnTo>
                    <a:pt x="1164159" y="836412"/>
                  </a:lnTo>
                  <a:lnTo>
                    <a:pt x="0" y="1219709"/>
                  </a:lnTo>
                  <a:lnTo>
                    <a:pt x="36951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8988480" y="2651040"/>
            <a:ext cx="1809720" cy="1222560"/>
            <a:chOff x="8988480" y="2651040"/>
            <a:chExt cx="1809720" cy="1222560"/>
          </a:xfrm>
        </p:grpSpPr>
        <p:sp>
          <p:nvSpPr>
            <p:cNvPr id="114" name="任意多边形 27"/>
            <p:cNvSpPr/>
            <p:nvPr/>
          </p:nvSpPr>
          <p:spPr>
            <a:xfrm>
              <a:off x="8988480" y="2651040"/>
              <a:ext cx="682560" cy="1221120"/>
            </a:xfrm>
            <a:custGeom>
              <a:avLst/>
              <a:gdLst/>
              <a:ahLst/>
              <a:rect l="l" t="t" r="r" b="b"/>
              <a:pathLst>
                <a:path w="682995" h="1221233">
                  <a:moveTo>
                    <a:pt x="682995" y="0"/>
                  </a:moveTo>
                  <a:lnTo>
                    <a:pt x="0" y="829277"/>
                  </a:lnTo>
                  <a:lnTo>
                    <a:pt x="653178" y="1221233"/>
                  </a:lnTo>
                  <a:lnTo>
                    <a:pt x="682995" y="0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任意多边形 28"/>
            <p:cNvSpPr/>
            <p:nvPr/>
          </p:nvSpPr>
          <p:spPr>
            <a:xfrm>
              <a:off x="9634680" y="2653920"/>
              <a:ext cx="1163520" cy="1219680"/>
            </a:xfrm>
            <a:custGeom>
              <a:avLst/>
              <a:gdLst/>
              <a:ahLst/>
              <a:rect l="l" t="t" r="r" b="b"/>
              <a:pathLst>
                <a:path w="1164159" h="1219709">
                  <a:moveTo>
                    <a:pt x="36951" y="0"/>
                  </a:moveTo>
                  <a:lnTo>
                    <a:pt x="1164159" y="836412"/>
                  </a:lnTo>
                  <a:lnTo>
                    <a:pt x="0" y="1219709"/>
                  </a:lnTo>
                  <a:lnTo>
                    <a:pt x="36951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右箭头 8"/>
          <p:cNvSpPr/>
          <p:nvPr/>
        </p:nvSpPr>
        <p:spPr>
          <a:xfrm>
            <a:off x="3929040" y="3430440"/>
            <a:ext cx="263520" cy="25092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右箭头 30"/>
          <p:cNvSpPr/>
          <p:nvPr/>
        </p:nvSpPr>
        <p:spPr>
          <a:xfrm>
            <a:off x="7829640" y="3430440"/>
            <a:ext cx="263520" cy="25092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本框 5"/>
          <p:cNvSpPr/>
          <p:nvPr/>
        </p:nvSpPr>
        <p:spPr>
          <a:xfrm>
            <a:off x="5372280" y="3108240"/>
            <a:ext cx="9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5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17"/>
          <p:cNvSpPr/>
          <p:nvPr/>
        </p:nvSpPr>
        <p:spPr>
          <a:xfrm>
            <a:off x="9339120" y="3046320"/>
            <a:ext cx="119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7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19"/>
          <p:cNvSpPr/>
          <p:nvPr/>
        </p:nvSpPr>
        <p:spPr>
          <a:xfrm>
            <a:off x="1747800" y="32608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9"/>
          <p:cNvSpPr/>
          <p:nvPr/>
        </p:nvSpPr>
        <p:spPr>
          <a:xfrm>
            <a:off x="1747800" y="3909960"/>
            <a:ext cx="6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32"/>
          <p:cNvSpPr/>
          <p:nvPr/>
        </p:nvSpPr>
        <p:spPr>
          <a:xfrm>
            <a:off x="5433840" y="3909960"/>
            <a:ext cx="6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33"/>
          <p:cNvSpPr/>
          <p:nvPr/>
        </p:nvSpPr>
        <p:spPr>
          <a:xfrm>
            <a:off x="9354960" y="3909960"/>
            <a:ext cx="6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12"/>
          <p:cNvSpPr/>
          <p:nvPr/>
        </p:nvSpPr>
        <p:spPr>
          <a:xfrm>
            <a:off x="5110200" y="4378320"/>
            <a:ext cx="28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12"/>
          <p:cNvSpPr/>
          <p:nvPr/>
        </p:nvSpPr>
        <p:spPr>
          <a:xfrm>
            <a:off x="8912160" y="4378320"/>
            <a:ext cx="28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0341000" y="606096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18"/>
          <p:cNvSpPr/>
          <p:nvPr/>
        </p:nvSpPr>
        <p:spPr>
          <a:xfrm>
            <a:off x="5192640" y="2911320"/>
            <a:ext cx="18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38"/>
          <p:cNvSpPr/>
          <p:nvPr/>
        </p:nvSpPr>
        <p:spPr>
          <a:xfrm>
            <a:off x="119160" y="638028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公司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39"/>
          <p:cNvSpPr/>
          <p:nvPr/>
        </p:nvSpPr>
        <p:spPr>
          <a:xfrm>
            <a:off x="10844280" y="638028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D974-85AA-446B-8F71-D3EEDB736E22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683240" y="2813040"/>
            <a:ext cx="1312560" cy="108000"/>
            <a:chOff x="4683240" y="2813040"/>
            <a:chExt cx="1312560" cy="108000"/>
          </a:xfrm>
        </p:grpSpPr>
        <p:sp>
          <p:nvSpPr>
            <p:cNvPr id="131" name="直接连接符 34"/>
            <p:cNvSpPr/>
            <p:nvPr/>
          </p:nvSpPr>
          <p:spPr>
            <a:xfrm flipH="1">
              <a:off x="4683240" y="2867040"/>
              <a:ext cx="12052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椭圆 35"/>
            <p:cNvSpPr/>
            <p:nvPr/>
          </p:nvSpPr>
          <p:spPr>
            <a:xfrm flipH="1">
              <a:off x="5887800" y="2813040"/>
              <a:ext cx="107640" cy="1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257880" y="3551400"/>
            <a:ext cx="1311120" cy="107640"/>
            <a:chOff x="6257880" y="3551400"/>
            <a:chExt cx="1311120" cy="107640"/>
          </a:xfrm>
        </p:grpSpPr>
        <p:sp>
          <p:nvSpPr>
            <p:cNvPr id="134" name="直接连接符 37"/>
            <p:cNvSpPr/>
            <p:nvPr/>
          </p:nvSpPr>
          <p:spPr>
            <a:xfrm>
              <a:off x="6365160" y="3605400"/>
              <a:ext cx="1203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椭圆 40"/>
            <p:cNvSpPr/>
            <p:nvPr/>
          </p:nvSpPr>
          <p:spPr>
            <a:xfrm>
              <a:off x="6257880" y="3551400"/>
              <a:ext cx="107640" cy="10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0"/>
            <a:ext cx="11288880" cy="6858000"/>
            <a:chOff x="0" y="0"/>
            <a:chExt cx="11288880" cy="6858000"/>
          </a:xfrm>
        </p:grpSpPr>
        <p:sp>
          <p:nvSpPr>
            <p:cNvPr id="137" name="矩形 4"/>
            <p:cNvSpPr/>
            <p:nvPr/>
          </p:nvSpPr>
          <p:spPr>
            <a:xfrm>
              <a:off x="189504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1128888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Box 7"/>
            <p:cNvSpPr/>
            <p:nvPr/>
          </p:nvSpPr>
          <p:spPr>
            <a:xfrm rot="20926800">
              <a:off x="2503080" y="3577320"/>
              <a:ext cx="62233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5T09:03:42Z</dcterms:created>
  <dc:creator>D13001</dc:creator>
  <dc:description/>
  <dc:language>en-US</dc:language>
  <cp:lastModifiedBy>D13001</cp:lastModifiedBy>
  <dcterms:modified xsi:type="dcterms:W3CDTF">2015-01-10T12:36:22Z</dcterms:modified>
  <cp:revision>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