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4EF-71C6-4414-83FF-A4255591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AE3-0C2B-4110-B004-91EC66FF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422-6AE1-4C91-B8F5-3798849F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97D3-A718-43DD-9ED8-6011BC95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CECC-07F7-40A8-BDB1-8048665E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3DD3-B5B6-405C-B086-8DE01C36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9198-3CBB-4C91-B9A5-495CDC2D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66BC-1A15-410B-A3F7-2C09C035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9559-4193-4D12-9D11-00415D85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E8A4-1253-4A9B-BC72-14D34BC9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B7A4-EC0B-4F94-A495-CCDF2796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7E5-4CD4-4C0B-950C-CE755037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D00C-C9B9-44B7-9D73-AC4A38C9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B51D-7D79-488F-8860-EC3B2244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484E-2B48-41CB-B3EB-5BA67E7D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7ECC-0EAD-4A07-9F25-1B2BB0C7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938E-7870-402E-B259-D4414F7E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D40-C316-4185-A4F6-4654E8B5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9EE-CDF0-44EB-929D-B2B6A9BD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BBC-6F11-455A-AFBF-C2C194FD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95F-9249-4C58-9C43-ADE3D922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81E-BFAB-4F87-85EE-E8C6EA70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527-3C4A-440D-B100-6907C319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80D-6063-495C-BB57-B8A1DABF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333360"/>
            <a:ext cx="9144000" cy="1009800"/>
          </a:xfrm>
          <a:prstGeom prst="rect">
            <a:avLst/>
          </a:prstGeom>
          <a:gradFill rotWithShape="0">
            <a:gsLst>
              <a:gs pos="0">
                <a:srgbClr val="808080">
                  <a:alpha val="54117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1093" r="8122" b="13317"/>
          <a:stretch/>
        </p:blipFill>
        <p:spPr>
          <a:xfrm>
            <a:off x="5797440" y="4438800"/>
            <a:ext cx="3340080" cy="233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9C66-1376-4E3B-A23E-E33CA3B83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0" r="2527" b="10911"/>
          <a:stretch/>
        </p:blipFill>
        <p:spPr>
          <a:xfrm>
            <a:off x="179280" y="692280"/>
            <a:ext cx="8913960" cy="611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FE42-4EC1-49A6-978C-0AD1814D3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0" y="549360"/>
            <a:ext cx="9144000" cy="1511280"/>
          </a:xfrm>
          <a:prstGeom prst="rect">
            <a:avLst/>
          </a:prstGeom>
          <a:gradFill rotWithShape="0">
            <a:gsLst>
              <a:gs pos="0">
                <a:srgbClr val="808080">
                  <a:alpha val="54117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8000" y="2492280"/>
            <a:ext cx="55454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8T14:36:15Z</dcterms:created>
  <dc:creator/>
  <dc:description/>
  <dc:language>en-US</dc:language>
  <cp:lastModifiedBy/>
  <dcterms:modified xsi:type="dcterms:W3CDTF">2015-01-10T12:45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