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A47-11D4-4A93-B3E1-E315E889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902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8000" y="3372120"/>
            <a:ext cx="8902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5DB-C1DB-4ECA-8CDA-93F1E03E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8000" y="337212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37212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DE3-E511-45BB-A08B-B6E56BDA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7960" y="83628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7920" y="83628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8000" y="337212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7960" y="337212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7920" y="337212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475-4F0E-470F-AC8E-794D1BFF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C93F-62BD-4532-92F2-3C65217D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000" y="836280"/>
            <a:ext cx="89028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5809-FA4A-4214-8D89-EA476B41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902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FB8D-3306-4AFD-9896-B1C90DAC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75F7-9640-462D-8270-BD26DF96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98CE-C2DC-45B8-BF35-CB66159B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7640" y="252000"/>
            <a:ext cx="84963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E11A-EF10-41C1-AF99-118D4280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8000" y="337212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3109-894A-450D-A9C6-E225EF84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8000" y="836280"/>
            <a:ext cx="89028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150-AEE9-438B-8F6E-EE3BE344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37212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3588-D2BE-4A57-BDFA-D6B23DE1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000" y="3372120"/>
            <a:ext cx="8902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0BC-5C1F-4713-8EED-4CF06CC2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902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8000" y="3372120"/>
            <a:ext cx="8902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ADA7-23EC-4ED6-B86F-7E881B76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000" y="337212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37212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5F01-2195-47B3-8634-214FAAD3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7960" y="83628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920" y="83628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8000" y="337212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7960" y="337212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920" y="3372120"/>
            <a:ext cx="286632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DC44-199B-4392-9770-A08563ED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902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D8E-E31F-4A30-80D6-448DB566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937-086C-4ACC-8BF3-E6C10A28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2FB-3B3D-41AA-8598-6BFC4EE6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640" y="252000"/>
            <a:ext cx="84963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A3B-B9E8-4BE0-9128-91AA7C09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8000" y="337212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60D-DBF2-41BB-8D45-623C0E6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37212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C95-CBE2-4090-A1BA-788B95B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836280"/>
            <a:ext cx="434448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000" y="3372120"/>
            <a:ext cx="8902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D55-C76E-4EB6-8A0E-F5029DC6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2215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7640" y="252000"/>
            <a:ext cx="8496360" cy="49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2215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8000" y="836280"/>
            <a:ext cx="8902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2156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156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122156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156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122156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156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122156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156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122156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156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122156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156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122156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156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4160" y="6322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7440" y="632268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75000" y="6322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DFF2-D35F-4C78-8DCF-BFB4BE87B5FF}" type="slidenum"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443ae"/>
              </a:gs>
              <a:gs pos="100000">
                <a:srgbClr val="345db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2215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2215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4160" y="6322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287440" y="632268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975000" y="6322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4C80-0F1B-448A-8660-026D2EAB48E8}" type="slidenum"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2156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122156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156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22156"/>
              </a:solidFill>
              <a:latin typeface="微软雅黑"/>
            </a:endParaRPr>
          </a:p>
          <a:p>
            <a:pPr lvl="2" marL="914400" algn="ctr">
              <a:spcBef>
                <a:spcPts val="451"/>
              </a:spcBef>
              <a:buClr>
                <a:srgbClr val="122156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2156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122156"/>
              </a:solidFill>
              <a:latin typeface="微软雅黑"/>
            </a:endParaRPr>
          </a:p>
          <a:p>
            <a:pPr lvl="3" marL="1371600" algn="ctr">
              <a:spcBef>
                <a:spcPts val="400"/>
              </a:spcBef>
              <a:buClr>
                <a:srgbClr val="122156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2156"/>
                </a:solidFill>
                <a:latin typeface="微软雅黑"/>
              </a:rPr>
              <a:t>Fourth Outline Level</a:t>
            </a:r>
            <a:endParaRPr b="0" lang="en-US" sz="1600" spc="-1" strike="noStrike">
              <a:solidFill>
                <a:srgbClr val="122156"/>
              </a:solidFill>
              <a:latin typeface="微软雅黑"/>
            </a:endParaRPr>
          </a:p>
          <a:p>
            <a:pPr lvl="4" marL="1828800" algn="ctr">
              <a:spcBef>
                <a:spcPts val="349"/>
              </a:spcBef>
              <a:buClr>
                <a:srgbClr val="122156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2156"/>
                </a:solidFill>
                <a:latin typeface="微软雅黑"/>
              </a:rPr>
              <a:t>Fifth Outline Level</a:t>
            </a:r>
            <a:endParaRPr b="0" lang="en-US" sz="1400" spc="-1" strike="noStrike">
              <a:solidFill>
                <a:srgbClr val="122156"/>
              </a:solidFill>
              <a:latin typeface="微软雅黑"/>
            </a:endParaRPr>
          </a:p>
          <a:p>
            <a:pPr lvl="5" marL="1828800">
              <a:spcBef>
                <a:spcPts val="349"/>
              </a:spcBef>
              <a:buClr>
                <a:srgbClr val="122156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2156"/>
                </a:solidFill>
                <a:latin typeface="微软雅黑"/>
              </a:rPr>
              <a:t>Sixth Outline Level</a:t>
            </a:r>
            <a:endParaRPr b="0" lang="en-US" sz="1400" spc="-1" strike="noStrike">
              <a:solidFill>
                <a:srgbClr val="122156"/>
              </a:solidFill>
              <a:latin typeface="微软雅黑"/>
            </a:endParaRPr>
          </a:p>
          <a:p>
            <a:pPr lvl="6" marL="1828800">
              <a:spcBef>
                <a:spcPts val="349"/>
              </a:spcBef>
              <a:buClr>
                <a:srgbClr val="122156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2156"/>
                </a:solidFill>
                <a:latin typeface="微软雅黑"/>
              </a:rPr>
              <a:t>Seventh Outline Level</a:t>
            </a:r>
            <a:endParaRPr b="0" lang="en-US" sz="1400" spc="-1" strike="noStrike">
              <a:solidFill>
                <a:srgbClr val="122156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2215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微软雅黑"/>
                <a:ea typeface="宋体"/>
              </a:rPr>
              <a:t>深蓝天空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宋体"/>
              </a:rPr>
              <a:t>PPT</a:t>
            </a:r>
            <a:r>
              <a:rPr b="1" lang="en-GB" sz="4800" spc="-1" strike="noStrike">
                <a:solidFill>
                  <a:srgbClr val="ffffff"/>
                </a:solidFill>
                <a:latin typeface="微软雅黑"/>
                <a:ea typeface="宋体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22156"/>
              </a:solidFill>
              <a:latin typeface="微软雅黑"/>
            </a:endParaRPr>
          </a:p>
        </p:txBody>
      </p:sp>
      <p:sp>
        <p:nvSpPr>
          <p:cNvPr id="88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2215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0160"/>
            <a:ext cx="8772480" cy="618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206640"/>
            <a:ext cx="849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2215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902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122156"/>
              </a:solidFill>
              <a:latin typeface="微软雅黑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308640"/>
            <a:ext cx="58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12215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2215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12215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12215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12215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22156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ca4e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ca4e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ca4e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122156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9:22:02Z</dcterms:created>
  <dc:creator>graphics07</dc:creator>
  <dc:description/>
  <dc:language>en-US</dc:language>
  <cp:lastModifiedBy>king</cp:lastModifiedBy>
  <dcterms:modified xsi:type="dcterms:W3CDTF">2015-01-10T12:34:43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