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EAD-B1A0-4F96-B4F2-A2244205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242-A469-4D3D-BCDD-A4DE2432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FF2-252B-4007-843C-94F4B23B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406-E9FB-4228-BC82-F42D9A0F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04C2-D803-48C7-BAC4-A2865AA5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956F-F79D-4842-AB4D-2D1CE21B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FC0-6380-4C5A-A805-36ECA30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099E-353A-4AC8-B590-D3D2A9D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580B-700E-44DE-A4B5-579DD48B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7AAC-0C9B-491F-9DFE-7275C72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365-AF76-4CF5-9776-D1F51A8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3BC-A987-454C-9DC4-1ACD3B3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DCB-6945-411A-99FB-7DB61F9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B4C4-AF13-4B8B-A474-375BEDD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ECAD-7617-43B3-BA94-5C19FFE8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14DE-75AA-4797-9B78-D201EB5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FF6-1F54-4D2D-8F96-603D9057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372-1513-4194-B75B-0CEB64D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AD2-2F83-40A1-8664-505A5F67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E02-D2D4-4E1F-95C9-E316857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55F-A4BC-43E8-AFA0-182BB3F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0CD-9CFA-4C00-AE5D-9D0D6DC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A2D-D28B-454C-9DED-E17DD0D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119-C2CA-4B14-BCF8-AE27A38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D89-B6AA-4235-8302-70BD39861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9260bb56ca30d5e8bd4b2be"/>
          <p:cNvPicPr/>
          <p:nvPr/>
        </p:nvPicPr>
        <p:blipFill>
          <a:blip r:embed="rId2"/>
          <a:srcRect l="0" t="35406" r="20435" b="57470"/>
          <a:stretch/>
        </p:blipFill>
        <p:spPr>
          <a:xfrm>
            <a:off x="0" y="0"/>
            <a:ext cx="91440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c9260bb56ca30d5e8bd4b2be"/>
          <p:cNvPicPr/>
          <p:nvPr/>
        </p:nvPicPr>
        <p:blipFill>
          <a:blip r:embed="rId2"/>
          <a:srcRect l="460" t="3277" r="0" b="28969"/>
          <a:stretch/>
        </p:blipFill>
        <p:spPr>
          <a:xfrm>
            <a:off x="0" y="4752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8"/>
          <p:cNvSpPr/>
          <p:nvPr/>
        </p:nvSpPr>
        <p:spPr>
          <a:xfrm>
            <a:off x="0" y="2303640"/>
            <a:ext cx="9144000" cy="2277720"/>
          </a:xfrm>
          <a:prstGeom prst="rect">
            <a:avLst/>
          </a:prstGeom>
          <a:gradFill rotWithShape="0">
            <a:gsLst>
              <a:gs pos="0">
                <a:srgbClr val="000000">
                  <a:alpha val="2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08C-AF10-425B-9DF8-FBABFC8D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182360" y="6264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8360" y="142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86364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542360" y="2444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37:26Z</dcterms:created>
  <dc:creator/>
  <dc:description/>
  <dc:language>en-US</dc:language>
  <cp:lastModifiedBy>微软中国</cp:lastModifiedBy>
  <dcterms:modified xsi:type="dcterms:W3CDTF">2015-01-10T12:12:3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