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FD9-03FD-430C-889D-B92E3144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07A-E8C3-47B2-9477-7F49256E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1E4-95FD-430B-86BA-89F8466C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738-5973-439F-A86E-07D780CF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264-FF04-4C1F-9471-5051FE9B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D13-E562-4C2D-A4DE-D6B5C727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65A-DD17-4585-B46B-096BB4D9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A5F-FA5F-4EE1-9125-2E13B98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96F-7CFD-4986-8913-EC602DCB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8C4-2C6A-4E25-88AE-BE1E7F1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C1A-F8B9-4F47-888B-24193842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98E-3F3E-49E8-AC5A-EE6FC526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F438-7B1E-48FC-98B6-FB95E4DDB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5495760"/>
            <a:ext cx="1774800" cy="136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99120" y="604692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86200" y="5943600"/>
            <a:ext cx="2455920" cy="72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90920" y="3505320"/>
            <a:ext cx="1285920" cy="60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372280" y="2259000"/>
            <a:ext cx="876240" cy="40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165400" y="457200"/>
            <a:ext cx="349200" cy="200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9448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2120" y="647712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autoRev="1" nodeType="withEffect" fill="hold" presetClass="path" presetID="6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22222E-006 3.33333E-006 L 0.02309 -0.00047 E">
                                      <p:cBhvr>
                                        <p:cTn id="22" dur="3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autoRev="1" nodeType="withEffect" fill="hold" presetClass="pat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833 -2.59259E-006 L -0.0092 -2.59259E-006 E">
                                      <p:cBhvr>
                                        <p:cTn id="27" dur="4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.05926 C 0.00365 0.0625 -0.00399 0.0581 0.00174 0.06481 C 0.00365 0.06689 0.00799 0.07037 0.00799 0.0706 C 0.02153 0.0699 0.03507 0.0699 0.04861 0.06898 C 0.05122 0.06875 0.05573 0.06504 0.05799 0.06342 C 0.06024 0.0618 0.06424 0.05787 0.06424 0.0581 C 0.07049 0.05949 0.07413 0.06412 0.07986 0.06759 C 0.08195 0.06875 0.08611 0.07037 0.08611 0.0706 C 0.09132 0.08078 0.10139 0.07523 0.11007 0.07453 C 0.11424 0.07268 0.11632 0.07037 0.11945 0.0662 C 0.12031 0.06296 0.11962 0.05856 0.12153 0.05648 C 0.12326 0.05463 0.12778 0.0537 0.12778 0.05393 C 0.13594 0.05509 0.14254 0.0581 0.1507 0.05926 C 0.15573 0.06157 0.16007 0.06597 0.16528 0.06759 C 0.16806 0.06851 0.17361 0.07037 0.17361 0.0706 C 0.1783 0.07453 0.17847 0.08171 0.18403 0.08426 C 0.18785 0.08333 0.19219 0.08426 0.19549 0.08148 C 0.1967 0.08055 0.19445 0.07777 0.19445 0.07592 C 0.19445 0.07361 0.19427 0.0706 0.19549 0.06898 C 0.19705 0.06689 0.19965 0.06713 0.20174 0.0662 C 0.20417 0.06504 0.20799 0.06064 0.20799 0.06088 C 0.22118 0.06111 0.23438 0.05995 0.24757 0.06203 C 0.25226 0.06273 0.25295 0.06851 0.25695 0.07037 C 0.25903 0.07129 0.2632 0.07314 0.2632 0.07338 C 0.27535 0.07268 0.2875 0.07291 0.29965 0.07176 C 0.30365 0.07129 0.31111 0.0662 0.31111 0.06643 C 0.31632 0.05555 0.31858 0.05949 0.32986 0.06064 C 0.33438 0.06481 0.33976 0.06782 0.33195 0.08009 C 0.32969 0.08356 0.325 0.08101 0.32153 0.08148 C 0.26597 0.10625 0.2401 0.11967 0.1559 0.15787 C 0.15885 0.16365 0.1625 0.16689 0.16736 0.16898 C 0.17899 0.16828 0.20035 0.17014 0.21215 0.16481 C 0.21354 0.1662 0.21528 0.16713 0.21632 0.16898 C 0.21701 0.17014 0.21632 0.17314 0.21736 0.17314 C 0.21858 0.17314 0.2184 0.17014 0.21945 0.16898 C 0.22031 0.16805 0.22153 0.16828 0.22257 0.16759 C 0.22795 0.16412 0.23247 0.15972 0.2382 0.15787 C 0.2408 0.15277 0.24323 0.15139 0.24757 0.14953 C 0.24844 0.14953 0.25938 0.14953 0.2632 0.15231 C 0.26424 0.15301 0.27344 0.16342 0.2757 0.16342 C 0.29896 0.16389 0.32222 0.16435 0.34549 0.16481 C 0.34826 0.16736 0.35469 0.17037 0.35469 0.1706 C 0.36528 0.1699 0.3757 0.17014 0.38594 0.16898 C 0.38941 0.16851 0.39549 0.16342 0.39549 0.16365 C 0.40695 0.16389 0.4184 0.16319 0.42969 0.16481 C 0.43281 0.16527 0.44236 0.17291 0.44635 0.17453 C 0.46441 0.17361 0.475 0.17245 0.49132 0.17037 C 0.50417 0.17176 0.50851 0.17592 0.52153 0.17731 C 0.52014 0.18009 0.51736 0.18564 0.51736 0.18588 E">
                                      <p:cBhvr>
                                        <p:cTn id="32" dur="14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autoRev="1" nodeType="withEffect" fill="hold" presetClass="path" presetID="35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8.33333E-007 0 L -0.01806 0 E">
                                      <p:cBhvr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4.44444E-006 L -0.01458 4.44444E-006 E">
                                      <p:cBhvr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1 0.18867 L 0.5191 0.16462 E">
                                      <p:cBhvr>
                                        <p:cTn id="45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7:38:21Z</dcterms:created>
  <dc:creator>微软用户</dc:creator>
  <dc:description/>
  <dc:language>en-US</dc:language>
  <cp:lastModifiedBy>微软用户</cp:lastModifiedBy>
  <dcterms:modified xsi:type="dcterms:W3CDTF">2015-01-10T08:21:2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