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DBD-5E0E-448A-970A-52A59DDD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FB0-7101-48AB-8D50-5C944730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18C-0AC2-4FE4-820B-D720DD9A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018-E9D5-41D1-9DEC-33CFE0D9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C9F-298F-410F-85DE-A995E696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406C-2406-4A44-8EC0-658E930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DEEA-F86F-41B8-8405-2DDDA4DD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3B55-1232-4700-94AD-2663153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08B-3259-4EA6-99F6-7417062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5A21-DE1F-4EB0-A5E4-10BAB01C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A72-C807-403E-AEA0-BFCACBA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508-D49C-4005-A78A-8A39AF67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3EB3-DB67-43E1-B275-3C06789E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9933-9F73-4D8A-9963-4FC4347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5AC-BD01-4494-99BC-D30DFCE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7517-B9DD-4B46-9F24-81E27F2D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316-3465-4474-A818-0A1C744F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A81-6559-4066-873B-995D9A1F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A75-1052-4080-862E-B70226C1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E7F-0D96-49F1-9EC4-C308EA8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E7D-AC33-4AF7-920C-550E47F8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393-B6D2-43CA-B0D2-7C2AAD2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813-295E-4925-B4BF-8695885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80-1C81-4CC3-9750-813EBC0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EE6-33C6-4A2D-98E7-38E2F028CC6E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A568-022B-4B49-A5C5-2BF6775D1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ADF3-D2EA-4C62-B574-25D8FDF98BEB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531-53F6-4A58-AF34-2D9372D6AB4B}" type="slidenum"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2205000"/>
            <a:ext cx="633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Microsoft JhengHei"/>
              </a:rPr>
              <a:t>水墨中国风</a:t>
            </a:r>
            <a:r>
              <a:rPr b="0" lang="zh-CN" sz="4400" spc="-1" strike="noStrike">
                <a:solidFill>
                  <a:srgbClr val="000000"/>
                </a:solidFill>
                <a:latin typeface="Microsoft JhengHei"/>
              </a:rPr>
              <a:t>PPT</a:t>
            </a:r>
            <a:r>
              <a:rPr b="0" lang="zh-TW" sz="4400" spc="-1" strike="noStrike">
                <a:solidFill>
                  <a:srgbClr val="000000"/>
                </a:solidFill>
                <a:latin typeface="Microsoft JhengHei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040" y="523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442-F629-4858-808D-385E5D982241}" type="datetime">
              <a:rPr b="0" lang="zh-TW" sz="1400" spc="-1" strike="noStrike">
                <a:solidFill>
                  <a:srgbClr val="ffffff"/>
                </a:solidFill>
                <a:latin typeface="Arial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ECA-A351-4125-AFCD-528E31B4A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3460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9440"/>
            <a:chOff x="0" y="0"/>
            <a:chExt cx="8466120" cy="685944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120" cy="51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30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jccook</cp:lastModifiedBy>
  <dcterms:modified xsi:type="dcterms:W3CDTF">2015-01-10T12:10:58Z</dcterms:modified>
  <cp:revision>29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