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002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02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88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734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466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002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734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466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778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76520" y="3805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778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6002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778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88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002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6002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488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734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46600" y="1294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002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734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46600" y="38023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76520" y="3805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6778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60020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8880" y="38023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8880" y="1294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0200" y="38023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6778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1337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778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6778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306778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778"/>
              </a:solidFill>
              <a:latin typeface="微软雅黑"/>
              <a:ea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6778"/>
              </a:solidFill>
              <a:latin typeface="微软雅黑"/>
              <a:ea typeface="微软雅黑"/>
            </a:endParaRPr>
          </a:p>
        </p:txBody>
      </p:sp>
      <p:sp>
        <p:nvSpPr>
          <p:cNvPr id="78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778"/>
              </a:solidFill>
              <a:latin typeface="微软雅黑"/>
              <a:ea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70106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778"/>
              </a:solidFill>
              <a:latin typeface="微软雅黑"/>
              <a:ea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83" name=""/>
          <p:cNvSpPr/>
          <p:nvPr/>
        </p:nvSpPr>
        <p:spPr>
          <a:xfrm>
            <a:off x="2145600" y="63993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06778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306778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8a8b7d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SmileTemplates.com</cp:lastModifiedBy>
  <dcterms:modified xsi:type="dcterms:W3CDTF">2015-01-10T09:31:38Z</dcterms:modified>
  <cp:revision>28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