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5D5-DF72-4B43-9BE3-092E7A74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528-D3E7-4D72-924A-88210D7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908-D648-4133-BB52-15ED0D35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CFF-8E79-42F3-ABE4-477D7F73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F53-014F-4E4D-8AD7-E6277B4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C8D-51FE-41FC-95B9-F0A24B51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4C0-7425-40F9-8F3B-A5E037A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CA9-3157-478A-82B2-3787F09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D96-CB9B-49E6-B5C6-BC77583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B59-F927-46BE-A72C-5003876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BD5-4485-4423-8E45-17770A1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4BE-C0CA-4F87-AC3C-65D3797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5c36b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95c36b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95c36b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95c36b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95c36b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951-D204-4F5A-9BD9-D19D162AB433}" type="datetime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E01B-0CD8-4868-B97A-B6FB2E5AE14C}" type="slidenum">
              <a:rPr b="0" lang="zh-CN" sz="1200" spc="-1" strike="noStrike">
                <a:solidFill>
                  <a:srgbClr val="898989"/>
                </a:solidFill>
                <a:latin typeface="Palatino Linotype"/>
                <a:ea typeface="HGS明朝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898989"/>
              </a:solidFill>
              <a:latin typeface="Palatino Linotype"/>
            </a:endParaRPr>
          </a:p>
        </p:txBody>
      </p:sp>
      <p:sp>
        <p:nvSpPr>
          <p:cNvPr id="44" name=""/>
          <p:cNvSpPr/>
          <p:nvPr/>
        </p:nvSpPr>
        <p:spPr>
          <a:xfrm>
            <a:off x="6242040" y="651672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Palatino Linotype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5c26a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Palatino Linotype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Palatino Linotyp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Palatino Linotype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Palatino Linotype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果因PPT工作室</dc:creator>
  <dc:description/>
  <cp:keywords>XS-普屏 4：3;SC-淡绿色;BG-浅色;DH-静态</cp:keywords>
  <dc:language>en-US</dc:language>
  <cp:lastModifiedBy>田士庆</cp:lastModifiedBy>
  <dcterms:modified xsi:type="dcterms:W3CDTF">2015-01-10T12:17:48Z</dcterms:modified>
  <cp:revision>10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