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E16-B2C8-4B5E-8E30-A53237DF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82E-BC89-43A2-BD85-D02F691E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ECF-49C6-4EFB-A4C3-62292628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2FB-1EDE-4D35-89AE-1693C873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A01-4F5B-45B3-B7D0-F6DE5077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B94-8879-4E3F-8993-834DA05D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751-32B2-4345-ADA2-DD16CFF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C51-28D1-4019-A950-B9D9F351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478-311B-4D7D-9742-1B7CDEB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48A-5624-461D-8EEC-EE4902AB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DE5-9435-44D4-B728-1EC7C56A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28C-30A3-4097-9020-E8ED5784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E5A9-E1F8-4FB5-8E75-B87A29C2F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83840"/>
            <a:ext cx="705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13815"/>
                </a:solidFill>
                <a:latin typeface="Calibri"/>
              </a:rPr>
              <a:t>Happy Birthd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039160" y="4876920"/>
            <a:ext cx="1073160" cy="214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120" y="473220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381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13815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7280" y="20628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381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27280" y="120024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13815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0" y="473220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9:41:59Z</dcterms:created>
  <dc:creator>PresentationBundle.com</dc:creator>
  <dc:description/>
  <dc:language>en-US</dc:language>
  <cp:lastModifiedBy>PresentationBundle.com</cp:lastModifiedBy>
  <dcterms:modified xsi:type="dcterms:W3CDTF">2015-01-10T08:42:41Z</dcterms:modified>
  <cp:revision>1</cp:revision>
  <dc:subject/>
  <dc:title>Happy Birth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