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955-1B14-4697-8200-5DAD4805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715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6560" y="3964320"/>
            <a:ext cx="715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C51-8255-44C7-80F4-04EA4BA8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7460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C5DB-74F8-47C6-8079-B96CAB6F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6840" y="160020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7120" y="160020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6560" y="396432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6840" y="396432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7120" y="396432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20B-8499-4EE5-8D36-0781B725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EB82-556A-4956-818B-C5FA4A9A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06560" y="1600200"/>
            <a:ext cx="7158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C3E3-B25D-47EB-897D-F5D7AAD9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715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A691-AD01-4F24-A63B-4FA4DE09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B2E0-EB4A-4E5D-A5B5-7B3949C1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381E-0A90-46BC-84CF-5BDB3233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06560" y="274320"/>
            <a:ext cx="7158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A6B0-548A-4B4F-AB24-EEC1D518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95C7-3369-4B0E-9A8A-87D46003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6560" y="1600200"/>
            <a:ext cx="7158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BF51-F62B-424C-AA08-C4347490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7460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0DC3-E63F-43B0-AF0A-51AD4D0E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715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0778-DCE9-4366-8682-5CE3AB59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715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06560" y="3964320"/>
            <a:ext cx="715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74DC-8BBD-48F2-9702-ADD254F4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57460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CE8E-91A3-4F11-9206-F08D7632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6840" y="160020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47120" y="160020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06560" y="396432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6840" y="396432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747120" y="396432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2364-A552-4C01-9F7F-2D91D944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715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3ADC-ED8C-4F73-A930-E819F6AB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9A35-E9BE-41C2-865F-5A1D7CBA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B3E-07C4-4A66-9E67-2749A260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6560" y="274320"/>
            <a:ext cx="7158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FA9-16BD-4DCE-AACA-91CD6DA3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3A09-65B0-4132-A887-091C9F3A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7460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9A7-7BBE-4AFB-A314-4A0B7125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715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8918-726E-4678-8F4A-E9AB9EC0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6560" y="1600200"/>
            <a:ext cx="715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9594-2DDF-4E02-AE17-03097A4765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6C5A-828C-4B93-861F-FB87A72DB6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074720" y="64771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3299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3299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3299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/>
  <dc:description/>
  <dc:language>en-US</dc:language>
  <cp:lastModifiedBy>微软用户</cp:lastModifiedBy>
  <dcterms:modified xsi:type="dcterms:W3CDTF">2015-01-10T12:32:43Z</dcterms:modified>
  <cp:revision>4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