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9799-A3B0-48F1-A55C-F0F53AFD1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6560" y="16282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60" y="39934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D214-0007-473A-9355-EECAD0FE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65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36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56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360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91C3-5A95-431E-B3EC-286C853C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656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900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144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56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900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144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95BA-CE73-4F8F-9470-959A8A9A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65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8DCD-3E33-4529-B315-31ABF791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65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039A-151D-4188-BC6D-89C15CFA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656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360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CB4C-CAD6-46F2-A270-443DFF0B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417F-99EE-4C1B-8BA1-944137BF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5AFC-AD07-4BBC-914B-BEF2775C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65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360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56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8541-79D8-4FA3-9C08-271697C1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656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36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60DC-3378-4981-9535-E926812A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65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560" y="39934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43DE-AE9E-4912-9164-3F39D986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65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604360" y="6732720"/>
            <a:ext cx="504720" cy="1443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 rot="7140000">
            <a:off x="8373960" y="6626160"/>
            <a:ext cx="216000" cy="1872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87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F84D-A87B-428B-9641-78763FF76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708360" y="2130120"/>
            <a:ext cx="4749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000000"/>
                </a:solidFill>
                <a:latin typeface="Arial"/>
              </a:rPr>
              <a:t>四色拼图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es-UY" sz="44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151840" y="6562800"/>
            <a:ext cx="988920" cy="288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20:21:09Z</dcterms:created>
  <dc:creator>Mariajose</dc:creator>
  <dc:description/>
  <dc:language>en-US</dc:language>
  <cp:lastModifiedBy>Mariajose</cp:lastModifiedBy>
  <dcterms:modified xsi:type="dcterms:W3CDTF">2015-01-10T12:05:24Z</dcterms:modified>
  <cp:revision>8</cp:revision>
  <dc:subject/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