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3BA-623E-49E3-A7F8-50A2B4FB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AB2-830B-4272-9FD3-CAA10A2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D6A-DA80-4401-84A8-64B38EA3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3C5-3A0D-4722-AD03-C1D6FA62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CCB-5EB0-4DEC-BD00-971337F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AF8-8838-4653-AFC4-3AE9A5E2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13F-72AA-4D21-8F85-2E93C7A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636-1E78-4DB5-A88C-BB380B6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2DA-9F65-413C-82C9-51F6A73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56C-38EE-4806-8AE1-C497812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79C-495B-4B05-A4A4-81AB9A61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C23-2FDC-4E72-B38E-6D162D1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7B6C-6D93-450D-AC06-798AD1BF50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组合 825" descr=""/>
          <p:cNvPicPr/>
          <p:nvPr/>
        </p:nvPicPr>
        <p:blipFill>
          <a:blip r:embed="rId1"/>
          <a:stretch/>
        </p:blipFill>
        <p:spPr>
          <a:xfrm>
            <a:off x="493560" y="2992320"/>
            <a:ext cx="3792600" cy="3872160"/>
          </a:xfrm>
          <a:prstGeom prst="rect">
            <a:avLst/>
          </a:prstGeom>
          <a:ln w="0">
            <a:noFill/>
          </a:ln>
        </p:spPr>
      </p:pic>
      <p:pic>
        <p:nvPicPr>
          <p:cNvPr id="43" name="组合 2181" descr=""/>
          <p:cNvPicPr/>
          <p:nvPr/>
        </p:nvPicPr>
        <p:blipFill>
          <a:blip r:embed="rId2"/>
          <a:stretch/>
        </p:blipFill>
        <p:spPr>
          <a:xfrm>
            <a:off x="-372960" y="420840"/>
            <a:ext cx="10821960" cy="4047840"/>
          </a:xfrm>
          <a:prstGeom prst="rect">
            <a:avLst/>
          </a:prstGeom>
          <a:ln w="0">
            <a:noFill/>
          </a:ln>
        </p:spPr>
      </p:pic>
      <p:sp>
        <p:nvSpPr>
          <p:cNvPr id="44" name="Freeform 42"/>
          <p:cNvSpPr/>
          <p:nvPr/>
        </p:nvSpPr>
        <p:spPr>
          <a:xfrm rot="5400000">
            <a:off x="268920" y="230760"/>
            <a:ext cx="608040" cy="574560"/>
          </a:xfrm>
          <a:custGeom>
            <a:avLst/>
            <a:gdLst>
              <a:gd name="textAreaLeft" fmla="*/ 0 w 608040"/>
              <a:gd name="textAreaRight" fmla="*/ 608400 w 6080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404" h="1328">
                <a:moveTo>
                  <a:pt x="800" y="1017"/>
                </a:moveTo>
                <a:lnTo>
                  <a:pt x="723" y="744"/>
                </a:lnTo>
                <a:lnTo>
                  <a:pt x="724" y="744"/>
                </a:lnTo>
                <a:lnTo>
                  <a:pt x="729" y="743"/>
                </a:lnTo>
                <a:lnTo>
                  <a:pt x="736" y="741"/>
                </a:lnTo>
                <a:lnTo>
                  <a:pt x="746" y="740"/>
                </a:lnTo>
                <a:lnTo>
                  <a:pt x="758" y="739"/>
                </a:lnTo>
                <a:lnTo>
                  <a:pt x="772" y="738"/>
                </a:lnTo>
                <a:lnTo>
                  <a:pt x="787" y="736"/>
                </a:lnTo>
                <a:lnTo>
                  <a:pt x="803" y="733"/>
                </a:lnTo>
                <a:lnTo>
                  <a:pt x="820" y="732"/>
                </a:lnTo>
                <a:lnTo>
                  <a:pt x="838" y="730"/>
                </a:lnTo>
                <a:lnTo>
                  <a:pt x="858" y="728"/>
                </a:lnTo>
                <a:lnTo>
                  <a:pt x="876" y="726"/>
                </a:lnTo>
                <a:lnTo>
                  <a:pt x="896" y="724"/>
                </a:lnTo>
                <a:lnTo>
                  <a:pt x="914" y="723"/>
                </a:lnTo>
                <a:lnTo>
                  <a:pt x="933" y="723"/>
                </a:lnTo>
                <a:lnTo>
                  <a:pt x="950" y="722"/>
                </a:lnTo>
                <a:lnTo>
                  <a:pt x="970" y="722"/>
                </a:lnTo>
                <a:lnTo>
                  <a:pt x="995" y="722"/>
                </a:lnTo>
                <a:lnTo>
                  <a:pt x="1025" y="722"/>
                </a:lnTo>
                <a:lnTo>
                  <a:pt x="1058" y="723"/>
                </a:lnTo>
                <a:lnTo>
                  <a:pt x="1095" y="723"/>
                </a:lnTo>
                <a:lnTo>
                  <a:pt x="1133" y="724"/>
                </a:lnTo>
                <a:lnTo>
                  <a:pt x="1171" y="725"/>
                </a:lnTo>
                <a:lnTo>
                  <a:pt x="1210" y="726"/>
                </a:lnTo>
                <a:lnTo>
                  <a:pt x="1249" y="728"/>
                </a:lnTo>
                <a:lnTo>
                  <a:pt x="1284" y="729"/>
                </a:lnTo>
                <a:lnTo>
                  <a:pt x="1316" y="730"/>
                </a:lnTo>
                <a:lnTo>
                  <a:pt x="1345" y="731"/>
                </a:lnTo>
                <a:lnTo>
                  <a:pt x="1369" y="732"/>
                </a:lnTo>
                <a:lnTo>
                  <a:pt x="1388" y="732"/>
                </a:lnTo>
                <a:lnTo>
                  <a:pt x="1399" y="733"/>
                </a:lnTo>
                <a:lnTo>
                  <a:pt x="1404" y="733"/>
                </a:lnTo>
                <a:lnTo>
                  <a:pt x="1403" y="730"/>
                </a:lnTo>
                <a:lnTo>
                  <a:pt x="1401" y="721"/>
                </a:lnTo>
                <a:lnTo>
                  <a:pt x="1395" y="706"/>
                </a:lnTo>
                <a:lnTo>
                  <a:pt x="1388" y="690"/>
                </a:lnTo>
                <a:lnTo>
                  <a:pt x="1377" y="671"/>
                </a:lnTo>
                <a:lnTo>
                  <a:pt x="1365" y="653"/>
                </a:lnTo>
                <a:lnTo>
                  <a:pt x="1349" y="635"/>
                </a:lnTo>
                <a:lnTo>
                  <a:pt x="1329" y="622"/>
                </a:lnTo>
                <a:lnTo>
                  <a:pt x="1319" y="619"/>
                </a:lnTo>
                <a:lnTo>
                  <a:pt x="1297" y="614"/>
                </a:lnTo>
                <a:lnTo>
                  <a:pt x="1262" y="607"/>
                </a:lnTo>
                <a:lnTo>
                  <a:pt x="1219" y="599"/>
                </a:lnTo>
                <a:lnTo>
                  <a:pt x="1167" y="589"/>
                </a:lnTo>
                <a:lnTo>
                  <a:pt x="1110" y="579"/>
                </a:lnTo>
                <a:lnTo>
                  <a:pt x="1050" y="567"/>
                </a:lnTo>
                <a:lnTo>
                  <a:pt x="988" y="556"/>
                </a:lnTo>
                <a:lnTo>
                  <a:pt x="926" y="546"/>
                </a:lnTo>
                <a:lnTo>
                  <a:pt x="866" y="534"/>
                </a:lnTo>
                <a:lnTo>
                  <a:pt x="811" y="525"/>
                </a:lnTo>
                <a:lnTo>
                  <a:pt x="760" y="516"/>
                </a:lnTo>
                <a:lnTo>
                  <a:pt x="719" y="508"/>
                </a:lnTo>
                <a:lnTo>
                  <a:pt x="686" y="502"/>
                </a:lnTo>
                <a:lnTo>
                  <a:pt x="665" y="498"/>
                </a:lnTo>
                <a:lnTo>
                  <a:pt x="658" y="497"/>
                </a:lnTo>
                <a:lnTo>
                  <a:pt x="544" y="101"/>
                </a:lnTo>
                <a:lnTo>
                  <a:pt x="537" y="85"/>
                </a:lnTo>
                <a:lnTo>
                  <a:pt x="526" y="66"/>
                </a:lnTo>
                <a:lnTo>
                  <a:pt x="513" y="49"/>
                </a:lnTo>
                <a:lnTo>
                  <a:pt x="496" y="32"/>
                </a:lnTo>
                <a:lnTo>
                  <a:pt x="479" y="17"/>
                </a:lnTo>
                <a:lnTo>
                  <a:pt x="462" y="5"/>
                </a:lnTo>
                <a:lnTo>
                  <a:pt x="447" y="0"/>
                </a:lnTo>
                <a:lnTo>
                  <a:pt x="433" y="0"/>
                </a:lnTo>
                <a:lnTo>
                  <a:pt x="422" y="7"/>
                </a:lnTo>
                <a:lnTo>
                  <a:pt x="412" y="20"/>
                </a:lnTo>
                <a:lnTo>
                  <a:pt x="404" y="39"/>
                </a:lnTo>
                <a:lnTo>
                  <a:pt x="397" y="61"/>
                </a:lnTo>
                <a:lnTo>
                  <a:pt x="393" y="84"/>
                </a:lnTo>
                <a:lnTo>
                  <a:pt x="390" y="106"/>
                </a:lnTo>
                <a:lnTo>
                  <a:pt x="390" y="126"/>
                </a:lnTo>
                <a:lnTo>
                  <a:pt x="394" y="144"/>
                </a:lnTo>
                <a:lnTo>
                  <a:pt x="509" y="541"/>
                </a:lnTo>
                <a:lnTo>
                  <a:pt x="503" y="546"/>
                </a:lnTo>
                <a:lnTo>
                  <a:pt x="488" y="561"/>
                </a:lnTo>
                <a:lnTo>
                  <a:pt x="464" y="582"/>
                </a:lnTo>
                <a:lnTo>
                  <a:pt x="433" y="611"/>
                </a:lnTo>
                <a:lnTo>
                  <a:pt x="396" y="646"/>
                </a:lnTo>
                <a:lnTo>
                  <a:pt x="355" y="684"/>
                </a:lnTo>
                <a:lnTo>
                  <a:pt x="311" y="724"/>
                </a:lnTo>
                <a:lnTo>
                  <a:pt x="266" y="767"/>
                </a:lnTo>
                <a:lnTo>
                  <a:pt x="220" y="809"/>
                </a:lnTo>
                <a:lnTo>
                  <a:pt x="176" y="851"/>
                </a:lnTo>
                <a:lnTo>
                  <a:pt x="135" y="890"/>
                </a:lnTo>
                <a:lnTo>
                  <a:pt x="97" y="925"/>
                </a:lnTo>
                <a:lnTo>
                  <a:pt x="66" y="955"/>
                </a:lnTo>
                <a:lnTo>
                  <a:pt x="40" y="979"/>
                </a:lnTo>
                <a:lnTo>
                  <a:pt x="24" y="995"/>
                </a:lnTo>
                <a:lnTo>
                  <a:pt x="17" y="1002"/>
                </a:lnTo>
                <a:lnTo>
                  <a:pt x="2" y="1049"/>
                </a:lnTo>
                <a:lnTo>
                  <a:pt x="0" y="1093"/>
                </a:lnTo>
                <a:lnTo>
                  <a:pt x="3" y="1126"/>
                </a:lnTo>
                <a:lnTo>
                  <a:pt x="6" y="1139"/>
                </a:lnTo>
                <a:lnTo>
                  <a:pt x="9" y="1137"/>
                </a:lnTo>
                <a:lnTo>
                  <a:pt x="17" y="1131"/>
                </a:lnTo>
                <a:lnTo>
                  <a:pt x="31" y="1120"/>
                </a:lnTo>
                <a:lnTo>
                  <a:pt x="48" y="1108"/>
                </a:lnTo>
                <a:lnTo>
                  <a:pt x="69" y="1093"/>
                </a:lnTo>
                <a:lnTo>
                  <a:pt x="93" y="1075"/>
                </a:lnTo>
                <a:lnTo>
                  <a:pt x="120" y="1056"/>
                </a:lnTo>
                <a:lnTo>
                  <a:pt x="147" y="1036"/>
                </a:lnTo>
                <a:lnTo>
                  <a:pt x="176" y="1016"/>
                </a:lnTo>
                <a:lnTo>
                  <a:pt x="206" y="996"/>
                </a:lnTo>
                <a:lnTo>
                  <a:pt x="235" y="975"/>
                </a:lnTo>
                <a:lnTo>
                  <a:pt x="263" y="957"/>
                </a:lnTo>
                <a:lnTo>
                  <a:pt x="289" y="940"/>
                </a:lnTo>
                <a:lnTo>
                  <a:pt x="313" y="923"/>
                </a:lnTo>
                <a:lnTo>
                  <a:pt x="334" y="911"/>
                </a:lnTo>
                <a:lnTo>
                  <a:pt x="351" y="900"/>
                </a:lnTo>
                <a:lnTo>
                  <a:pt x="367" y="891"/>
                </a:lnTo>
                <a:lnTo>
                  <a:pt x="385" y="882"/>
                </a:lnTo>
                <a:lnTo>
                  <a:pt x="402" y="873"/>
                </a:lnTo>
                <a:lnTo>
                  <a:pt x="422" y="864"/>
                </a:lnTo>
                <a:lnTo>
                  <a:pt x="440" y="853"/>
                </a:lnTo>
                <a:lnTo>
                  <a:pt x="460" y="844"/>
                </a:lnTo>
                <a:lnTo>
                  <a:pt x="478" y="835"/>
                </a:lnTo>
                <a:lnTo>
                  <a:pt x="496" y="826"/>
                </a:lnTo>
                <a:lnTo>
                  <a:pt x="514" y="816"/>
                </a:lnTo>
                <a:lnTo>
                  <a:pt x="529" y="809"/>
                </a:lnTo>
                <a:lnTo>
                  <a:pt x="544" y="802"/>
                </a:lnTo>
                <a:lnTo>
                  <a:pt x="556" y="796"/>
                </a:lnTo>
                <a:lnTo>
                  <a:pt x="567" y="791"/>
                </a:lnTo>
                <a:lnTo>
                  <a:pt x="574" y="787"/>
                </a:lnTo>
                <a:lnTo>
                  <a:pt x="579" y="785"/>
                </a:lnTo>
                <a:lnTo>
                  <a:pt x="580" y="784"/>
                </a:lnTo>
                <a:lnTo>
                  <a:pt x="659" y="1058"/>
                </a:lnTo>
                <a:lnTo>
                  <a:pt x="655" y="1062"/>
                </a:lnTo>
                <a:lnTo>
                  <a:pt x="645" y="1071"/>
                </a:lnTo>
                <a:lnTo>
                  <a:pt x="630" y="1087"/>
                </a:lnTo>
                <a:lnTo>
                  <a:pt x="613" y="1107"/>
                </a:lnTo>
                <a:lnTo>
                  <a:pt x="594" y="1131"/>
                </a:lnTo>
                <a:lnTo>
                  <a:pt x="577" y="1157"/>
                </a:lnTo>
                <a:lnTo>
                  <a:pt x="562" y="1186"/>
                </a:lnTo>
                <a:lnTo>
                  <a:pt x="553" y="1217"/>
                </a:lnTo>
                <a:lnTo>
                  <a:pt x="549" y="1246"/>
                </a:lnTo>
                <a:lnTo>
                  <a:pt x="551" y="1268"/>
                </a:lnTo>
                <a:lnTo>
                  <a:pt x="554" y="1285"/>
                </a:lnTo>
                <a:lnTo>
                  <a:pt x="561" y="1298"/>
                </a:lnTo>
                <a:lnTo>
                  <a:pt x="568" y="1306"/>
                </a:lnTo>
                <a:lnTo>
                  <a:pt x="575" y="1312"/>
                </a:lnTo>
                <a:lnTo>
                  <a:pt x="579" y="1314"/>
                </a:lnTo>
                <a:lnTo>
                  <a:pt x="582" y="1315"/>
                </a:lnTo>
                <a:lnTo>
                  <a:pt x="741" y="1200"/>
                </a:lnTo>
                <a:lnTo>
                  <a:pt x="771" y="1301"/>
                </a:lnTo>
                <a:lnTo>
                  <a:pt x="773" y="1308"/>
                </a:lnTo>
                <a:lnTo>
                  <a:pt x="777" y="1314"/>
                </a:lnTo>
                <a:lnTo>
                  <a:pt x="782" y="1320"/>
                </a:lnTo>
                <a:lnTo>
                  <a:pt x="789" y="1324"/>
                </a:lnTo>
                <a:lnTo>
                  <a:pt x="795" y="1327"/>
                </a:lnTo>
                <a:lnTo>
                  <a:pt x="803" y="1328"/>
                </a:lnTo>
                <a:lnTo>
                  <a:pt x="810" y="1328"/>
                </a:lnTo>
                <a:lnTo>
                  <a:pt x="818" y="1327"/>
                </a:lnTo>
                <a:lnTo>
                  <a:pt x="830" y="1320"/>
                </a:lnTo>
                <a:lnTo>
                  <a:pt x="841" y="1308"/>
                </a:lnTo>
                <a:lnTo>
                  <a:pt x="845" y="1294"/>
                </a:lnTo>
                <a:lnTo>
                  <a:pt x="844" y="1279"/>
                </a:lnTo>
                <a:lnTo>
                  <a:pt x="814" y="1178"/>
                </a:lnTo>
                <a:lnTo>
                  <a:pt x="1012" y="1188"/>
                </a:lnTo>
                <a:lnTo>
                  <a:pt x="1012" y="1185"/>
                </a:lnTo>
                <a:lnTo>
                  <a:pt x="1012" y="1176"/>
                </a:lnTo>
                <a:lnTo>
                  <a:pt x="1012" y="1162"/>
                </a:lnTo>
                <a:lnTo>
                  <a:pt x="1011" y="1146"/>
                </a:lnTo>
                <a:lnTo>
                  <a:pt x="1008" y="1127"/>
                </a:lnTo>
                <a:lnTo>
                  <a:pt x="1001" y="1109"/>
                </a:lnTo>
                <a:lnTo>
                  <a:pt x="992" y="1090"/>
                </a:lnTo>
                <a:lnTo>
                  <a:pt x="979" y="1075"/>
                </a:lnTo>
                <a:lnTo>
                  <a:pt x="959" y="1063"/>
                </a:lnTo>
                <a:lnTo>
                  <a:pt x="934" y="1051"/>
                </a:lnTo>
                <a:lnTo>
                  <a:pt x="904" y="1041"/>
                </a:lnTo>
                <a:lnTo>
                  <a:pt x="874" y="1033"/>
                </a:lnTo>
                <a:lnTo>
                  <a:pt x="847" y="1026"/>
                </a:lnTo>
                <a:lnTo>
                  <a:pt x="822" y="1021"/>
                </a:lnTo>
                <a:lnTo>
                  <a:pt x="806" y="1018"/>
                </a:lnTo>
                <a:lnTo>
                  <a:pt x="800" y="1017"/>
                </a:lnTo>
                <a:close/>
              </a:path>
            </a:pathLst>
          </a:cu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57200" y="1214280"/>
            <a:ext cx="1500480" cy="4143600"/>
            <a:chOff x="1357200" y="1214280"/>
            <a:chExt cx="1500480" cy="4143600"/>
          </a:xfrm>
        </p:grpSpPr>
        <p:sp>
          <p:nvSpPr>
            <p:cNvPr id="46" name="Freeform 472"/>
            <p:cNvSpPr/>
            <p:nvPr/>
          </p:nvSpPr>
          <p:spPr>
            <a:xfrm>
              <a:off x="1841040" y="2001960"/>
              <a:ext cx="243720" cy="3265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80" h="372">
                  <a:moveTo>
                    <a:pt x="135" y="41"/>
                  </a:moveTo>
                  <a:lnTo>
                    <a:pt x="135" y="41"/>
                  </a:lnTo>
                  <a:lnTo>
                    <a:pt x="114" y="31"/>
                  </a:lnTo>
                  <a:lnTo>
                    <a:pt x="104" y="20"/>
                  </a:lnTo>
                  <a:lnTo>
                    <a:pt x="73" y="0"/>
                  </a:lnTo>
                  <a:lnTo>
                    <a:pt x="52" y="0"/>
                  </a:lnTo>
                  <a:lnTo>
                    <a:pt x="21" y="0"/>
                  </a:lnTo>
                  <a:lnTo>
                    <a:pt x="11" y="20"/>
                  </a:lnTo>
                  <a:lnTo>
                    <a:pt x="0" y="41"/>
                  </a:lnTo>
                  <a:lnTo>
                    <a:pt x="0" y="83"/>
                  </a:lnTo>
                  <a:lnTo>
                    <a:pt x="11" y="124"/>
                  </a:lnTo>
                  <a:lnTo>
                    <a:pt x="42" y="196"/>
                  </a:lnTo>
                  <a:lnTo>
                    <a:pt x="73" y="279"/>
                  </a:lnTo>
                  <a:lnTo>
                    <a:pt x="94" y="372"/>
                  </a:lnTo>
                  <a:lnTo>
                    <a:pt x="125" y="362"/>
                  </a:lnTo>
                  <a:lnTo>
                    <a:pt x="145" y="341"/>
                  </a:lnTo>
                  <a:lnTo>
                    <a:pt x="197" y="341"/>
                  </a:lnTo>
                  <a:lnTo>
                    <a:pt x="228" y="341"/>
                  </a:lnTo>
                  <a:lnTo>
                    <a:pt x="249" y="331"/>
                  </a:lnTo>
                  <a:lnTo>
                    <a:pt x="269" y="310"/>
                  </a:lnTo>
                  <a:lnTo>
                    <a:pt x="280" y="269"/>
                  </a:lnTo>
                  <a:lnTo>
                    <a:pt x="280" y="238"/>
                  </a:lnTo>
                  <a:lnTo>
                    <a:pt x="269" y="196"/>
                  </a:lnTo>
                  <a:lnTo>
                    <a:pt x="249" y="165"/>
                  </a:lnTo>
                  <a:lnTo>
                    <a:pt x="228" y="134"/>
                  </a:lnTo>
                  <a:lnTo>
                    <a:pt x="197" y="103"/>
                  </a:lnTo>
                  <a:lnTo>
                    <a:pt x="187" y="72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74"/>
            <p:cNvSpPr/>
            <p:nvPr/>
          </p:nvSpPr>
          <p:spPr>
            <a:xfrm>
              <a:off x="1785600" y="1540800"/>
              <a:ext cx="109080" cy="217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24" h="248">
                  <a:moveTo>
                    <a:pt x="73" y="0"/>
                  </a:moveTo>
                  <a:lnTo>
                    <a:pt x="73" y="0"/>
                  </a:lnTo>
                  <a:lnTo>
                    <a:pt x="52" y="31"/>
                  </a:lnTo>
                  <a:lnTo>
                    <a:pt x="21" y="103"/>
                  </a:lnTo>
                  <a:lnTo>
                    <a:pt x="11" y="176"/>
                  </a:lnTo>
                  <a:lnTo>
                    <a:pt x="0" y="248"/>
                  </a:lnTo>
                  <a:lnTo>
                    <a:pt x="11" y="228"/>
                  </a:lnTo>
                  <a:lnTo>
                    <a:pt x="11" y="217"/>
                  </a:lnTo>
                  <a:lnTo>
                    <a:pt x="21" y="197"/>
                  </a:lnTo>
                  <a:lnTo>
                    <a:pt x="31" y="176"/>
                  </a:lnTo>
                  <a:lnTo>
                    <a:pt x="31" y="145"/>
                  </a:lnTo>
                  <a:lnTo>
                    <a:pt x="42" y="114"/>
                  </a:lnTo>
                  <a:lnTo>
                    <a:pt x="52" y="93"/>
                  </a:lnTo>
                  <a:lnTo>
                    <a:pt x="73" y="83"/>
                  </a:lnTo>
                  <a:lnTo>
                    <a:pt x="104" y="83"/>
                  </a:lnTo>
                  <a:lnTo>
                    <a:pt x="124" y="93"/>
                  </a:lnTo>
                  <a:lnTo>
                    <a:pt x="93" y="41"/>
                  </a:lnTo>
                  <a:lnTo>
                    <a:pt x="83" y="2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75"/>
            <p:cNvSpPr/>
            <p:nvPr/>
          </p:nvSpPr>
          <p:spPr>
            <a:xfrm>
              <a:off x="1658880" y="1548720"/>
              <a:ext cx="136080" cy="209160"/>
            </a:xfrm>
            <a:custGeom>
              <a:avLst/>
              <a:gdLst>
                <a:gd name="textAreaLeft" fmla="*/ 0 w 136080"/>
                <a:gd name="textAreaRight" fmla="*/ 136080 w 1360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56" h="238">
                  <a:moveTo>
                    <a:pt x="52" y="0"/>
                  </a:moveTo>
                  <a:lnTo>
                    <a:pt x="52" y="0"/>
                  </a:lnTo>
                  <a:lnTo>
                    <a:pt x="73" y="11"/>
                  </a:lnTo>
                  <a:lnTo>
                    <a:pt x="94" y="42"/>
                  </a:lnTo>
                  <a:lnTo>
                    <a:pt x="114" y="93"/>
                  </a:lnTo>
                  <a:lnTo>
                    <a:pt x="145" y="156"/>
                  </a:lnTo>
                  <a:lnTo>
                    <a:pt x="156" y="197"/>
                  </a:lnTo>
                  <a:lnTo>
                    <a:pt x="145" y="238"/>
                  </a:lnTo>
                  <a:lnTo>
                    <a:pt x="135" y="197"/>
                  </a:lnTo>
                  <a:lnTo>
                    <a:pt x="114" y="156"/>
                  </a:lnTo>
                  <a:lnTo>
                    <a:pt x="94" y="93"/>
                  </a:lnTo>
                  <a:lnTo>
                    <a:pt x="63" y="62"/>
                  </a:lnTo>
                  <a:lnTo>
                    <a:pt x="42" y="52"/>
                  </a:lnTo>
                  <a:lnTo>
                    <a:pt x="31" y="62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21" y="42"/>
                  </a:lnTo>
                  <a:lnTo>
                    <a:pt x="31" y="31"/>
                  </a:lnTo>
                  <a:lnTo>
                    <a:pt x="42" y="21"/>
                  </a:lnTo>
                  <a:lnTo>
                    <a:pt x="42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69"/>
            <p:cNvSpPr/>
            <p:nvPr/>
          </p:nvSpPr>
          <p:spPr>
            <a:xfrm flipV="1">
              <a:off x="2035800" y="2782800"/>
              <a:ext cx="821880" cy="168660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-360 h 1686600"/>
                <a:gd name="textAreaBottom" fmla="*/ 1686600 h 168660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b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69"/>
            <p:cNvSpPr/>
            <p:nvPr/>
          </p:nvSpPr>
          <p:spPr>
            <a:xfrm>
              <a:off x="2021400" y="1421640"/>
              <a:ext cx="813960" cy="183060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70"/>
            <p:cNvSpPr/>
            <p:nvPr/>
          </p:nvSpPr>
          <p:spPr>
            <a:xfrm>
              <a:off x="2555280" y="1694520"/>
              <a:ext cx="163080" cy="4626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186" h="528">
                  <a:moveTo>
                    <a:pt x="10" y="0"/>
                  </a:moveTo>
                  <a:lnTo>
                    <a:pt x="0" y="21"/>
                  </a:lnTo>
                  <a:lnTo>
                    <a:pt x="41" y="238"/>
                  </a:lnTo>
                  <a:lnTo>
                    <a:pt x="72" y="414"/>
                  </a:lnTo>
                  <a:lnTo>
                    <a:pt x="72" y="476"/>
                  </a:lnTo>
                  <a:lnTo>
                    <a:pt x="62" y="517"/>
                  </a:lnTo>
                  <a:lnTo>
                    <a:pt x="114" y="528"/>
                  </a:lnTo>
                  <a:lnTo>
                    <a:pt x="155" y="528"/>
                  </a:lnTo>
                  <a:lnTo>
                    <a:pt x="186" y="517"/>
                  </a:lnTo>
                  <a:lnTo>
                    <a:pt x="176" y="445"/>
                  </a:lnTo>
                  <a:lnTo>
                    <a:pt x="165" y="435"/>
                  </a:lnTo>
                  <a:lnTo>
                    <a:pt x="134" y="466"/>
                  </a:lnTo>
                  <a:lnTo>
                    <a:pt x="83" y="424"/>
                  </a:lnTo>
                  <a:lnTo>
                    <a:pt x="72" y="331"/>
                  </a:lnTo>
                  <a:lnTo>
                    <a:pt x="72" y="248"/>
                  </a:lnTo>
                  <a:lnTo>
                    <a:pt x="72" y="155"/>
                  </a:lnTo>
                  <a:lnTo>
                    <a:pt x="83" y="103"/>
                  </a:lnTo>
                  <a:lnTo>
                    <a:pt x="72" y="72"/>
                  </a:lnTo>
                  <a:lnTo>
                    <a:pt x="114" y="62"/>
                  </a:lnTo>
                  <a:lnTo>
                    <a:pt x="124" y="83"/>
                  </a:lnTo>
                  <a:lnTo>
                    <a:pt x="103" y="103"/>
                  </a:lnTo>
                  <a:lnTo>
                    <a:pt x="134" y="217"/>
                  </a:lnTo>
                  <a:lnTo>
                    <a:pt x="155" y="321"/>
                  </a:lnTo>
                  <a:lnTo>
                    <a:pt x="145" y="238"/>
                  </a:lnTo>
                  <a:lnTo>
                    <a:pt x="145" y="155"/>
                  </a:lnTo>
                  <a:lnTo>
                    <a:pt x="134" y="103"/>
                  </a:lnTo>
                  <a:lnTo>
                    <a:pt x="134" y="52"/>
                  </a:lnTo>
                  <a:lnTo>
                    <a:pt x="134" y="41"/>
                  </a:lnTo>
                  <a:lnTo>
                    <a:pt x="93" y="62"/>
                  </a:lnTo>
                  <a:lnTo>
                    <a:pt x="83" y="52"/>
                  </a:lnTo>
                  <a:lnTo>
                    <a:pt x="52" y="31"/>
                  </a:lnTo>
                  <a:lnTo>
                    <a:pt x="2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71"/>
            <p:cNvSpPr/>
            <p:nvPr/>
          </p:nvSpPr>
          <p:spPr>
            <a:xfrm>
              <a:off x="2148120" y="1730880"/>
              <a:ext cx="107640" cy="3801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24" h="435">
                  <a:moveTo>
                    <a:pt x="104" y="0"/>
                  </a:moveTo>
                  <a:lnTo>
                    <a:pt x="73" y="11"/>
                  </a:lnTo>
                  <a:lnTo>
                    <a:pt x="52" y="42"/>
                  </a:lnTo>
                  <a:lnTo>
                    <a:pt x="73" y="62"/>
                  </a:lnTo>
                  <a:lnTo>
                    <a:pt x="31" y="135"/>
                  </a:lnTo>
                  <a:lnTo>
                    <a:pt x="21" y="207"/>
                  </a:lnTo>
                  <a:lnTo>
                    <a:pt x="11" y="352"/>
                  </a:lnTo>
                  <a:lnTo>
                    <a:pt x="0" y="383"/>
                  </a:lnTo>
                  <a:lnTo>
                    <a:pt x="42" y="435"/>
                  </a:lnTo>
                  <a:lnTo>
                    <a:pt x="93" y="394"/>
                  </a:lnTo>
                  <a:lnTo>
                    <a:pt x="114" y="197"/>
                  </a:lnTo>
                  <a:lnTo>
                    <a:pt x="114" y="93"/>
                  </a:lnTo>
                  <a:lnTo>
                    <a:pt x="93" y="52"/>
                  </a:lnTo>
                  <a:lnTo>
                    <a:pt x="124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357200" y="3233520"/>
              <a:ext cx="772200" cy="2124360"/>
              <a:chOff x="1357200" y="3233520"/>
              <a:chExt cx="772200" cy="2124360"/>
            </a:xfrm>
          </p:grpSpPr>
          <p:pic>
            <p:nvPicPr>
              <p:cNvPr id="54" name="Freeform 47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7200" y="3233520"/>
                <a:ext cx="772200" cy="21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10800000">
                <a:off x="1360800" y="3240720"/>
                <a:ext cx="759960" cy="210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Freeform 473"/>
            <p:cNvSpPr/>
            <p:nvPr/>
          </p:nvSpPr>
          <p:spPr>
            <a:xfrm>
              <a:off x="1361160" y="1214280"/>
              <a:ext cx="759960" cy="210960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869" h="2411">
                  <a:moveTo>
                    <a:pt x="0" y="746"/>
                  </a:moveTo>
                  <a:lnTo>
                    <a:pt x="0" y="746"/>
                  </a:lnTo>
                  <a:lnTo>
                    <a:pt x="10" y="756"/>
                  </a:lnTo>
                  <a:lnTo>
                    <a:pt x="31" y="849"/>
                  </a:lnTo>
                  <a:lnTo>
                    <a:pt x="41" y="870"/>
                  </a:lnTo>
                  <a:lnTo>
                    <a:pt x="52" y="890"/>
                  </a:lnTo>
                  <a:lnTo>
                    <a:pt x="72" y="911"/>
                  </a:lnTo>
                  <a:lnTo>
                    <a:pt x="72" y="921"/>
                  </a:lnTo>
                  <a:lnTo>
                    <a:pt x="83" y="921"/>
                  </a:lnTo>
                  <a:lnTo>
                    <a:pt x="134" y="994"/>
                  </a:lnTo>
                  <a:lnTo>
                    <a:pt x="145" y="1004"/>
                  </a:lnTo>
                  <a:lnTo>
                    <a:pt x="155" y="1004"/>
                  </a:lnTo>
                  <a:lnTo>
                    <a:pt x="166" y="1015"/>
                  </a:lnTo>
                  <a:lnTo>
                    <a:pt x="197" y="1025"/>
                  </a:lnTo>
                  <a:lnTo>
                    <a:pt x="217" y="1046"/>
                  </a:lnTo>
                  <a:lnTo>
                    <a:pt x="238" y="1066"/>
                  </a:lnTo>
                  <a:lnTo>
                    <a:pt x="259" y="1077"/>
                  </a:lnTo>
                  <a:lnTo>
                    <a:pt x="248" y="1097"/>
                  </a:lnTo>
                  <a:lnTo>
                    <a:pt x="248" y="1149"/>
                  </a:lnTo>
                  <a:lnTo>
                    <a:pt x="248" y="1211"/>
                  </a:lnTo>
                  <a:lnTo>
                    <a:pt x="259" y="1315"/>
                  </a:lnTo>
                  <a:lnTo>
                    <a:pt x="259" y="1501"/>
                  </a:lnTo>
                  <a:lnTo>
                    <a:pt x="248" y="1573"/>
                  </a:lnTo>
                  <a:lnTo>
                    <a:pt x="248" y="1646"/>
                  </a:lnTo>
                  <a:lnTo>
                    <a:pt x="248" y="1708"/>
                  </a:lnTo>
                  <a:lnTo>
                    <a:pt x="259" y="1718"/>
                  </a:lnTo>
                  <a:lnTo>
                    <a:pt x="248" y="1780"/>
                  </a:lnTo>
                  <a:lnTo>
                    <a:pt x="248" y="1842"/>
                  </a:lnTo>
                  <a:lnTo>
                    <a:pt x="259" y="1904"/>
                  </a:lnTo>
                  <a:lnTo>
                    <a:pt x="279" y="1998"/>
                  </a:lnTo>
                  <a:lnTo>
                    <a:pt x="290" y="2091"/>
                  </a:lnTo>
                  <a:lnTo>
                    <a:pt x="290" y="2194"/>
                  </a:lnTo>
                  <a:lnTo>
                    <a:pt x="279" y="2287"/>
                  </a:lnTo>
                  <a:lnTo>
                    <a:pt x="259" y="2360"/>
                  </a:lnTo>
                  <a:lnTo>
                    <a:pt x="269" y="2391"/>
                  </a:lnTo>
                  <a:lnTo>
                    <a:pt x="290" y="2411"/>
                  </a:lnTo>
                  <a:lnTo>
                    <a:pt x="321" y="2411"/>
                  </a:lnTo>
                  <a:lnTo>
                    <a:pt x="352" y="2401"/>
                  </a:lnTo>
                  <a:lnTo>
                    <a:pt x="362" y="2391"/>
                  </a:lnTo>
                  <a:lnTo>
                    <a:pt x="372" y="2370"/>
                  </a:lnTo>
                  <a:lnTo>
                    <a:pt x="372" y="2246"/>
                  </a:lnTo>
                  <a:lnTo>
                    <a:pt x="383" y="2246"/>
                  </a:lnTo>
                  <a:lnTo>
                    <a:pt x="372" y="2215"/>
                  </a:lnTo>
                  <a:lnTo>
                    <a:pt x="372" y="2194"/>
                  </a:lnTo>
                  <a:lnTo>
                    <a:pt x="362" y="2184"/>
                  </a:lnTo>
                  <a:lnTo>
                    <a:pt x="352" y="2111"/>
                  </a:lnTo>
                  <a:lnTo>
                    <a:pt x="362" y="2029"/>
                  </a:lnTo>
                  <a:lnTo>
                    <a:pt x="393" y="1904"/>
                  </a:lnTo>
                  <a:lnTo>
                    <a:pt x="393" y="1853"/>
                  </a:lnTo>
                  <a:lnTo>
                    <a:pt x="393" y="1791"/>
                  </a:lnTo>
                  <a:lnTo>
                    <a:pt x="393" y="1718"/>
                  </a:lnTo>
                  <a:lnTo>
                    <a:pt x="538" y="1708"/>
                  </a:lnTo>
                  <a:lnTo>
                    <a:pt x="538" y="1729"/>
                  </a:lnTo>
                  <a:lnTo>
                    <a:pt x="528" y="1791"/>
                  </a:lnTo>
                  <a:lnTo>
                    <a:pt x="528" y="1853"/>
                  </a:lnTo>
                  <a:lnTo>
                    <a:pt x="538" y="1915"/>
                  </a:lnTo>
                  <a:lnTo>
                    <a:pt x="548" y="1956"/>
                  </a:lnTo>
                  <a:lnTo>
                    <a:pt x="559" y="2008"/>
                  </a:lnTo>
                  <a:lnTo>
                    <a:pt x="569" y="2070"/>
                  </a:lnTo>
                  <a:lnTo>
                    <a:pt x="569" y="2142"/>
                  </a:lnTo>
                  <a:lnTo>
                    <a:pt x="559" y="2153"/>
                  </a:lnTo>
                  <a:lnTo>
                    <a:pt x="548" y="2184"/>
                  </a:lnTo>
                  <a:lnTo>
                    <a:pt x="538" y="2194"/>
                  </a:lnTo>
                  <a:lnTo>
                    <a:pt x="548" y="2215"/>
                  </a:lnTo>
                  <a:lnTo>
                    <a:pt x="559" y="2256"/>
                  </a:lnTo>
                  <a:lnTo>
                    <a:pt x="559" y="2329"/>
                  </a:lnTo>
                  <a:lnTo>
                    <a:pt x="590" y="2329"/>
                  </a:lnTo>
                  <a:lnTo>
                    <a:pt x="590" y="2308"/>
                  </a:lnTo>
                  <a:lnTo>
                    <a:pt x="600" y="2318"/>
                  </a:lnTo>
                  <a:lnTo>
                    <a:pt x="600" y="2360"/>
                  </a:lnTo>
                  <a:lnTo>
                    <a:pt x="631" y="2380"/>
                  </a:lnTo>
                  <a:lnTo>
                    <a:pt x="673" y="2380"/>
                  </a:lnTo>
                  <a:lnTo>
                    <a:pt x="724" y="2380"/>
                  </a:lnTo>
                  <a:lnTo>
                    <a:pt x="724" y="2370"/>
                  </a:lnTo>
                  <a:lnTo>
                    <a:pt x="724" y="2349"/>
                  </a:lnTo>
                  <a:lnTo>
                    <a:pt x="704" y="2308"/>
                  </a:lnTo>
                  <a:lnTo>
                    <a:pt x="673" y="2277"/>
                  </a:lnTo>
                  <a:lnTo>
                    <a:pt x="652" y="2205"/>
                  </a:lnTo>
                  <a:lnTo>
                    <a:pt x="642" y="2163"/>
                  </a:lnTo>
                  <a:lnTo>
                    <a:pt x="642" y="2091"/>
                  </a:lnTo>
                  <a:lnTo>
                    <a:pt x="662" y="1956"/>
                  </a:lnTo>
                  <a:lnTo>
                    <a:pt x="673" y="1873"/>
                  </a:lnTo>
                  <a:lnTo>
                    <a:pt x="673" y="1780"/>
                  </a:lnTo>
                  <a:lnTo>
                    <a:pt x="673" y="1687"/>
                  </a:lnTo>
                  <a:lnTo>
                    <a:pt x="704" y="1687"/>
                  </a:lnTo>
                  <a:lnTo>
                    <a:pt x="714" y="1687"/>
                  </a:lnTo>
                  <a:lnTo>
                    <a:pt x="714" y="1677"/>
                  </a:lnTo>
                  <a:lnTo>
                    <a:pt x="714" y="1604"/>
                  </a:lnTo>
                  <a:lnTo>
                    <a:pt x="704" y="1449"/>
                  </a:lnTo>
                  <a:lnTo>
                    <a:pt x="704" y="1242"/>
                  </a:lnTo>
                  <a:lnTo>
                    <a:pt x="662" y="1242"/>
                  </a:lnTo>
                  <a:lnTo>
                    <a:pt x="579" y="952"/>
                  </a:lnTo>
                  <a:lnTo>
                    <a:pt x="579" y="932"/>
                  </a:lnTo>
                  <a:lnTo>
                    <a:pt x="600" y="932"/>
                  </a:lnTo>
                  <a:lnTo>
                    <a:pt x="693" y="1232"/>
                  </a:lnTo>
                  <a:lnTo>
                    <a:pt x="704" y="1232"/>
                  </a:lnTo>
                  <a:lnTo>
                    <a:pt x="745" y="1222"/>
                  </a:lnTo>
                  <a:lnTo>
                    <a:pt x="786" y="1222"/>
                  </a:lnTo>
                  <a:lnTo>
                    <a:pt x="786" y="1232"/>
                  </a:lnTo>
                  <a:lnTo>
                    <a:pt x="776" y="1232"/>
                  </a:lnTo>
                  <a:lnTo>
                    <a:pt x="724" y="1232"/>
                  </a:lnTo>
                  <a:lnTo>
                    <a:pt x="735" y="1242"/>
                  </a:lnTo>
                  <a:lnTo>
                    <a:pt x="766" y="1253"/>
                  </a:lnTo>
                  <a:lnTo>
                    <a:pt x="817" y="1253"/>
                  </a:lnTo>
                  <a:lnTo>
                    <a:pt x="828" y="1232"/>
                  </a:lnTo>
                  <a:lnTo>
                    <a:pt x="838" y="1222"/>
                  </a:lnTo>
                  <a:lnTo>
                    <a:pt x="838" y="1211"/>
                  </a:lnTo>
                  <a:lnTo>
                    <a:pt x="869" y="1201"/>
                  </a:lnTo>
                  <a:lnTo>
                    <a:pt x="838" y="1046"/>
                  </a:lnTo>
                  <a:lnTo>
                    <a:pt x="838" y="1015"/>
                  </a:lnTo>
                  <a:lnTo>
                    <a:pt x="828" y="984"/>
                  </a:lnTo>
                  <a:lnTo>
                    <a:pt x="817" y="921"/>
                  </a:lnTo>
                  <a:lnTo>
                    <a:pt x="817" y="911"/>
                  </a:lnTo>
                  <a:lnTo>
                    <a:pt x="817" y="880"/>
                  </a:lnTo>
                  <a:lnTo>
                    <a:pt x="817" y="870"/>
                  </a:lnTo>
                  <a:lnTo>
                    <a:pt x="807" y="828"/>
                  </a:lnTo>
                  <a:lnTo>
                    <a:pt x="786" y="777"/>
                  </a:lnTo>
                  <a:lnTo>
                    <a:pt x="776" y="735"/>
                  </a:lnTo>
                  <a:lnTo>
                    <a:pt x="766" y="694"/>
                  </a:lnTo>
                  <a:lnTo>
                    <a:pt x="755" y="621"/>
                  </a:lnTo>
                  <a:lnTo>
                    <a:pt x="755" y="611"/>
                  </a:lnTo>
                  <a:lnTo>
                    <a:pt x="745" y="518"/>
                  </a:lnTo>
                  <a:lnTo>
                    <a:pt x="724" y="445"/>
                  </a:lnTo>
                  <a:lnTo>
                    <a:pt x="724" y="435"/>
                  </a:lnTo>
                  <a:lnTo>
                    <a:pt x="714" y="425"/>
                  </a:lnTo>
                  <a:lnTo>
                    <a:pt x="704" y="425"/>
                  </a:lnTo>
                  <a:lnTo>
                    <a:pt x="693" y="425"/>
                  </a:lnTo>
                  <a:lnTo>
                    <a:pt x="683" y="414"/>
                  </a:lnTo>
                  <a:lnTo>
                    <a:pt x="683" y="394"/>
                  </a:lnTo>
                  <a:lnTo>
                    <a:pt x="673" y="383"/>
                  </a:lnTo>
                  <a:lnTo>
                    <a:pt x="662" y="383"/>
                  </a:lnTo>
                  <a:lnTo>
                    <a:pt x="652" y="363"/>
                  </a:lnTo>
                  <a:lnTo>
                    <a:pt x="652" y="332"/>
                  </a:lnTo>
                  <a:lnTo>
                    <a:pt x="642" y="311"/>
                  </a:lnTo>
                  <a:lnTo>
                    <a:pt x="642" y="301"/>
                  </a:lnTo>
                  <a:lnTo>
                    <a:pt x="621" y="218"/>
                  </a:lnTo>
                  <a:lnTo>
                    <a:pt x="610" y="125"/>
                  </a:lnTo>
                  <a:lnTo>
                    <a:pt x="579" y="63"/>
                  </a:lnTo>
                  <a:lnTo>
                    <a:pt x="559" y="32"/>
                  </a:lnTo>
                  <a:lnTo>
                    <a:pt x="528" y="11"/>
                  </a:lnTo>
                  <a:lnTo>
                    <a:pt x="507" y="0"/>
                  </a:lnTo>
                  <a:lnTo>
                    <a:pt x="486" y="0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24" y="0"/>
                  </a:lnTo>
                  <a:lnTo>
                    <a:pt x="404" y="21"/>
                  </a:lnTo>
                  <a:lnTo>
                    <a:pt x="372" y="52"/>
                  </a:lnTo>
                  <a:lnTo>
                    <a:pt x="352" y="125"/>
                  </a:lnTo>
                  <a:lnTo>
                    <a:pt x="331" y="176"/>
                  </a:lnTo>
                  <a:lnTo>
                    <a:pt x="331" y="228"/>
                  </a:lnTo>
                  <a:lnTo>
                    <a:pt x="331" y="280"/>
                  </a:lnTo>
                  <a:lnTo>
                    <a:pt x="321" y="321"/>
                  </a:lnTo>
                  <a:lnTo>
                    <a:pt x="310" y="363"/>
                  </a:lnTo>
                  <a:lnTo>
                    <a:pt x="217" y="383"/>
                  </a:lnTo>
                  <a:lnTo>
                    <a:pt x="207" y="383"/>
                  </a:lnTo>
                  <a:lnTo>
                    <a:pt x="186" y="404"/>
                  </a:lnTo>
                  <a:lnTo>
                    <a:pt x="155" y="466"/>
                  </a:lnTo>
                  <a:lnTo>
                    <a:pt x="124" y="528"/>
                  </a:lnTo>
                  <a:lnTo>
                    <a:pt x="62" y="611"/>
                  </a:lnTo>
                  <a:lnTo>
                    <a:pt x="31" y="652"/>
                  </a:lnTo>
                  <a:lnTo>
                    <a:pt x="21" y="663"/>
                  </a:lnTo>
                  <a:lnTo>
                    <a:pt x="0" y="714"/>
                  </a:lnTo>
                  <a:lnTo>
                    <a:pt x="0" y="725"/>
                  </a:lnTo>
                  <a:lnTo>
                    <a:pt x="0" y="746"/>
                  </a:lnTo>
                  <a:close/>
                  <a:moveTo>
                    <a:pt x="652" y="673"/>
                  </a:moveTo>
                  <a:lnTo>
                    <a:pt x="652" y="673"/>
                  </a:lnTo>
                  <a:lnTo>
                    <a:pt x="662" y="652"/>
                  </a:lnTo>
                  <a:lnTo>
                    <a:pt x="673" y="683"/>
                  </a:lnTo>
                  <a:lnTo>
                    <a:pt x="673" y="704"/>
                  </a:lnTo>
                  <a:lnTo>
                    <a:pt x="673" y="714"/>
                  </a:lnTo>
                  <a:lnTo>
                    <a:pt x="683" y="797"/>
                  </a:lnTo>
                  <a:lnTo>
                    <a:pt x="693" y="849"/>
                  </a:lnTo>
                  <a:lnTo>
                    <a:pt x="714" y="880"/>
                  </a:lnTo>
                  <a:lnTo>
                    <a:pt x="714" y="901"/>
                  </a:lnTo>
                  <a:lnTo>
                    <a:pt x="724" y="921"/>
                  </a:lnTo>
                  <a:lnTo>
                    <a:pt x="652" y="921"/>
                  </a:lnTo>
                  <a:lnTo>
                    <a:pt x="642" y="849"/>
                  </a:lnTo>
                  <a:lnTo>
                    <a:pt x="642" y="766"/>
                  </a:lnTo>
                  <a:lnTo>
                    <a:pt x="652" y="673"/>
                  </a:lnTo>
                  <a:close/>
                  <a:moveTo>
                    <a:pt x="93" y="735"/>
                  </a:moveTo>
                  <a:lnTo>
                    <a:pt x="93" y="735"/>
                  </a:lnTo>
                  <a:lnTo>
                    <a:pt x="145" y="683"/>
                  </a:lnTo>
                  <a:lnTo>
                    <a:pt x="186" y="632"/>
                  </a:lnTo>
                  <a:lnTo>
                    <a:pt x="217" y="580"/>
                  </a:lnTo>
                  <a:lnTo>
                    <a:pt x="238" y="570"/>
                  </a:lnTo>
                  <a:lnTo>
                    <a:pt x="248" y="580"/>
                  </a:lnTo>
                  <a:lnTo>
                    <a:pt x="259" y="590"/>
                  </a:lnTo>
                  <a:lnTo>
                    <a:pt x="279" y="611"/>
                  </a:lnTo>
                  <a:lnTo>
                    <a:pt x="290" y="642"/>
                  </a:lnTo>
                  <a:lnTo>
                    <a:pt x="300" y="714"/>
                  </a:lnTo>
                  <a:lnTo>
                    <a:pt x="300" y="777"/>
                  </a:lnTo>
                  <a:lnTo>
                    <a:pt x="300" y="828"/>
                  </a:lnTo>
                  <a:lnTo>
                    <a:pt x="290" y="880"/>
                  </a:lnTo>
                  <a:lnTo>
                    <a:pt x="279" y="911"/>
                  </a:lnTo>
                  <a:lnTo>
                    <a:pt x="279" y="921"/>
                  </a:lnTo>
                  <a:lnTo>
                    <a:pt x="269" y="963"/>
                  </a:lnTo>
                  <a:lnTo>
                    <a:pt x="259" y="973"/>
                  </a:lnTo>
                  <a:lnTo>
                    <a:pt x="248" y="973"/>
                  </a:lnTo>
                  <a:lnTo>
                    <a:pt x="197" y="973"/>
                  </a:lnTo>
                  <a:lnTo>
                    <a:pt x="197" y="963"/>
                  </a:lnTo>
                  <a:lnTo>
                    <a:pt x="207" y="952"/>
                  </a:lnTo>
                  <a:lnTo>
                    <a:pt x="155" y="880"/>
                  </a:lnTo>
                  <a:lnTo>
                    <a:pt x="155" y="870"/>
                  </a:lnTo>
                  <a:lnTo>
                    <a:pt x="134" y="808"/>
                  </a:lnTo>
                  <a:lnTo>
                    <a:pt x="93" y="735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矩形 836" descr=""/>
          <p:cNvPicPr/>
          <p:nvPr/>
        </p:nvPicPr>
        <p:blipFill>
          <a:blip r:embed="rId4"/>
          <a:stretch/>
        </p:blipFill>
        <p:spPr>
          <a:xfrm>
            <a:off x="1006560" y="3511440"/>
            <a:ext cx="437652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572080" y="1428840"/>
            <a:ext cx="4468680" cy="6127560"/>
            <a:chOff x="5572080" y="1428840"/>
            <a:chExt cx="4468680" cy="6127560"/>
          </a:xfrm>
        </p:grpSpPr>
        <p:sp>
          <p:nvSpPr>
            <p:cNvPr id="59" name="Freeform 476"/>
            <p:cNvSpPr/>
            <p:nvPr/>
          </p:nvSpPr>
          <p:spPr>
            <a:xfrm>
              <a:off x="5572080" y="1428840"/>
              <a:ext cx="4468680" cy="612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3311" y="5604"/>
                  </a:moveTo>
                  <a:lnTo>
                    <a:pt x="3311" y="5604"/>
                  </a:lnTo>
                  <a:lnTo>
                    <a:pt x="3346" y="5630"/>
                  </a:lnTo>
                  <a:lnTo>
                    <a:pt x="3346" y="5658"/>
                  </a:lnTo>
                  <a:lnTo>
                    <a:pt x="3346" y="6435"/>
                  </a:lnTo>
                  <a:lnTo>
                    <a:pt x="3346" y="6435"/>
                  </a:lnTo>
                  <a:lnTo>
                    <a:pt x="3346" y="6516"/>
                  </a:lnTo>
                  <a:lnTo>
                    <a:pt x="3346" y="6756"/>
                  </a:lnTo>
                  <a:lnTo>
                    <a:pt x="3346" y="6756"/>
                  </a:lnTo>
                  <a:lnTo>
                    <a:pt x="3346" y="6837"/>
                  </a:lnTo>
                  <a:lnTo>
                    <a:pt x="3382" y="7104"/>
                  </a:lnTo>
                  <a:lnTo>
                    <a:pt x="3382" y="7104"/>
                  </a:lnTo>
                  <a:cubicBezTo>
                    <a:pt x="3370" y="7132"/>
                    <a:pt x="3358" y="7159"/>
                    <a:pt x="3346" y="7187"/>
                  </a:cubicBezTo>
                  <a:cubicBezTo>
                    <a:pt x="3334" y="7214"/>
                    <a:pt x="3323" y="7240"/>
                    <a:pt x="3311" y="7267"/>
                  </a:cubicBezTo>
                  <a:lnTo>
                    <a:pt x="3311" y="7267"/>
                  </a:lnTo>
                  <a:lnTo>
                    <a:pt x="3311" y="7347"/>
                  </a:lnTo>
                  <a:lnTo>
                    <a:pt x="3346" y="7373"/>
                  </a:lnTo>
                  <a:lnTo>
                    <a:pt x="3346" y="7373"/>
                  </a:lnTo>
                  <a:lnTo>
                    <a:pt x="3346" y="7453"/>
                  </a:lnTo>
                  <a:lnTo>
                    <a:pt x="3346" y="9008"/>
                  </a:lnTo>
                  <a:lnTo>
                    <a:pt x="3346" y="9008"/>
                  </a:lnTo>
                  <a:lnTo>
                    <a:pt x="3346" y="9088"/>
                  </a:lnTo>
                  <a:lnTo>
                    <a:pt x="3346" y="9088"/>
                  </a:lnTo>
                  <a:lnTo>
                    <a:pt x="3346" y="9088"/>
                  </a:lnTo>
                  <a:lnTo>
                    <a:pt x="3346" y="9117"/>
                  </a:lnTo>
                  <a:lnTo>
                    <a:pt x="3382" y="9117"/>
                  </a:lnTo>
                  <a:lnTo>
                    <a:pt x="3382" y="9117"/>
                  </a:lnTo>
                  <a:lnTo>
                    <a:pt x="3382" y="9117"/>
                  </a:lnTo>
                  <a:cubicBezTo>
                    <a:pt x="3407" y="9125"/>
                    <a:pt x="3431" y="9134"/>
                    <a:pt x="3456" y="9142"/>
                  </a:cubicBezTo>
                  <a:lnTo>
                    <a:pt x="3456" y="9168"/>
                  </a:lnTo>
                  <a:cubicBezTo>
                    <a:pt x="3444" y="9419"/>
                    <a:pt x="3433" y="9669"/>
                    <a:pt x="3421" y="9920"/>
                  </a:cubicBezTo>
                  <a:lnTo>
                    <a:pt x="3421" y="9920"/>
                  </a:lnTo>
                  <a:lnTo>
                    <a:pt x="3421" y="9946"/>
                  </a:lnTo>
                  <a:cubicBezTo>
                    <a:pt x="3445" y="9964"/>
                    <a:pt x="3468" y="9982"/>
                    <a:pt x="3492" y="10000"/>
                  </a:cubicBezTo>
                  <a:lnTo>
                    <a:pt x="9925" y="10000"/>
                  </a:lnTo>
                  <a:lnTo>
                    <a:pt x="9925" y="10000"/>
                  </a:lnTo>
                  <a:cubicBezTo>
                    <a:pt x="9950" y="9991"/>
                    <a:pt x="9975" y="9983"/>
                    <a:pt x="10000" y="9974"/>
                  </a:cubicBezTo>
                  <a:lnTo>
                    <a:pt x="10000" y="9920"/>
                  </a:lnTo>
                  <a:lnTo>
                    <a:pt x="10000" y="9839"/>
                  </a:lnTo>
                  <a:lnTo>
                    <a:pt x="10000" y="9839"/>
                  </a:lnTo>
                  <a:cubicBezTo>
                    <a:pt x="9988" y="9696"/>
                    <a:pt x="9976" y="9552"/>
                    <a:pt x="9964" y="9409"/>
                  </a:cubicBezTo>
                  <a:lnTo>
                    <a:pt x="9964" y="9409"/>
                  </a:lnTo>
                  <a:cubicBezTo>
                    <a:pt x="9951" y="9356"/>
                    <a:pt x="9938" y="9302"/>
                    <a:pt x="9925" y="9249"/>
                  </a:cubicBezTo>
                  <a:cubicBezTo>
                    <a:pt x="9913" y="9222"/>
                    <a:pt x="9902" y="9195"/>
                    <a:pt x="9890" y="9168"/>
                  </a:cubicBezTo>
                  <a:lnTo>
                    <a:pt x="9815" y="9117"/>
                  </a:lnTo>
                  <a:lnTo>
                    <a:pt x="9815" y="9117"/>
                  </a:lnTo>
                  <a:lnTo>
                    <a:pt x="9705" y="9088"/>
                  </a:lnTo>
                  <a:lnTo>
                    <a:pt x="9705" y="9088"/>
                  </a:lnTo>
                  <a:lnTo>
                    <a:pt x="9119" y="8873"/>
                  </a:lnTo>
                  <a:lnTo>
                    <a:pt x="9119" y="8873"/>
                  </a:lnTo>
                  <a:lnTo>
                    <a:pt x="9044" y="8873"/>
                  </a:lnTo>
                  <a:lnTo>
                    <a:pt x="8934" y="8873"/>
                  </a:lnTo>
                  <a:lnTo>
                    <a:pt x="8860" y="8873"/>
                  </a:lnTo>
                  <a:lnTo>
                    <a:pt x="8860" y="8873"/>
                  </a:lnTo>
                  <a:lnTo>
                    <a:pt x="8750" y="8902"/>
                  </a:lnTo>
                  <a:lnTo>
                    <a:pt x="8234" y="9034"/>
                  </a:lnTo>
                  <a:lnTo>
                    <a:pt x="8234" y="9034"/>
                  </a:lnTo>
                  <a:lnTo>
                    <a:pt x="8199" y="9034"/>
                  </a:lnTo>
                  <a:lnTo>
                    <a:pt x="8199" y="9008"/>
                  </a:lnTo>
                  <a:cubicBezTo>
                    <a:pt x="8211" y="8981"/>
                    <a:pt x="8222" y="8954"/>
                    <a:pt x="8234" y="8927"/>
                  </a:cubicBezTo>
                  <a:lnTo>
                    <a:pt x="8234" y="8927"/>
                  </a:lnTo>
                  <a:lnTo>
                    <a:pt x="8309" y="8873"/>
                  </a:lnTo>
                  <a:lnTo>
                    <a:pt x="8309" y="8873"/>
                  </a:lnTo>
                  <a:cubicBezTo>
                    <a:pt x="8321" y="8864"/>
                    <a:pt x="8333" y="8856"/>
                    <a:pt x="8345" y="8847"/>
                  </a:cubicBezTo>
                  <a:lnTo>
                    <a:pt x="8345" y="8821"/>
                  </a:lnTo>
                  <a:cubicBezTo>
                    <a:pt x="8370" y="8741"/>
                    <a:pt x="8394" y="8660"/>
                    <a:pt x="8419" y="8580"/>
                  </a:cubicBezTo>
                  <a:lnTo>
                    <a:pt x="8419" y="8580"/>
                  </a:lnTo>
                  <a:lnTo>
                    <a:pt x="8419" y="8472"/>
                  </a:lnTo>
                  <a:lnTo>
                    <a:pt x="8494" y="8256"/>
                  </a:lnTo>
                  <a:lnTo>
                    <a:pt x="8494" y="8256"/>
                  </a:lnTo>
                  <a:cubicBezTo>
                    <a:pt x="8506" y="8229"/>
                    <a:pt x="8517" y="8203"/>
                    <a:pt x="8529" y="8176"/>
                  </a:cubicBezTo>
                  <a:lnTo>
                    <a:pt x="8565" y="7453"/>
                  </a:lnTo>
                  <a:lnTo>
                    <a:pt x="8565" y="7453"/>
                  </a:lnTo>
                  <a:lnTo>
                    <a:pt x="8565" y="7373"/>
                  </a:lnTo>
                  <a:cubicBezTo>
                    <a:pt x="8602" y="7186"/>
                    <a:pt x="8638" y="6998"/>
                    <a:pt x="8675" y="6811"/>
                  </a:cubicBezTo>
                  <a:lnTo>
                    <a:pt x="8675" y="6811"/>
                  </a:lnTo>
                  <a:cubicBezTo>
                    <a:pt x="8688" y="6775"/>
                    <a:pt x="8701" y="6738"/>
                    <a:pt x="8714" y="6702"/>
                  </a:cubicBezTo>
                  <a:cubicBezTo>
                    <a:pt x="8701" y="6541"/>
                    <a:pt x="8688" y="6381"/>
                    <a:pt x="8675" y="6220"/>
                  </a:cubicBezTo>
                  <a:lnTo>
                    <a:pt x="8675" y="6220"/>
                  </a:lnTo>
                  <a:lnTo>
                    <a:pt x="8675" y="6140"/>
                  </a:lnTo>
                  <a:cubicBezTo>
                    <a:pt x="8663" y="5916"/>
                    <a:pt x="8651" y="5693"/>
                    <a:pt x="8639" y="5469"/>
                  </a:cubicBezTo>
                  <a:lnTo>
                    <a:pt x="8639" y="5469"/>
                  </a:lnTo>
                  <a:lnTo>
                    <a:pt x="8639" y="5363"/>
                  </a:lnTo>
                  <a:cubicBezTo>
                    <a:pt x="8614" y="5220"/>
                    <a:pt x="8590" y="5076"/>
                    <a:pt x="8565" y="4933"/>
                  </a:cubicBezTo>
                  <a:lnTo>
                    <a:pt x="8565" y="4933"/>
                  </a:lnTo>
                  <a:lnTo>
                    <a:pt x="8565" y="4852"/>
                  </a:lnTo>
                  <a:cubicBezTo>
                    <a:pt x="8516" y="4673"/>
                    <a:pt x="8468" y="4495"/>
                    <a:pt x="8419" y="4316"/>
                  </a:cubicBezTo>
                  <a:lnTo>
                    <a:pt x="8419" y="4316"/>
                  </a:lnTo>
                  <a:cubicBezTo>
                    <a:pt x="8407" y="4281"/>
                    <a:pt x="8396" y="4245"/>
                    <a:pt x="8384" y="4210"/>
                  </a:cubicBezTo>
                  <a:lnTo>
                    <a:pt x="8384" y="4130"/>
                  </a:lnTo>
                  <a:lnTo>
                    <a:pt x="8384" y="4130"/>
                  </a:lnTo>
                  <a:lnTo>
                    <a:pt x="8384" y="4049"/>
                  </a:lnTo>
                  <a:lnTo>
                    <a:pt x="8384" y="4049"/>
                  </a:lnTo>
                  <a:lnTo>
                    <a:pt x="7979" y="3163"/>
                  </a:lnTo>
                  <a:lnTo>
                    <a:pt x="7979" y="3163"/>
                  </a:lnTo>
                  <a:cubicBezTo>
                    <a:pt x="7954" y="3136"/>
                    <a:pt x="7929" y="3110"/>
                    <a:pt x="7904" y="3083"/>
                  </a:cubicBezTo>
                  <a:cubicBezTo>
                    <a:pt x="7867" y="3048"/>
                    <a:pt x="7831" y="3012"/>
                    <a:pt x="7794" y="2977"/>
                  </a:cubicBezTo>
                  <a:lnTo>
                    <a:pt x="7648" y="2896"/>
                  </a:lnTo>
                  <a:lnTo>
                    <a:pt x="7648" y="2896"/>
                  </a:lnTo>
                  <a:lnTo>
                    <a:pt x="7538" y="2842"/>
                  </a:lnTo>
                  <a:lnTo>
                    <a:pt x="6288" y="2386"/>
                  </a:lnTo>
                  <a:lnTo>
                    <a:pt x="6288" y="2386"/>
                  </a:lnTo>
                  <a:cubicBezTo>
                    <a:pt x="6263" y="2369"/>
                    <a:pt x="6238" y="2351"/>
                    <a:pt x="6213" y="2334"/>
                  </a:cubicBezTo>
                  <a:lnTo>
                    <a:pt x="5883" y="2119"/>
                  </a:lnTo>
                  <a:lnTo>
                    <a:pt x="5883" y="2119"/>
                  </a:lnTo>
                  <a:lnTo>
                    <a:pt x="5737" y="2091"/>
                  </a:lnTo>
                  <a:cubicBezTo>
                    <a:pt x="5724" y="2082"/>
                    <a:pt x="5711" y="2074"/>
                    <a:pt x="5698" y="2065"/>
                  </a:cubicBezTo>
                  <a:lnTo>
                    <a:pt x="5663" y="2065"/>
                  </a:lnTo>
                  <a:lnTo>
                    <a:pt x="5698" y="2065"/>
                  </a:lnTo>
                  <a:lnTo>
                    <a:pt x="5698" y="2065"/>
                  </a:lnTo>
                  <a:cubicBezTo>
                    <a:pt x="5711" y="2056"/>
                    <a:pt x="5724" y="2048"/>
                    <a:pt x="5737" y="2039"/>
                  </a:cubicBezTo>
                  <a:lnTo>
                    <a:pt x="5737" y="2010"/>
                  </a:lnTo>
                  <a:lnTo>
                    <a:pt x="5737" y="1930"/>
                  </a:lnTo>
                  <a:lnTo>
                    <a:pt x="5737" y="1930"/>
                  </a:lnTo>
                  <a:cubicBezTo>
                    <a:pt x="5724" y="1903"/>
                    <a:pt x="5711" y="1877"/>
                    <a:pt x="5698" y="1850"/>
                  </a:cubicBezTo>
                  <a:cubicBezTo>
                    <a:pt x="5674" y="1806"/>
                    <a:pt x="5651" y="1762"/>
                    <a:pt x="5627" y="1718"/>
                  </a:cubicBezTo>
                  <a:lnTo>
                    <a:pt x="5627" y="1718"/>
                  </a:lnTo>
                  <a:lnTo>
                    <a:pt x="5588" y="1637"/>
                  </a:lnTo>
                  <a:lnTo>
                    <a:pt x="5588" y="1557"/>
                  </a:lnTo>
                  <a:lnTo>
                    <a:pt x="5588" y="1557"/>
                  </a:lnTo>
                  <a:lnTo>
                    <a:pt x="5588" y="1474"/>
                  </a:lnTo>
                  <a:lnTo>
                    <a:pt x="5663" y="1342"/>
                  </a:lnTo>
                  <a:lnTo>
                    <a:pt x="5663" y="1342"/>
                  </a:lnTo>
                  <a:cubicBezTo>
                    <a:pt x="5675" y="1306"/>
                    <a:pt x="5686" y="1269"/>
                    <a:pt x="5698" y="1233"/>
                  </a:cubicBezTo>
                  <a:lnTo>
                    <a:pt x="5698" y="671"/>
                  </a:lnTo>
                  <a:lnTo>
                    <a:pt x="5698" y="671"/>
                  </a:lnTo>
                  <a:cubicBezTo>
                    <a:pt x="5686" y="644"/>
                    <a:pt x="5675" y="618"/>
                    <a:pt x="5663" y="591"/>
                  </a:cubicBezTo>
                  <a:lnTo>
                    <a:pt x="5627" y="510"/>
                  </a:lnTo>
                  <a:lnTo>
                    <a:pt x="5627" y="510"/>
                  </a:lnTo>
                  <a:cubicBezTo>
                    <a:pt x="5602" y="483"/>
                    <a:pt x="5577" y="457"/>
                    <a:pt x="5552" y="430"/>
                  </a:cubicBezTo>
                  <a:lnTo>
                    <a:pt x="5112" y="109"/>
                  </a:lnTo>
                  <a:lnTo>
                    <a:pt x="5112" y="109"/>
                  </a:lnTo>
                  <a:lnTo>
                    <a:pt x="5002" y="80"/>
                  </a:lnTo>
                  <a:lnTo>
                    <a:pt x="4817" y="54"/>
                  </a:lnTo>
                  <a:lnTo>
                    <a:pt x="4817" y="54"/>
                  </a:lnTo>
                  <a:lnTo>
                    <a:pt x="4707" y="54"/>
                  </a:lnTo>
                  <a:lnTo>
                    <a:pt x="4522" y="0"/>
                  </a:lnTo>
                  <a:lnTo>
                    <a:pt x="4522" y="0"/>
                  </a:lnTo>
                  <a:lnTo>
                    <a:pt x="4412" y="0"/>
                  </a:lnTo>
                  <a:lnTo>
                    <a:pt x="4192" y="54"/>
                  </a:lnTo>
                  <a:lnTo>
                    <a:pt x="4192" y="54"/>
                  </a:lnTo>
                  <a:lnTo>
                    <a:pt x="4082" y="80"/>
                  </a:lnTo>
                  <a:lnTo>
                    <a:pt x="3826" y="109"/>
                  </a:lnTo>
                  <a:lnTo>
                    <a:pt x="3826" y="109"/>
                  </a:lnTo>
                  <a:cubicBezTo>
                    <a:pt x="3789" y="126"/>
                    <a:pt x="3753" y="144"/>
                    <a:pt x="3716" y="161"/>
                  </a:cubicBezTo>
                  <a:lnTo>
                    <a:pt x="3382" y="295"/>
                  </a:lnTo>
                  <a:lnTo>
                    <a:pt x="3382" y="295"/>
                  </a:lnTo>
                  <a:lnTo>
                    <a:pt x="3201" y="350"/>
                  </a:lnTo>
                  <a:cubicBezTo>
                    <a:pt x="3164" y="385"/>
                    <a:pt x="3128" y="421"/>
                    <a:pt x="3091" y="456"/>
                  </a:cubicBezTo>
                  <a:lnTo>
                    <a:pt x="3091" y="456"/>
                  </a:lnTo>
                  <a:cubicBezTo>
                    <a:pt x="3066" y="465"/>
                    <a:pt x="3041" y="475"/>
                    <a:pt x="3016" y="484"/>
                  </a:cubicBezTo>
                  <a:cubicBezTo>
                    <a:pt x="3004" y="493"/>
                    <a:pt x="2992" y="501"/>
                    <a:pt x="2980" y="510"/>
                  </a:cubicBezTo>
                  <a:lnTo>
                    <a:pt x="2980" y="510"/>
                  </a:lnTo>
                  <a:lnTo>
                    <a:pt x="2980" y="510"/>
                  </a:lnTo>
                  <a:lnTo>
                    <a:pt x="2941" y="591"/>
                  </a:lnTo>
                  <a:lnTo>
                    <a:pt x="2941" y="645"/>
                  </a:lnTo>
                  <a:cubicBezTo>
                    <a:pt x="2954" y="662"/>
                    <a:pt x="2967" y="680"/>
                    <a:pt x="2980" y="697"/>
                  </a:cubicBezTo>
                  <a:lnTo>
                    <a:pt x="3126" y="725"/>
                  </a:lnTo>
                  <a:lnTo>
                    <a:pt x="3126" y="725"/>
                  </a:lnTo>
                  <a:lnTo>
                    <a:pt x="3162" y="806"/>
                  </a:lnTo>
                  <a:lnTo>
                    <a:pt x="3162" y="1233"/>
                  </a:lnTo>
                  <a:lnTo>
                    <a:pt x="3162" y="1233"/>
                  </a:lnTo>
                  <a:lnTo>
                    <a:pt x="3236" y="1313"/>
                  </a:lnTo>
                  <a:cubicBezTo>
                    <a:pt x="3248" y="1323"/>
                    <a:pt x="3260" y="1332"/>
                    <a:pt x="3272" y="1342"/>
                  </a:cubicBezTo>
                  <a:lnTo>
                    <a:pt x="3272" y="1342"/>
                  </a:lnTo>
                  <a:cubicBezTo>
                    <a:pt x="3297" y="1359"/>
                    <a:pt x="3321" y="1377"/>
                    <a:pt x="3346" y="1394"/>
                  </a:cubicBezTo>
                  <a:lnTo>
                    <a:pt x="3346" y="1422"/>
                  </a:lnTo>
                  <a:lnTo>
                    <a:pt x="3346" y="1422"/>
                  </a:lnTo>
                  <a:lnTo>
                    <a:pt x="3346" y="1503"/>
                  </a:lnTo>
                  <a:cubicBezTo>
                    <a:pt x="3321" y="1565"/>
                    <a:pt x="3297" y="1627"/>
                    <a:pt x="3272" y="1689"/>
                  </a:cubicBezTo>
                  <a:lnTo>
                    <a:pt x="3272" y="1689"/>
                  </a:lnTo>
                  <a:lnTo>
                    <a:pt x="3272" y="1798"/>
                  </a:lnTo>
                  <a:lnTo>
                    <a:pt x="3311" y="1798"/>
                  </a:lnTo>
                  <a:lnTo>
                    <a:pt x="3311" y="1798"/>
                  </a:lnTo>
                  <a:lnTo>
                    <a:pt x="3492" y="1878"/>
                  </a:lnTo>
                  <a:cubicBezTo>
                    <a:pt x="3541" y="1923"/>
                    <a:pt x="3584" y="2034"/>
                    <a:pt x="3602" y="2065"/>
                  </a:cubicBezTo>
                  <a:lnTo>
                    <a:pt x="3602" y="2065"/>
                  </a:lnTo>
                  <a:lnTo>
                    <a:pt x="3716" y="2174"/>
                  </a:lnTo>
                  <a:lnTo>
                    <a:pt x="3716" y="2254"/>
                  </a:lnTo>
                  <a:lnTo>
                    <a:pt x="3716" y="2254"/>
                  </a:lnTo>
                  <a:lnTo>
                    <a:pt x="3787" y="2334"/>
                  </a:lnTo>
                  <a:cubicBezTo>
                    <a:pt x="3800" y="2343"/>
                    <a:pt x="3813" y="2351"/>
                    <a:pt x="3826" y="2360"/>
                  </a:cubicBezTo>
                  <a:lnTo>
                    <a:pt x="3826" y="2360"/>
                  </a:lnTo>
                  <a:lnTo>
                    <a:pt x="3861" y="2386"/>
                  </a:lnTo>
                  <a:cubicBezTo>
                    <a:pt x="3886" y="2396"/>
                    <a:pt x="3911" y="2405"/>
                    <a:pt x="3936" y="2415"/>
                  </a:cubicBezTo>
                  <a:lnTo>
                    <a:pt x="4266" y="2386"/>
                  </a:lnTo>
                  <a:lnTo>
                    <a:pt x="4266" y="2386"/>
                  </a:lnTo>
                  <a:cubicBezTo>
                    <a:pt x="4278" y="2396"/>
                    <a:pt x="4290" y="2405"/>
                    <a:pt x="4302" y="2415"/>
                  </a:cubicBezTo>
                  <a:cubicBezTo>
                    <a:pt x="4314" y="2423"/>
                    <a:pt x="4325" y="2432"/>
                    <a:pt x="4337" y="2440"/>
                  </a:cubicBezTo>
                  <a:cubicBezTo>
                    <a:pt x="4350" y="2467"/>
                    <a:pt x="4364" y="2494"/>
                    <a:pt x="4377" y="2521"/>
                  </a:cubicBezTo>
                  <a:lnTo>
                    <a:pt x="4377" y="2521"/>
                  </a:lnTo>
                  <a:cubicBezTo>
                    <a:pt x="4389" y="2539"/>
                    <a:pt x="4400" y="2557"/>
                    <a:pt x="4412" y="2575"/>
                  </a:cubicBezTo>
                  <a:lnTo>
                    <a:pt x="4377" y="2601"/>
                  </a:lnTo>
                  <a:lnTo>
                    <a:pt x="3641" y="3003"/>
                  </a:lnTo>
                  <a:lnTo>
                    <a:pt x="3641" y="3003"/>
                  </a:lnTo>
                  <a:lnTo>
                    <a:pt x="3602" y="3111"/>
                  </a:lnTo>
                  <a:cubicBezTo>
                    <a:pt x="3578" y="3182"/>
                    <a:pt x="3555" y="3253"/>
                    <a:pt x="3531" y="3324"/>
                  </a:cubicBezTo>
                  <a:lnTo>
                    <a:pt x="3531" y="3324"/>
                  </a:lnTo>
                  <a:cubicBezTo>
                    <a:pt x="3518" y="3351"/>
                    <a:pt x="3505" y="3377"/>
                    <a:pt x="3492" y="3404"/>
                  </a:cubicBezTo>
                  <a:lnTo>
                    <a:pt x="3052" y="4264"/>
                  </a:lnTo>
                  <a:lnTo>
                    <a:pt x="3052" y="4264"/>
                  </a:lnTo>
                  <a:lnTo>
                    <a:pt x="3016" y="4345"/>
                  </a:lnTo>
                  <a:cubicBezTo>
                    <a:pt x="3004" y="4380"/>
                    <a:pt x="2992" y="4416"/>
                    <a:pt x="2980" y="4451"/>
                  </a:cubicBezTo>
                  <a:lnTo>
                    <a:pt x="2980" y="4451"/>
                  </a:lnTo>
                  <a:lnTo>
                    <a:pt x="2980" y="4477"/>
                  </a:lnTo>
                  <a:lnTo>
                    <a:pt x="2906" y="4477"/>
                  </a:lnTo>
                  <a:lnTo>
                    <a:pt x="2906" y="4477"/>
                  </a:lnTo>
                  <a:lnTo>
                    <a:pt x="2831" y="4477"/>
                  </a:lnTo>
                  <a:lnTo>
                    <a:pt x="2611" y="4396"/>
                  </a:lnTo>
                  <a:lnTo>
                    <a:pt x="2611" y="4396"/>
                  </a:lnTo>
                  <a:lnTo>
                    <a:pt x="2536" y="4345"/>
                  </a:lnTo>
                  <a:lnTo>
                    <a:pt x="2025" y="4075"/>
                  </a:lnTo>
                  <a:lnTo>
                    <a:pt x="2025" y="4075"/>
                  </a:lnTo>
                  <a:cubicBezTo>
                    <a:pt x="2000" y="4066"/>
                    <a:pt x="1975" y="4058"/>
                    <a:pt x="1950" y="4049"/>
                  </a:cubicBezTo>
                  <a:lnTo>
                    <a:pt x="1950" y="4049"/>
                  </a:lnTo>
                  <a:cubicBezTo>
                    <a:pt x="1937" y="4022"/>
                    <a:pt x="1924" y="3996"/>
                    <a:pt x="1911" y="3969"/>
                  </a:cubicBezTo>
                  <a:lnTo>
                    <a:pt x="1620" y="3728"/>
                  </a:lnTo>
                  <a:lnTo>
                    <a:pt x="1620" y="3728"/>
                  </a:lnTo>
                  <a:lnTo>
                    <a:pt x="1510" y="3674"/>
                  </a:lnTo>
                  <a:lnTo>
                    <a:pt x="1250" y="3648"/>
                  </a:lnTo>
                  <a:lnTo>
                    <a:pt x="1250" y="3648"/>
                  </a:lnTo>
                  <a:lnTo>
                    <a:pt x="1140" y="3648"/>
                  </a:lnTo>
                  <a:lnTo>
                    <a:pt x="995" y="3674"/>
                  </a:lnTo>
                  <a:lnTo>
                    <a:pt x="995" y="3674"/>
                  </a:lnTo>
                  <a:cubicBezTo>
                    <a:pt x="958" y="3682"/>
                    <a:pt x="922" y="3691"/>
                    <a:pt x="885" y="3699"/>
                  </a:cubicBezTo>
                  <a:lnTo>
                    <a:pt x="735" y="3674"/>
                  </a:lnTo>
                  <a:lnTo>
                    <a:pt x="735" y="3674"/>
                  </a:lnTo>
                  <a:lnTo>
                    <a:pt x="625" y="3648"/>
                  </a:lnTo>
                  <a:lnTo>
                    <a:pt x="149" y="3244"/>
                  </a:lnTo>
                  <a:lnTo>
                    <a:pt x="149" y="3244"/>
                  </a:lnTo>
                  <a:lnTo>
                    <a:pt x="110" y="3244"/>
                  </a:lnTo>
                  <a:lnTo>
                    <a:pt x="75" y="3244"/>
                  </a:lnTo>
                  <a:cubicBezTo>
                    <a:pt x="50" y="3253"/>
                    <a:pt x="25" y="3263"/>
                    <a:pt x="0" y="3272"/>
                  </a:cubicBezTo>
                  <a:lnTo>
                    <a:pt x="0" y="3272"/>
                  </a:lnTo>
                  <a:cubicBezTo>
                    <a:pt x="13" y="3299"/>
                    <a:pt x="26" y="3325"/>
                    <a:pt x="39" y="3352"/>
                  </a:cubicBezTo>
                  <a:lnTo>
                    <a:pt x="295" y="3567"/>
                  </a:lnTo>
                  <a:lnTo>
                    <a:pt x="295" y="3567"/>
                  </a:lnTo>
                  <a:cubicBezTo>
                    <a:pt x="308" y="3576"/>
                    <a:pt x="321" y="3584"/>
                    <a:pt x="334" y="3593"/>
                  </a:cubicBezTo>
                  <a:cubicBezTo>
                    <a:pt x="321" y="3602"/>
                    <a:pt x="308" y="3610"/>
                    <a:pt x="295" y="3619"/>
                  </a:cubicBezTo>
                  <a:lnTo>
                    <a:pt x="295" y="3619"/>
                  </a:lnTo>
                  <a:cubicBezTo>
                    <a:pt x="283" y="3629"/>
                    <a:pt x="271" y="3638"/>
                    <a:pt x="259" y="3648"/>
                  </a:cubicBezTo>
                  <a:lnTo>
                    <a:pt x="259" y="3699"/>
                  </a:lnTo>
                  <a:lnTo>
                    <a:pt x="259" y="3699"/>
                  </a:lnTo>
                  <a:lnTo>
                    <a:pt x="259" y="3699"/>
                  </a:lnTo>
                  <a:lnTo>
                    <a:pt x="295" y="3780"/>
                  </a:lnTo>
                  <a:lnTo>
                    <a:pt x="369" y="3860"/>
                  </a:lnTo>
                  <a:lnTo>
                    <a:pt x="369" y="3860"/>
                  </a:lnTo>
                  <a:cubicBezTo>
                    <a:pt x="381" y="3878"/>
                    <a:pt x="393" y="3897"/>
                    <a:pt x="405" y="3915"/>
                  </a:cubicBezTo>
                  <a:lnTo>
                    <a:pt x="369" y="3969"/>
                  </a:lnTo>
                  <a:lnTo>
                    <a:pt x="369" y="3969"/>
                  </a:lnTo>
                  <a:lnTo>
                    <a:pt x="480" y="4021"/>
                  </a:lnTo>
                  <a:lnTo>
                    <a:pt x="590" y="4104"/>
                  </a:lnTo>
                  <a:lnTo>
                    <a:pt x="590" y="4104"/>
                  </a:lnTo>
                  <a:lnTo>
                    <a:pt x="664" y="4155"/>
                  </a:lnTo>
                  <a:lnTo>
                    <a:pt x="664" y="4184"/>
                  </a:lnTo>
                  <a:lnTo>
                    <a:pt x="664" y="4184"/>
                  </a:lnTo>
                  <a:cubicBezTo>
                    <a:pt x="676" y="4211"/>
                    <a:pt x="688" y="4237"/>
                    <a:pt x="700" y="4264"/>
                  </a:cubicBezTo>
                  <a:lnTo>
                    <a:pt x="700" y="4264"/>
                  </a:lnTo>
                  <a:lnTo>
                    <a:pt x="700" y="4264"/>
                  </a:lnTo>
                  <a:cubicBezTo>
                    <a:pt x="725" y="4291"/>
                    <a:pt x="749" y="4318"/>
                    <a:pt x="774" y="4345"/>
                  </a:cubicBezTo>
                  <a:lnTo>
                    <a:pt x="774" y="4396"/>
                  </a:lnTo>
                  <a:lnTo>
                    <a:pt x="774" y="4396"/>
                  </a:lnTo>
                  <a:cubicBezTo>
                    <a:pt x="798" y="4423"/>
                    <a:pt x="821" y="4450"/>
                    <a:pt x="845" y="4477"/>
                  </a:cubicBezTo>
                  <a:lnTo>
                    <a:pt x="845" y="4477"/>
                  </a:lnTo>
                  <a:lnTo>
                    <a:pt x="920" y="4531"/>
                  </a:lnTo>
                  <a:lnTo>
                    <a:pt x="956" y="4531"/>
                  </a:lnTo>
                  <a:lnTo>
                    <a:pt x="956" y="4531"/>
                  </a:lnTo>
                  <a:lnTo>
                    <a:pt x="1030" y="4585"/>
                  </a:lnTo>
                  <a:lnTo>
                    <a:pt x="1179" y="4637"/>
                  </a:lnTo>
                  <a:lnTo>
                    <a:pt x="1179" y="4637"/>
                  </a:lnTo>
                  <a:lnTo>
                    <a:pt x="1179" y="4666"/>
                  </a:lnTo>
                  <a:cubicBezTo>
                    <a:pt x="1191" y="4675"/>
                    <a:pt x="1203" y="4683"/>
                    <a:pt x="1215" y="4692"/>
                  </a:cubicBezTo>
                  <a:cubicBezTo>
                    <a:pt x="1190" y="4790"/>
                    <a:pt x="1165" y="4889"/>
                    <a:pt x="1140" y="4987"/>
                  </a:cubicBezTo>
                  <a:lnTo>
                    <a:pt x="1140" y="4987"/>
                  </a:lnTo>
                  <a:lnTo>
                    <a:pt x="1140" y="5013"/>
                  </a:lnTo>
                  <a:cubicBezTo>
                    <a:pt x="1153" y="5022"/>
                    <a:pt x="1166" y="5032"/>
                    <a:pt x="1179" y="5041"/>
                  </a:cubicBezTo>
                  <a:lnTo>
                    <a:pt x="3311" y="5604"/>
                  </a:lnTo>
                  <a:close/>
                </a:path>
              </a:pathLst>
            </a:custGeom>
            <a:gradFill rotWithShape="0">
              <a:gsLst>
                <a:gs pos="0">
                  <a:srgbClr val="17375e"/>
                </a:gs>
                <a:gs pos="100000">
                  <a:srgbClr val="1025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77"/>
            <p:cNvSpPr/>
            <p:nvPr/>
          </p:nvSpPr>
          <p:spPr>
            <a:xfrm>
              <a:off x="7313400" y="2579760"/>
              <a:ext cx="887400" cy="20523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w="559" h="1293">
                  <a:moveTo>
                    <a:pt x="197" y="310"/>
                  </a:moveTo>
                  <a:lnTo>
                    <a:pt x="487" y="41"/>
                  </a:lnTo>
                  <a:lnTo>
                    <a:pt x="507" y="0"/>
                  </a:lnTo>
                  <a:lnTo>
                    <a:pt x="518" y="0"/>
                  </a:lnTo>
                  <a:lnTo>
                    <a:pt x="538" y="72"/>
                  </a:lnTo>
                  <a:lnTo>
                    <a:pt x="559" y="82"/>
                  </a:lnTo>
                  <a:lnTo>
                    <a:pt x="414" y="372"/>
                  </a:lnTo>
                  <a:lnTo>
                    <a:pt x="373" y="424"/>
                  </a:lnTo>
                  <a:lnTo>
                    <a:pt x="352" y="538"/>
                  </a:lnTo>
                  <a:lnTo>
                    <a:pt x="290" y="786"/>
                  </a:lnTo>
                  <a:lnTo>
                    <a:pt x="238" y="983"/>
                  </a:lnTo>
                  <a:lnTo>
                    <a:pt x="207" y="1169"/>
                  </a:lnTo>
                  <a:lnTo>
                    <a:pt x="197" y="1159"/>
                  </a:lnTo>
                  <a:lnTo>
                    <a:pt x="228" y="517"/>
                  </a:lnTo>
                  <a:lnTo>
                    <a:pt x="280" y="465"/>
                  </a:lnTo>
                  <a:lnTo>
                    <a:pt x="197" y="383"/>
                  </a:lnTo>
                  <a:lnTo>
                    <a:pt x="145" y="393"/>
                  </a:lnTo>
                  <a:lnTo>
                    <a:pt x="114" y="445"/>
                  </a:lnTo>
                  <a:lnTo>
                    <a:pt x="155" y="527"/>
                  </a:lnTo>
                  <a:lnTo>
                    <a:pt x="21" y="1252"/>
                  </a:lnTo>
                  <a:lnTo>
                    <a:pt x="11" y="1293"/>
                  </a:lnTo>
                  <a:lnTo>
                    <a:pt x="0" y="1283"/>
                  </a:lnTo>
                  <a:lnTo>
                    <a:pt x="0" y="1055"/>
                  </a:lnTo>
                  <a:lnTo>
                    <a:pt x="42" y="807"/>
                  </a:lnTo>
                  <a:lnTo>
                    <a:pt x="73" y="538"/>
                  </a:lnTo>
                  <a:lnTo>
                    <a:pt x="73" y="476"/>
                  </a:lnTo>
                  <a:lnTo>
                    <a:pt x="114" y="362"/>
                  </a:lnTo>
                  <a:lnTo>
                    <a:pt x="104" y="279"/>
                  </a:lnTo>
                  <a:lnTo>
                    <a:pt x="135" y="25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838"/>
          <p:cNvSpPr/>
          <p:nvPr/>
        </p:nvSpPr>
        <p:spPr>
          <a:xfrm>
            <a:off x="2428920" y="5072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835" descr="图片1.png"/>
          <p:cNvPicPr/>
          <p:nvPr/>
        </p:nvPicPr>
        <p:blipFill>
          <a:blip r:embed="rId5"/>
          <a:srcRect l="33328" t="46254" r="55760" b="27287"/>
          <a:stretch/>
        </p:blipFill>
        <p:spPr>
          <a:xfrm>
            <a:off x="5000760" y="3571920"/>
            <a:ext cx="106992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94444E-006 -0.07349 L -1.94444E-006 -0.01086 E">
                                      <p:cBhvr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组合 2542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51920" cy="60782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67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571680" y="4521240"/>
            <a:ext cx="1285560" cy="3551040"/>
            <a:chOff x="571680" y="4521240"/>
            <a:chExt cx="1285560" cy="3551040"/>
          </a:xfrm>
        </p:grpSpPr>
        <p:sp>
          <p:nvSpPr>
            <p:cNvPr id="70" name="Freeform 472"/>
            <p:cNvSpPr/>
            <p:nvPr/>
          </p:nvSpPr>
          <p:spPr>
            <a:xfrm>
              <a:off x="986400" y="5196960"/>
              <a:ext cx="209520" cy="279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80" h="372">
                  <a:moveTo>
                    <a:pt x="135" y="41"/>
                  </a:moveTo>
                  <a:lnTo>
                    <a:pt x="135" y="41"/>
                  </a:lnTo>
                  <a:lnTo>
                    <a:pt x="114" y="31"/>
                  </a:lnTo>
                  <a:lnTo>
                    <a:pt x="104" y="20"/>
                  </a:lnTo>
                  <a:lnTo>
                    <a:pt x="73" y="0"/>
                  </a:lnTo>
                  <a:lnTo>
                    <a:pt x="52" y="0"/>
                  </a:lnTo>
                  <a:lnTo>
                    <a:pt x="21" y="0"/>
                  </a:lnTo>
                  <a:lnTo>
                    <a:pt x="11" y="20"/>
                  </a:lnTo>
                  <a:lnTo>
                    <a:pt x="0" y="41"/>
                  </a:lnTo>
                  <a:lnTo>
                    <a:pt x="0" y="83"/>
                  </a:lnTo>
                  <a:lnTo>
                    <a:pt x="11" y="124"/>
                  </a:lnTo>
                  <a:lnTo>
                    <a:pt x="42" y="196"/>
                  </a:lnTo>
                  <a:lnTo>
                    <a:pt x="73" y="279"/>
                  </a:lnTo>
                  <a:lnTo>
                    <a:pt x="94" y="372"/>
                  </a:lnTo>
                  <a:lnTo>
                    <a:pt x="125" y="362"/>
                  </a:lnTo>
                  <a:lnTo>
                    <a:pt x="145" y="341"/>
                  </a:lnTo>
                  <a:lnTo>
                    <a:pt x="197" y="341"/>
                  </a:lnTo>
                  <a:lnTo>
                    <a:pt x="228" y="341"/>
                  </a:lnTo>
                  <a:lnTo>
                    <a:pt x="249" y="331"/>
                  </a:lnTo>
                  <a:lnTo>
                    <a:pt x="269" y="310"/>
                  </a:lnTo>
                  <a:lnTo>
                    <a:pt x="280" y="269"/>
                  </a:lnTo>
                  <a:lnTo>
                    <a:pt x="280" y="238"/>
                  </a:lnTo>
                  <a:lnTo>
                    <a:pt x="269" y="196"/>
                  </a:lnTo>
                  <a:lnTo>
                    <a:pt x="249" y="165"/>
                  </a:lnTo>
                  <a:lnTo>
                    <a:pt x="228" y="134"/>
                  </a:lnTo>
                  <a:lnTo>
                    <a:pt x="197" y="103"/>
                  </a:lnTo>
                  <a:lnTo>
                    <a:pt x="187" y="72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74"/>
            <p:cNvSpPr/>
            <p:nvPr/>
          </p:nvSpPr>
          <p:spPr>
            <a:xfrm>
              <a:off x="939960" y="4800960"/>
              <a:ext cx="92520" cy="185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4" h="248">
                  <a:moveTo>
                    <a:pt x="73" y="0"/>
                  </a:moveTo>
                  <a:lnTo>
                    <a:pt x="73" y="0"/>
                  </a:lnTo>
                  <a:lnTo>
                    <a:pt x="52" y="31"/>
                  </a:lnTo>
                  <a:lnTo>
                    <a:pt x="21" y="103"/>
                  </a:lnTo>
                  <a:lnTo>
                    <a:pt x="11" y="176"/>
                  </a:lnTo>
                  <a:lnTo>
                    <a:pt x="0" y="248"/>
                  </a:lnTo>
                  <a:lnTo>
                    <a:pt x="11" y="228"/>
                  </a:lnTo>
                  <a:lnTo>
                    <a:pt x="11" y="217"/>
                  </a:lnTo>
                  <a:lnTo>
                    <a:pt x="21" y="197"/>
                  </a:lnTo>
                  <a:lnTo>
                    <a:pt x="31" y="176"/>
                  </a:lnTo>
                  <a:lnTo>
                    <a:pt x="31" y="145"/>
                  </a:lnTo>
                  <a:lnTo>
                    <a:pt x="42" y="114"/>
                  </a:lnTo>
                  <a:lnTo>
                    <a:pt x="52" y="93"/>
                  </a:lnTo>
                  <a:lnTo>
                    <a:pt x="73" y="83"/>
                  </a:lnTo>
                  <a:lnTo>
                    <a:pt x="104" y="83"/>
                  </a:lnTo>
                  <a:lnTo>
                    <a:pt x="124" y="93"/>
                  </a:lnTo>
                  <a:lnTo>
                    <a:pt x="93" y="41"/>
                  </a:lnTo>
                  <a:lnTo>
                    <a:pt x="83" y="2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75"/>
            <p:cNvSpPr/>
            <p:nvPr/>
          </p:nvSpPr>
          <p:spPr>
            <a:xfrm>
              <a:off x="831240" y="4808520"/>
              <a:ext cx="116640" cy="178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56" h="238">
                  <a:moveTo>
                    <a:pt x="52" y="0"/>
                  </a:moveTo>
                  <a:lnTo>
                    <a:pt x="52" y="0"/>
                  </a:lnTo>
                  <a:lnTo>
                    <a:pt x="73" y="11"/>
                  </a:lnTo>
                  <a:lnTo>
                    <a:pt x="94" y="42"/>
                  </a:lnTo>
                  <a:lnTo>
                    <a:pt x="114" y="93"/>
                  </a:lnTo>
                  <a:lnTo>
                    <a:pt x="145" y="156"/>
                  </a:lnTo>
                  <a:lnTo>
                    <a:pt x="156" y="197"/>
                  </a:lnTo>
                  <a:lnTo>
                    <a:pt x="145" y="238"/>
                  </a:lnTo>
                  <a:lnTo>
                    <a:pt x="135" y="197"/>
                  </a:lnTo>
                  <a:lnTo>
                    <a:pt x="114" y="156"/>
                  </a:lnTo>
                  <a:lnTo>
                    <a:pt x="94" y="93"/>
                  </a:lnTo>
                  <a:lnTo>
                    <a:pt x="63" y="62"/>
                  </a:lnTo>
                  <a:lnTo>
                    <a:pt x="42" y="52"/>
                  </a:lnTo>
                  <a:lnTo>
                    <a:pt x="31" y="62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21" y="42"/>
                  </a:lnTo>
                  <a:lnTo>
                    <a:pt x="31" y="31"/>
                  </a:lnTo>
                  <a:lnTo>
                    <a:pt x="42" y="21"/>
                  </a:lnTo>
                  <a:lnTo>
                    <a:pt x="42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69"/>
            <p:cNvSpPr/>
            <p:nvPr/>
          </p:nvSpPr>
          <p:spPr>
            <a:xfrm flipV="1">
              <a:off x="1153440" y="5867280"/>
              <a:ext cx="703800" cy="14457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360 h 1445760"/>
                <a:gd name="textAreaBottom" fmla="*/ 1446480 h 144576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b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69"/>
            <p:cNvSpPr/>
            <p:nvPr/>
          </p:nvSpPr>
          <p:spPr>
            <a:xfrm>
              <a:off x="1140840" y="4700160"/>
              <a:ext cx="697320" cy="156780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1567800"/>
                <a:gd name="textAreaBottom" fmla="*/ 1568160 h 156780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70"/>
            <p:cNvSpPr/>
            <p:nvPr/>
          </p:nvSpPr>
          <p:spPr>
            <a:xfrm>
              <a:off x="1598400" y="4932720"/>
              <a:ext cx="138960" cy="3960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186" h="528">
                  <a:moveTo>
                    <a:pt x="10" y="0"/>
                  </a:moveTo>
                  <a:lnTo>
                    <a:pt x="0" y="21"/>
                  </a:lnTo>
                  <a:lnTo>
                    <a:pt x="41" y="238"/>
                  </a:lnTo>
                  <a:lnTo>
                    <a:pt x="72" y="414"/>
                  </a:lnTo>
                  <a:lnTo>
                    <a:pt x="72" y="476"/>
                  </a:lnTo>
                  <a:lnTo>
                    <a:pt x="62" y="517"/>
                  </a:lnTo>
                  <a:lnTo>
                    <a:pt x="114" y="528"/>
                  </a:lnTo>
                  <a:lnTo>
                    <a:pt x="155" y="528"/>
                  </a:lnTo>
                  <a:lnTo>
                    <a:pt x="186" y="517"/>
                  </a:lnTo>
                  <a:lnTo>
                    <a:pt x="176" y="445"/>
                  </a:lnTo>
                  <a:lnTo>
                    <a:pt x="165" y="435"/>
                  </a:lnTo>
                  <a:lnTo>
                    <a:pt x="134" y="466"/>
                  </a:lnTo>
                  <a:lnTo>
                    <a:pt x="83" y="424"/>
                  </a:lnTo>
                  <a:lnTo>
                    <a:pt x="72" y="331"/>
                  </a:lnTo>
                  <a:lnTo>
                    <a:pt x="72" y="248"/>
                  </a:lnTo>
                  <a:lnTo>
                    <a:pt x="72" y="155"/>
                  </a:lnTo>
                  <a:lnTo>
                    <a:pt x="83" y="103"/>
                  </a:lnTo>
                  <a:lnTo>
                    <a:pt x="72" y="72"/>
                  </a:lnTo>
                  <a:lnTo>
                    <a:pt x="114" y="62"/>
                  </a:lnTo>
                  <a:lnTo>
                    <a:pt x="124" y="83"/>
                  </a:lnTo>
                  <a:lnTo>
                    <a:pt x="103" y="103"/>
                  </a:lnTo>
                  <a:lnTo>
                    <a:pt x="134" y="217"/>
                  </a:lnTo>
                  <a:lnTo>
                    <a:pt x="155" y="321"/>
                  </a:lnTo>
                  <a:lnTo>
                    <a:pt x="145" y="238"/>
                  </a:lnTo>
                  <a:lnTo>
                    <a:pt x="145" y="155"/>
                  </a:lnTo>
                  <a:lnTo>
                    <a:pt x="134" y="103"/>
                  </a:lnTo>
                  <a:lnTo>
                    <a:pt x="134" y="52"/>
                  </a:lnTo>
                  <a:lnTo>
                    <a:pt x="134" y="41"/>
                  </a:lnTo>
                  <a:lnTo>
                    <a:pt x="93" y="62"/>
                  </a:lnTo>
                  <a:lnTo>
                    <a:pt x="83" y="52"/>
                  </a:lnTo>
                  <a:lnTo>
                    <a:pt x="52" y="31"/>
                  </a:lnTo>
                  <a:lnTo>
                    <a:pt x="2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71"/>
            <p:cNvSpPr/>
            <p:nvPr/>
          </p:nvSpPr>
          <p:spPr>
            <a:xfrm>
              <a:off x="1249920" y="4963680"/>
              <a:ext cx="92520" cy="326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24" h="435">
                  <a:moveTo>
                    <a:pt x="104" y="0"/>
                  </a:moveTo>
                  <a:lnTo>
                    <a:pt x="73" y="11"/>
                  </a:lnTo>
                  <a:lnTo>
                    <a:pt x="52" y="42"/>
                  </a:lnTo>
                  <a:lnTo>
                    <a:pt x="73" y="62"/>
                  </a:lnTo>
                  <a:lnTo>
                    <a:pt x="31" y="135"/>
                  </a:lnTo>
                  <a:lnTo>
                    <a:pt x="21" y="207"/>
                  </a:lnTo>
                  <a:lnTo>
                    <a:pt x="11" y="352"/>
                  </a:lnTo>
                  <a:lnTo>
                    <a:pt x="0" y="383"/>
                  </a:lnTo>
                  <a:lnTo>
                    <a:pt x="42" y="435"/>
                  </a:lnTo>
                  <a:lnTo>
                    <a:pt x="93" y="394"/>
                  </a:lnTo>
                  <a:lnTo>
                    <a:pt x="114" y="197"/>
                  </a:lnTo>
                  <a:lnTo>
                    <a:pt x="114" y="93"/>
                  </a:lnTo>
                  <a:lnTo>
                    <a:pt x="93" y="52"/>
                  </a:lnTo>
                  <a:lnTo>
                    <a:pt x="124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571680" y="6252120"/>
              <a:ext cx="662040" cy="1820160"/>
              <a:chOff x="571680" y="6252120"/>
              <a:chExt cx="662040" cy="1820160"/>
            </a:xfrm>
          </p:grpSpPr>
          <p:pic>
            <p:nvPicPr>
              <p:cNvPr id="78" name="Freeform 473" descr=""/>
              <p:cNvPicPr/>
              <p:nvPr/>
            </p:nvPicPr>
            <p:blipFill>
              <a:blip r:embed="rId4"/>
              <a:stretch/>
            </p:blipFill>
            <p:spPr>
              <a:xfrm>
                <a:off x="571680" y="6252120"/>
                <a:ext cx="662040" cy="182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10800000">
                <a:off x="575640" y="6258960"/>
                <a:ext cx="650520" cy="18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Freeform 473"/>
            <p:cNvSpPr/>
            <p:nvPr/>
          </p:nvSpPr>
          <p:spPr>
            <a:xfrm>
              <a:off x="576000" y="4521240"/>
              <a:ext cx="650160" cy="180828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808280"/>
                <a:gd name="textAreaBottom" fmla="*/ 1808640 h 1808280"/>
              </a:gdLst>
              <a:ahLst/>
              <a:rect l="textAreaLeft" t="textAreaTop" r="textAreaRight" b="textAreaBottom"/>
              <a:pathLst>
                <a:path w="869" h="2411">
                  <a:moveTo>
                    <a:pt x="0" y="746"/>
                  </a:moveTo>
                  <a:lnTo>
                    <a:pt x="0" y="746"/>
                  </a:lnTo>
                  <a:lnTo>
                    <a:pt x="10" y="756"/>
                  </a:lnTo>
                  <a:lnTo>
                    <a:pt x="31" y="849"/>
                  </a:lnTo>
                  <a:lnTo>
                    <a:pt x="41" y="870"/>
                  </a:lnTo>
                  <a:lnTo>
                    <a:pt x="52" y="890"/>
                  </a:lnTo>
                  <a:lnTo>
                    <a:pt x="72" y="911"/>
                  </a:lnTo>
                  <a:lnTo>
                    <a:pt x="72" y="921"/>
                  </a:lnTo>
                  <a:lnTo>
                    <a:pt x="83" y="921"/>
                  </a:lnTo>
                  <a:lnTo>
                    <a:pt x="134" y="994"/>
                  </a:lnTo>
                  <a:lnTo>
                    <a:pt x="145" y="1004"/>
                  </a:lnTo>
                  <a:lnTo>
                    <a:pt x="155" y="1004"/>
                  </a:lnTo>
                  <a:lnTo>
                    <a:pt x="166" y="1015"/>
                  </a:lnTo>
                  <a:lnTo>
                    <a:pt x="197" y="1025"/>
                  </a:lnTo>
                  <a:lnTo>
                    <a:pt x="217" y="1046"/>
                  </a:lnTo>
                  <a:lnTo>
                    <a:pt x="238" y="1066"/>
                  </a:lnTo>
                  <a:lnTo>
                    <a:pt x="259" y="1077"/>
                  </a:lnTo>
                  <a:lnTo>
                    <a:pt x="248" y="1097"/>
                  </a:lnTo>
                  <a:lnTo>
                    <a:pt x="248" y="1149"/>
                  </a:lnTo>
                  <a:lnTo>
                    <a:pt x="248" y="1211"/>
                  </a:lnTo>
                  <a:lnTo>
                    <a:pt x="259" y="1315"/>
                  </a:lnTo>
                  <a:lnTo>
                    <a:pt x="259" y="1501"/>
                  </a:lnTo>
                  <a:lnTo>
                    <a:pt x="248" y="1573"/>
                  </a:lnTo>
                  <a:lnTo>
                    <a:pt x="248" y="1646"/>
                  </a:lnTo>
                  <a:lnTo>
                    <a:pt x="248" y="1708"/>
                  </a:lnTo>
                  <a:lnTo>
                    <a:pt x="259" y="1718"/>
                  </a:lnTo>
                  <a:lnTo>
                    <a:pt x="248" y="1780"/>
                  </a:lnTo>
                  <a:lnTo>
                    <a:pt x="248" y="1842"/>
                  </a:lnTo>
                  <a:lnTo>
                    <a:pt x="259" y="1904"/>
                  </a:lnTo>
                  <a:lnTo>
                    <a:pt x="279" y="1998"/>
                  </a:lnTo>
                  <a:lnTo>
                    <a:pt x="290" y="2091"/>
                  </a:lnTo>
                  <a:lnTo>
                    <a:pt x="290" y="2194"/>
                  </a:lnTo>
                  <a:lnTo>
                    <a:pt x="279" y="2287"/>
                  </a:lnTo>
                  <a:lnTo>
                    <a:pt x="259" y="2360"/>
                  </a:lnTo>
                  <a:lnTo>
                    <a:pt x="269" y="2391"/>
                  </a:lnTo>
                  <a:lnTo>
                    <a:pt x="290" y="2411"/>
                  </a:lnTo>
                  <a:lnTo>
                    <a:pt x="321" y="2411"/>
                  </a:lnTo>
                  <a:lnTo>
                    <a:pt x="352" y="2401"/>
                  </a:lnTo>
                  <a:lnTo>
                    <a:pt x="362" y="2391"/>
                  </a:lnTo>
                  <a:lnTo>
                    <a:pt x="372" y="2370"/>
                  </a:lnTo>
                  <a:lnTo>
                    <a:pt x="372" y="2246"/>
                  </a:lnTo>
                  <a:lnTo>
                    <a:pt x="383" y="2246"/>
                  </a:lnTo>
                  <a:lnTo>
                    <a:pt x="372" y="2215"/>
                  </a:lnTo>
                  <a:lnTo>
                    <a:pt x="372" y="2194"/>
                  </a:lnTo>
                  <a:lnTo>
                    <a:pt x="362" y="2184"/>
                  </a:lnTo>
                  <a:lnTo>
                    <a:pt x="352" y="2111"/>
                  </a:lnTo>
                  <a:lnTo>
                    <a:pt x="362" y="2029"/>
                  </a:lnTo>
                  <a:lnTo>
                    <a:pt x="393" y="1904"/>
                  </a:lnTo>
                  <a:lnTo>
                    <a:pt x="393" y="1853"/>
                  </a:lnTo>
                  <a:lnTo>
                    <a:pt x="393" y="1791"/>
                  </a:lnTo>
                  <a:lnTo>
                    <a:pt x="393" y="1718"/>
                  </a:lnTo>
                  <a:lnTo>
                    <a:pt x="538" y="1708"/>
                  </a:lnTo>
                  <a:lnTo>
                    <a:pt x="538" y="1729"/>
                  </a:lnTo>
                  <a:lnTo>
                    <a:pt x="528" y="1791"/>
                  </a:lnTo>
                  <a:lnTo>
                    <a:pt x="528" y="1853"/>
                  </a:lnTo>
                  <a:lnTo>
                    <a:pt x="538" y="1915"/>
                  </a:lnTo>
                  <a:lnTo>
                    <a:pt x="548" y="1956"/>
                  </a:lnTo>
                  <a:lnTo>
                    <a:pt x="559" y="2008"/>
                  </a:lnTo>
                  <a:lnTo>
                    <a:pt x="569" y="2070"/>
                  </a:lnTo>
                  <a:lnTo>
                    <a:pt x="569" y="2142"/>
                  </a:lnTo>
                  <a:lnTo>
                    <a:pt x="559" y="2153"/>
                  </a:lnTo>
                  <a:lnTo>
                    <a:pt x="548" y="2184"/>
                  </a:lnTo>
                  <a:lnTo>
                    <a:pt x="538" y="2194"/>
                  </a:lnTo>
                  <a:lnTo>
                    <a:pt x="548" y="2215"/>
                  </a:lnTo>
                  <a:lnTo>
                    <a:pt x="559" y="2256"/>
                  </a:lnTo>
                  <a:lnTo>
                    <a:pt x="559" y="2329"/>
                  </a:lnTo>
                  <a:lnTo>
                    <a:pt x="590" y="2329"/>
                  </a:lnTo>
                  <a:lnTo>
                    <a:pt x="590" y="2308"/>
                  </a:lnTo>
                  <a:lnTo>
                    <a:pt x="600" y="2318"/>
                  </a:lnTo>
                  <a:lnTo>
                    <a:pt x="600" y="2360"/>
                  </a:lnTo>
                  <a:lnTo>
                    <a:pt x="631" y="2380"/>
                  </a:lnTo>
                  <a:lnTo>
                    <a:pt x="673" y="2380"/>
                  </a:lnTo>
                  <a:lnTo>
                    <a:pt x="724" y="2380"/>
                  </a:lnTo>
                  <a:lnTo>
                    <a:pt x="724" y="2370"/>
                  </a:lnTo>
                  <a:lnTo>
                    <a:pt x="724" y="2349"/>
                  </a:lnTo>
                  <a:lnTo>
                    <a:pt x="704" y="2308"/>
                  </a:lnTo>
                  <a:lnTo>
                    <a:pt x="673" y="2277"/>
                  </a:lnTo>
                  <a:lnTo>
                    <a:pt x="652" y="2205"/>
                  </a:lnTo>
                  <a:lnTo>
                    <a:pt x="642" y="2163"/>
                  </a:lnTo>
                  <a:lnTo>
                    <a:pt x="642" y="2091"/>
                  </a:lnTo>
                  <a:lnTo>
                    <a:pt x="662" y="1956"/>
                  </a:lnTo>
                  <a:lnTo>
                    <a:pt x="673" y="1873"/>
                  </a:lnTo>
                  <a:lnTo>
                    <a:pt x="673" y="1780"/>
                  </a:lnTo>
                  <a:lnTo>
                    <a:pt x="673" y="1687"/>
                  </a:lnTo>
                  <a:lnTo>
                    <a:pt x="704" y="1687"/>
                  </a:lnTo>
                  <a:lnTo>
                    <a:pt x="714" y="1687"/>
                  </a:lnTo>
                  <a:lnTo>
                    <a:pt x="714" y="1677"/>
                  </a:lnTo>
                  <a:lnTo>
                    <a:pt x="714" y="1604"/>
                  </a:lnTo>
                  <a:lnTo>
                    <a:pt x="704" y="1449"/>
                  </a:lnTo>
                  <a:lnTo>
                    <a:pt x="704" y="1242"/>
                  </a:lnTo>
                  <a:lnTo>
                    <a:pt x="662" y="1242"/>
                  </a:lnTo>
                  <a:lnTo>
                    <a:pt x="579" y="952"/>
                  </a:lnTo>
                  <a:lnTo>
                    <a:pt x="579" y="932"/>
                  </a:lnTo>
                  <a:lnTo>
                    <a:pt x="600" y="932"/>
                  </a:lnTo>
                  <a:lnTo>
                    <a:pt x="693" y="1232"/>
                  </a:lnTo>
                  <a:lnTo>
                    <a:pt x="704" y="1232"/>
                  </a:lnTo>
                  <a:lnTo>
                    <a:pt x="745" y="1222"/>
                  </a:lnTo>
                  <a:lnTo>
                    <a:pt x="786" y="1222"/>
                  </a:lnTo>
                  <a:lnTo>
                    <a:pt x="786" y="1232"/>
                  </a:lnTo>
                  <a:lnTo>
                    <a:pt x="776" y="1232"/>
                  </a:lnTo>
                  <a:lnTo>
                    <a:pt x="724" y="1232"/>
                  </a:lnTo>
                  <a:lnTo>
                    <a:pt x="735" y="1242"/>
                  </a:lnTo>
                  <a:lnTo>
                    <a:pt x="766" y="1253"/>
                  </a:lnTo>
                  <a:lnTo>
                    <a:pt x="817" y="1253"/>
                  </a:lnTo>
                  <a:lnTo>
                    <a:pt x="828" y="1232"/>
                  </a:lnTo>
                  <a:lnTo>
                    <a:pt x="838" y="1222"/>
                  </a:lnTo>
                  <a:lnTo>
                    <a:pt x="838" y="1211"/>
                  </a:lnTo>
                  <a:lnTo>
                    <a:pt x="869" y="1201"/>
                  </a:lnTo>
                  <a:lnTo>
                    <a:pt x="838" y="1046"/>
                  </a:lnTo>
                  <a:lnTo>
                    <a:pt x="838" y="1015"/>
                  </a:lnTo>
                  <a:lnTo>
                    <a:pt x="828" y="984"/>
                  </a:lnTo>
                  <a:lnTo>
                    <a:pt x="817" y="921"/>
                  </a:lnTo>
                  <a:lnTo>
                    <a:pt x="817" y="911"/>
                  </a:lnTo>
                  <a:lnTo>
                    <a:pt x="817" y="880"/>
                  </a:lnTo>
                  <a:lnTo>
                    <a:pt x="817" y="870"/>
                  </a:lnTo>
                  <a:lnTo>
                    <a:pt x="807" y="828"/>
                  </a:lnTo>
                  <a:lnTo>
                    <a:pt x="786" y="777"/>
                  </a:lnTo>
                  <a:lnTo>
                    <a:pt x="776" y="735"/>
                  </a:lnTo>
                  <a:lnTo>
                    <a:pt x="766" y="694"/>
                  </a:lnTo>
                  <a:lnTo>
                    <a:pt x="755" y="621"/>
                  </a:lnTo>
                  <a:lnTo>
                    <a:pt x="755" y="611"/>
                  </a:lnTo>
                  <a:lnTo>
                    <a:pt x="745" y="518"/>
                  </a:lnTo>
                  <a:lnTo>
                    <a:pt x="724" y="445"/>
                  </a:lnTo>
                  <a:lnTo>
                    <a:pt x="724" y="435"/>
                  </a:lnTo>
                  <a:lnTo>
                    <a:pt x="714" y="425"/>
                  </a:lnTo>
                  <a:lnTo>
                    <a:pt x="704" y="425"/>
                  </a:lnTo>
                  <a:lnTo>
                    <a:pt x="693" y="425"/>
                  </a:lnTo>
                  <a:lnTo>
                    <a:pt x="683" y="414"/>
                  </a:lnTo>
                  <a:lnTo>
                    <a:pt x="683" y="394"/>
                  </a:lnTo>
                  <a:lnTo>
                    <a:pt x="673" y="383"/>
                  </a:lnTo>
                  <a:lnTo>
                    <a:pt x="662" y="383"/>
                  </a:lnTo>
                  <a:lnTo>
                    <a:pt x="652" y="363"/>
                  </a:lnTo>
                  <a:lnTo>
                    <a:pt x="652" y="332"/>
                  </a:lnTo>
                  <a:lnTo>
                    <a:pt x="642" y="311"/>
                  </a:lnTo>
                  <a:lnTo>
                    <a:pt x="642" y="301"/>
                  </a:lnTo>
                  <a:lnTo>
                    <a:pt x="621" y="218"/>
                  </a:lnTo>
                  <a:lnTo>
                    <a:pt x="610" y="125"/>
                  </a:lnTo>
                  <a:lnTo>
                    <a:pt x="579" y="63"/>
                  </a:lnTo>
                  <a:lnTo>
                    <a:pt x="559" y="32"/>
                  </a:lnTo>
                  <a:lnTo>
                    <a:pt x="528" y="11"/>
                  </a:lnTo>
                  <a:lnTo>
                    <a:pt x="507" y="0"/>
                  </a:lnTo>
                  <a:lnTo>
                    <a:pt x="486" y="0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24" y="0"/>
                  </a:lnTo>
                  <a:lnTo>
                    <a:pt x="404" y="21"/>
                  </a:lnTo>
                  <a:lnTo>
                    <a:pt x="372" y="52"/>
                  </a:lnTo>
                  <a:lnTo>
                    <a:pt x="352" y="125"/>
                  </a:lnTo>
                  <a:lnTo>
                    <a:pt x="331" y="176"/>
                  </a:lnTo>
                  <a:lnTo>
                    <a:pt x="331" y="228"/>
                  </a:lnTo>
                  <a:lnTo>
                    <a:pt x="331" y="280"/>
                  </a:lnTo>
                  <a:lnTo>
                    <a:pt x="321" y="321"/>
                  </a:lnTo>
                  <a:lnTo>
                    <a:pt x="310" y="363"/>
                  </a:lnTo>
                  <a:lnTo>
                    <a:pt x="217" y="383"/>
                  </a:lnTo>
                  <a:lnTo>
                    <a:pt x="207" y="383"/>
                  </a:lnTo>
                  <a:lnTo>
                    <a:pt x="186" y="404"/>
                  </a:lnTo>
                  <a:lnTo>
                    <a:pt x="155" y="466"/>
                  </a:lnTo>
                  <a:lnTo>
                    <a:pt x="124" y="528"/>
                  </a:lnTo>
                  <a:lnTo>
                    <a:pt x="62" y="611"/>
                  </a:lnTo>
                  <a:lnTo>
                    <a:pt x="31" y="652"/>
                  </a:lnTo>
                  <a:lnTo>
                    <a:pt x="21" y="663"/>
                  </a:lnTo>
                  <a:lnTo>
                    <a:pt x="0" y="714"/>
                  </a:lnTo>
                  <a:lnTo>
                    <a:pt x="0" y="725"/>
                  </a:lnTo>
                  <a:lnTo>
                    <a:pt x="0" y="746"/>
                  </a:lnTo>
                  <a:close/>
                  <a:moveTo>
                    <a:pt x="652" y="673"/>
                  </a:moveTo>
                  <a:lnTo>
                    <a:pt x="652" y="673"/>
                  </a:lnTo>
                  <a:lnTo>
                    <a:pt x="662" y="652"/>
                  </a:lnTo>
                  <a:lnTo>
                    <a:pt x="673" y="683"/>
                  </a:lnTo>
                  <a:lnTo>
                    <a:pt x="673" y="704"/>
                  </a:lnTo>
                  <a:lnTo>
                    <a:pt x="673" y="714"/>
                  </a:lnTo>
                  <a:lnTo>
                    <a:pt x="683" y="797"/>
                  </a:lnTo>
                  <a:lnTo>
                    <a:pt x="693" y="849"/>
                  </a:lnTo>
                  <a:lnTo>
                    <a:pt x="714" y="880"/>
                  </a:lnTo>
                  <a:lnTo>
                    <a:pt x="714" y="901"/>
                  </a:lnTo>
                  <a:lnTo>
                    <a:pt x="724" y="921"/>
                  </a:lnTo>
                  <a:lnTo>
                    <a:pt x="652" y="921"/>
                  </a:lnTo>
                  <a:lnTo>
                    <a:pt x="642" y="849"/>
                  </a:lnTo>
                  <a:lnTo>
                    <a:pt x="642" y="766"/>
                  </a:lnTo>
                  <a:lnTo>
                    <a:pt x="652" y="673"/>
                  </a:lnTo>
                  <a:close/>
                  <a:moveTo>
                    <a:pt x="93" y="735"/>
                  </a:moveTo>
                  <a:lnTo>
                    <a:pt x="93" y="735"/>
                  </a:lnTo>
                  <a:lnTo>
                    <a:pt x="145" y="683"/>
                  </a:lnTo>
                  <a:lnTo>
                    <a:pt x="186" y="632"/>
                  </a:lnTo>
                  <a:lnTo>
                    <a:pt x="217" y="580"/>
                  </a:lnTo>
                  <a:lnTo>
                    <a:pt x="238" y="570"/>
                  </a:lnTo>
                  <a:lnTo>
                    <a:pt x="248" y="580"/>
                  </a:lnTo>
                  <a:lnTo>
                    <a:pt x="259" y="590"/>
                  </a:lnTo>
                  <a:lnTo>
                    <a:pt x="279" y="611"/>
                  </a:lnTo>
                  <a:lnTo>
                    <a:pt x="290" y="642"/>
                  </a:lnTo>
                  <a:lnTo>
                    <a:pt x="300" y="714"/>
                  </a:lnTo>
                  <a:lnTo>
                    <a:pt x="300" y="777"/>
                  </a:lnTo>
                  <a:lnTo>
                    <a:pt x="300" y="828"/>
                  </a:lnTo>
                  <a:lnTo>
                    <a:pt x="290" y="880"/>
                  </a:lnTo>
                  <a:lnTo>
                    <a:pt x="279" y="911"/>
                  </a:lnTo>
                  <a:lnTo>
                    <a:pt x="279" y="921"/>
                  </a:lnTo>
                  <a:lnTo>
                    <a:pt x="269" y="963"/>
                  </a:lnTo>
                  <a:lnTo>
                    <a:pt x="259" y="973"/>
                  </a:lnTo>
                  <a:lnTo>
                    <a:pt x="248" y="973"/>
                  </a:lnTo>
                  <a:lnTo>
                    <a:pt x="197" y="973"/>
                  </a:lnTo>
                  <a:lnTo>
                    <a:pt x="197" y="963"/>
                  </a:lnTo>
                  <a:lnTo>
                    <a:pt x="207" y="952"/>
                  </a:lnTo>
                  <a:lnTo>
                    <a:pt x="155" y="880"/>
                  </a:lnTo>
                  <a:lnTo>
                    <a:pt x="155" y="870"/>
                  </a:lnTo>
                  <a:lnTo>
                    <a:pt x="134" y="808"/>
                  </a:lnTo>
                  <a:lnTo>
                    <a:pt x="93" y="735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408480" y="1768320"/>
            <a:ext cx="1139760" cy="1139760"/>
            <a:chOff x="3408480" y="1768320"/>
            <a:chExt cx="1139760" cy="1139760"/>
          </a:xfrm>
        </p:grpSpPr>
        <p:pic>
          <p:nvPicPr>
            <p:cNvPr id="82" name="剪去对角的矩形 2515" descr=""/>
            <p:cNvPicPr/>
            <p:nvPr/>
          </p:nvPicPr>
          <p:blipFill>
            <a:blip r:embed="rId5"/>
            <a:stretch/>
          </p:blipFill>
          <p:spPr>
            <a:xfrm>
              <a:off x="3408480" y="1768320"/>
              <a:ext cx="1139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706920" y="2063520"/>
              <a:ext cx="554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591080" y="1798560"/>
            <a:ext cx="1139760" cy="1139760"/>
            <a:chOff x="4591080" y="1798560"/>
            <a:chExt cx="1139760" cy="1139760"/>
          </a:xfrm>
        </p:grpSpPr>
        <p:pic>
          <p:nvPicPr>
            <p:cNvPr id="85" name="剪去对角的矩形 2516" descr=""/>
            <p:cNvPicPr/>
            <p:nvPr/>
          </p:nvPicPr>
          <p:blipFill>
            <a:blip r:embed="rId6"/>
            <a:stretch/>
          </p:blipFill>
          <p:spPr>
            <a:xfrm>
              <a:off x="4591080" y="1798560"/>
              <a:ext cx="1139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76920" y="2085840"/>
              <a:ext cx="5680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91080" y="2944800"/>
            <a:ext cx="1139760" cy="1139760"/>
            <a:chOff x="4591080" y="2944800"/>
            <a:chExt cx="1139760" cy="1139760"/>
          </a:xfrm>
        </p:grpSpPr>
        <p:pic>
          <p:nvPicPr>
            <p:cNvPr id="88" name="剪去对角的矩形 2517" descr=""/>
            <p:cNvPicPr/>
            <p:nvPr/>
          </p:nvPicPr>
          <p:blipFill>
            <a:blip r:embed="rId7"/>
            <a:stretch/>
          </p:blipFill>
          <p:spPr>
            <a:xfrm>
              <a:off x="4591080" y="2944800"/>
              <a:ext cx="1139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883040" y="3240000"/>
              <a:ext cx="554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408480" y="2944800"/>
            <a:ext cx="1139760" cy="1139760"/>
            <a:chOff x="3408480" y="2944800"/>
            <a:chExt cx="1139760" cy="1139760"/>
          </a:xfrm>
        </p:grpSpPr>
        <p:pic>
          <p:nvPicPr>
            <p:cNvPr id="91" name="剪去对角的矩形 2518" descr=""/>
            <p:cNvPicPr/>
            <p:nvPr/>
          </p:nvPicPr>
          <p:blipFill>
            <a:blip r:embed="rId8"/>
            <a:stretch/>
          </p:blipFill>
          <p:spPr>
            <a:xfrm>
              <a:off x="3408480" y="2944800"/>
              <a:ext cx="1139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5400000">
              <a:off x="3701880" y="3235320"/>
              <a:ext cx="5540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91040" y="2425680"/>
            <a:ext cx="981000" cy="1000080"/>
            <a:chOff x="4091040" y="2425680"/>
            <a:chExt cx="981000" cy="1000080"/>
          </a:xfrm>
        </p:grpSpPr>
        <p:pic>
          <p:nvPicPr>
            <p:cNvPr id="94" name="椭圆 2520" descr=""/>
            <p:cNvPicPr/>
            <p:nvPr/>
          </p:nvPicPr>
          <p:blipFill>
            <a:blip r:embed="rId9"/>
            <a:stretch/>
          </p:blipFill>
          <p:spPr>
            <a:xfrm>
              <a:off x="4091040" y="2425680"/>
              <a:ext cx="981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43320" y="2600280"/>
              <a:ext cx="65736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直接连接符 2525"/>
          <p:cNvSpPr/>
          <p:nvPr/>
        </p:nvSpPr>
        <p:spPr>
          <a:xfrm>
            <a:off x="-2781360" y="31431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51440" y="1809720"/>
            <a:ext cx="49320" cy="519120"/>
            <a:chOff x="5851440" y="1809720"/>
            <a:chExt cx="49320" cy="519120"/>
          </a:xfrm>
        </p:grpSpPr>
        <p:pic>
          <p:nvPicPr>
            <p:cNvPr id="98" name="矩形 2529" descr=""/>
            <p:cNvPicPr/>
            <p:nvPr/>
          </p:nvPicPr>
          <p:blipFill>
            <a:blip r:embed="rId10"/>
            <a:stretch/>
          </p:blipFill>
          <p:spPr>
            <a:xfrm>
              <a:off x="5851440" y="1809720"/>
              <a:ext cx="493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857920" y="1816200"/>
              <a:ext cx="36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06880" y="1779480"/>
            <a:ext cx="48960" cy="519120"/>
            <a:chOff x="3206880" y="1779480"/>
            <a:chExt cx="48960" cy="519120"/>
          </a:xfrm>
        </p:grpSpPr>
        <p:pic>
          <p:nvPicPr>
            <p:cNvPr id="101" name="矩形 2530" descr=""/>
            <p:cNvPicPr/>
            <p:nvPr/>
          </p:nvPicPr>
          <p:blipFill>
            <a:blip r:embed="rId11"/>
            <a:stretch/>
          </p:blipFill>
          <p:spPr>
            <a:xfrm>
              <a:off x="3206880" y="1779480"/>
              <a:ext cx="48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214440" y="1785960"/>
              <a:ext cx="3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06880" y="3560760"/>
            <a:ext cx="48960" cy="517680"/>
            <a:chOff x="3206880" y="3560760"/>
            <a:chExt cx="48960" cy="517680"/>
          </a:xfrm>
        </p:grpSpPr>
        <p:pic>
          <p:nvPicPr>
            <p:cNvPr id="104" name="矩形 2531" descr=""/>
            <p:cNvPicPr/>
            <p:nvPr/>
          </p:nvPicPr>
          <p:blipFill>
            <a:blip r:embed="rId12"/>
            <a:stretch/>
          </p:blipFill>
          <p:spPr>
            <a:xfrm>
              <a:off x="3206880" y="3560760"/>
              <a:ext cx="489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214440" y="3568680"/>
              <a:ext cx="3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51440" y="3560760"/>
            <a:ext cx="49320" cy="517680"/>
            <a:chOff x="5851440" y="3560760"/>
            <a:chExt cx="49320" cy="517680"/>
          </a:xfrm>
        </p:grpSpPr>
        <p:pic>
          <p:nvPicPr>
            <p:cNvPr id="107" name="矩形 2532" descr=""/>
            <p:cNvPicPr/>
            <p:nvPr/>
          </p:nvPicPr>
          <p:blipFill>
            <a:blip r:embed="rId13"/>
            <a:stretch/>
          </p:blipFill>
          <p:spPr>
            <a:xfrm>
              <a:off x="5851440" y="3560760"/>
              <a:ext cx="49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857920" y="3568680"/>
              <a:ext cx="3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2533"/>
          <p:cNvSpPr/>
          <p:nvPr/>
        </p:nvSpPr>
        <p:spPr>
          <a:xfrm>
            <a:off x="4838760" y="20480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34"/>
          <p:cNvSpPr/>
          <p:nvPr/>
        </p:nvSpPr>
        <p:spPr>
          <a:xfrm>
            <a:off x="4838760" y="3193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535"/>
          <p:cNvSpPr/>
          <p:nvPr/>
        </p:nvSpPr>
        <p:spPr>
          <a:xfrm>
            <a:off x="3662280" y="3193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36"/>
          <p:cNvSpPr/>
          <p:nvPr/>
        </p:nvSpPr>
        <p:spPr>
          <a:xfrm>
            <a:off x="3662280" y="2017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537"/>
          <p:cNvSpPr/>
          <p:nvPr/>
        </p:nvSpPr>
        <p:spPr>
          <a:xfrm>
            <a:off x="5857920" y="18162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538"/>
          <p:cNvSpPr/>
          <p:nvPr/>
        </p:nvSpPr>
        <p:spPr>
          <a:xfrm>
            <a:off x="5857920" y="3610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539"/>
          <p:cNvSpPr/>
          <p:nvPr/>
        </p:nvSpPr>
        <p:spPr>
          <a:xfrm>
            <a:off x="750960" y="3610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540"/>
          <p:cNvSpPr/>
          <p:nvPr/>
        </p:nvSpPr>
        <p:spPr>
          <a:xfrm>
            <a:off x="750960" y="17859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-14400" y="-25560"/>
            <a:ext cx="9182160" cy="1268640"/>
            <a:chOff x="-14400" y="-25560"/>
            <a:chExt cx="9182160" cy="1268640"/>
          </a:xfrm>
        </p:grpSpPr>
        <p:pic>
          <p:nvPicPr>
            <p:cNvPr id="118" name="右箭头 2457" descr=""/>
            <p:cNvPicPr/>
            <p:nvPr/>
          </p:nvPicPr>
          <p:blipFill>
            <a:blip r:embed="rId14"/>
            <a:stretch/>
          </p:blipFill>
          <p:spPr>
            <a:xfrm>
              <a:off x="-14400" y="-25560"/>
              <a:ext cx="91821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320" y="184320"/>
              <a:ext cx="8647200" cy="8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82520" y="357120"/>
            <a:ext cx="1428840" cy="1021320"/>
            <a:chOff x="7382520" y="357120"/>
            <a:chExt cx="1428840" cy="1021320"/>
          </a:xfrm>
        </p:grpSpPr>
        <p:sp>
          <p:nvSpPr>
            <p:cNvPr id="121" name="Freeform 42"/>
            <p:cNvSpPr/>
            <p:nvPr/>
          </p:nvSpPr>
          <p:spPr>
            <a:xfrm rot="5400000">
              <a:off x="8219520" y="373680"/>
              <a:ext cx="608400" cy="57492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1404" h="1328">
                  <a:moveTo>
                    <a:pt x="800" y="1017"/>
                  </a:moveTo>
                  <a:lnTo>
                    <a:pt x="723" y="744"/>
                  </a:lnTo>
                  <a:lnTo>
                    <a:pt x="724" y="744"/>
                  </a:lnTo>
                  <a:lnTo>
                    <a:pt x="729" y="743"/>
                  </a:lnTo>
                  <a:lnTo>
                    <a:pt x="736" y="741"/>
                  </a:lnTo>
                  <a:lnTo>
                    <a:pt x="746" y="740"/>
                  </a:lnTo>
                  <a:lnTo>
                    <a:pt x="758" y="739"/>
                  </a:lnTo>
                  <a:lnTo>
                    <a:pt x="772" y="738"/>
                  </a:lnTo>
                  <a:lnTo>
                    <a:pt x="787" y="736"/>
                  </a:lnTo>
                  <a:lnTo>
                    <a:pt x="803" y="733"/>
                  </a:lnTo>
                  <a:lnTo>
                    <a:pt x="820" y="732"/>
                  </a:lnTo>
                  <a:lnTo>
                    <a:pt x="838" y="730"/>
                  </a:lnTo>
                  <a:lnTo>
                    <a:pt x="858" y="728"/>
                  </a:lnTo>
                  <a:lnTo>
                    <a:pt x="876" y="726"/>
                  </a:lnTo>
                  <a:lnTo>
                    <a:pt x="896" y="724"/>
                  </a:lnTo>
                  <a:lnTo>
                    <a:pt x="914" y="723"/>
                  </a:lnTo>
                  <a:lnTo>
                    <a:pt x="933" y="723"/>
                  </a:lnTo>
                  <a:lnTo>
                    <a:pt x="950" y="722"/>
                  </a:lnTo>
                  <a:lnTo>
                    <a:pt x="970" y="722"/>
                  </a:lnTo>
                  <a:lnTo>
                    <a:pt x="995" y="722"/>
                  </a:lnTo>
                  <a:lnTo>
                    <a:pt x="1025" y="722"/>
                  </a:lnTo>
                  <a:lnTo>
                    <a:pt x="1058" y="723"/>
                  </a:lnTo>
                  <a:lnTo>
                    <a:pt x="1095" y="723"/>
                  </a:lnTo>
                  <a:lnTo>
                    <a:pt x="1133" y="724"/>
                  </a:lnTo>
                  <a:lnTo>
                    <a:pt x="1171" y="725"/>
                  </a:lnTo>
                  <a:lnTo>
                    <a:pt x="1210" y="726"/>
                  </a:lnTo>
                  <a:lnTo>
                    <a:pt x="1249" y="728"/>
                  </a:lnTo>
                  <a:lnTo>
                    <a:pt x="1284" y="729"/>
                  </a:lnTo>
                  <a:lnTo>
                    <a:pt x="1316" y="730"/>
                  </a:lnTo>
                  <a:lnTo>
                    <a:pt x="1345" y="731"/>
                  </a:lnTo>
                  <a:lnTo>
                    <a:pt x="1369" y="732"/>
                  </a:lnTo>
                  <a:lnTo>
                    <a:pt x="1388" y="732"/>
                  </a:lnTo>
                  <a:lnTo>
                    <a:pt x="1399" y="733"/>
                  </a:lnTo>
                  <a:lnTo>
                    <a:pt x="1404" y="733"/>
                  </a:lnTo>
                  <a:lnTo>
                    <a:pt x="1403" y="730"/>
                  </a:lnTo>
                  <a:lnTo>
                    <a:pt x="1401" y="721"/>
                  </a:lnTo>
                  <a:lnTo>
                    <a:pt x="1395" y="706"/>
                  </a:lnTo>
                  <a:lnTo>
                    <a:pt x="1388" y="690"/>
                  </a:lnTo>
                  <a:lnTo>
                    <a:pt x="1377" y="671"/>
                  </a:lnTo>
                  <a:lnTo>
                    <a:pt x="1365" y="653"/>
                  </a:lnTo>
                  <a:lnTo>
                    <a:pt x="1349" y="635"/>
                  </a:lnTo>
                  <a:lnTo>
                    <a:pt x="1329" y="622"/>
                  </a:lnTo>
                  <a:lnTo>
                    <a:pt x="1319" y="619"/>
                  </a:lnTo>
                  <a:lnTo>
                    <a:pt x="1297" y="614"/>
                  </a:lnTo>
                  <a:lnTo>
                    <a:pt x="1262" y="607"/>
                  </a:lnTo>
                  <a:lnTo>
                    <a:pt x="1219" y="599"/>
                  </a:lnTo>
                  <a:lnTo>
                    <a:pt x="1167" y="589"/>
                  </a:lnTo>
                  <a:lnTo>
                    <a:pt x="1110" y="579"/>
                  </a:lnTo>
                  <a:lnTo>
                    <a:pt x="1050" y="567"/>
                  </a:lnTo>
                  <a:lnTo>
                    <a:pt x="988" y="556"/>
                  </a:lnTo>
                  <a:lnTo>
                    <a:pt x="926" y="546"/>
                  </a:lnTo>
                  <a:lnTo>
                    <a:pt x="866" y="534"/>
                  </a:lnTo>
                  <a:lnTo>
                    <a:pt x="811" y="525"/>
                  </a:lnTo>
                  <a:lnTo>
                    <a:pt x="760" y="516"/>
                  </a:lnTo>
                  <a:lnTo>
                    <a:pt x="719" y="508"/>
                  </a:lnTo>
                  <a:lnTo>
                    <a:pt x="686" y="502"/>
                  </a:lnTo>
                  <a:lnTo>
                    <a:pt x="665" y="498"/>
                  </a:lnTo>
                  <a:lnTo>
                    <a:pt x="658" y="497"/>
                  </a:lnTo>
                  <a:lnTo>
                    <a:pt x="544" y="101"/>
                  </a:lnTo>
                  <a:lnTo>
                    <a:pt x="537" y="85"/>
                  </a:lnTo>
                  <a:lnTo>
                    <a:pt x="526" y="66"/>
                  </a:lnTo>
                  <a:lnTo>
                    <a:pt x="513" y="49"/>
                  </a:lnTo>
                  <a:lnTo>
                    <a:pt x="496" y="32"/>
                  </a:lnTo>
                  <a:lnTo>
                    <a:pt x="479" y="17"/>
                  </a:lnTo>
                  <a:lnTo>
                    <a:pt x="462" y="5"/>
                  </a:lnTo>
                  <a:lnTo>
                    <a:pt x="447" y="0"/>
                  </a:lnTo>
                  <a:lnTo>
                    <a:pt x="433" y="0"/>
                  </a:lnTo>
                  <a:lnTo>
                    <a:pt x="422" y="7"/>
                  </a:lnTo>
                  <a:lnTo>
                    <a:pt x="412" y="20"/>
                  </a:lnTo>
                  <a:lnTo>
                    <a:pt x="404" y="39"/>
                  </a:lnTo>
                  <a:lnTo>
                    <a:pt x="397" y="61"/>
                  </a:lnTo>
                  <a:lnTo>
                    <a:pt x="393" y="84"/>
                  </a:lnTo>
                  <a:lnTo>
                    <a:pt x="390" y="106"/>
                  </a:lnTo>
                  <a:lnTo>
                    <a:pt x="390" y="126"/>
                  </a:lnTo>
                  <a:lnTo>
                    <a:pt x="394" y="144"/>
                  </a:lnTo>
                  <a:lnTo>
                    <a:pt x="509" y="541"/>
                  </a:lnTo>
                  <a:lnTo>
                    <a:pt x="503" y="546"/>
                  </a:lnTo>
                  <a:lnTo>
                    <a:pt x="488" y="561"/>
                  </a:lnTo>
                  <a:lnTo>
                    <a:pt x="464" y="582"/>
                  </a:lnTo>
                  <a:lnTo>
                    <a:pt x="433" y="611"/>
                  </a:lnTo>
                  <a:lnTo>
                    <a:pt x="396" y="646"/>
                  </a:lnTo>
                  <a:lnTo>
                    <a:pt x="355" y="684"/>
                  </a:lnTo>
                  <a:lnTo>
                    <a:pt x="311" y="724"/>
                  </a:lnTo>
                  <a:lnTo>
                    <a:pt x="266" y="767"/>
                  </a:lnTo>
                  <a:lnTo>
                    <a:pt x="220" y="809"/>
                  </a:lnTo>
                  <a:lnTo>
                    <a:pt x="176" y="851"/>
                  </a:lnTo>
                  <a:lnTo>
                    <a:pt x="135" y="890"/>
                  </a:lnTo>
                  <a:lnTo>
                    <a:pt x="97" y="925"/>
                  </a:lnTo>
                  <a:lnTo>
                    <a:pt x="66" y="955"/>
                  </a:lnTo>
                  <a:lnTo>
                    <a:pt x="40" y="979"/>
                  </a:lnTo>
                  <a:lnTo>
                    <a:pt x="24" y="995"/>
                  </a:lnTo>
                  <a:lnTo>
                    <a:pt x="17" y="1002"/>
                  </a:lnTo>
                  <a:lnTo>
                    <a:pt x="2" y="1049"/>
                  </a:lnTo>
                  <a:lnTo>
                    <a:pt x="0" y="1093"/>
                  </a:lnTo>
                  <a:lnTo>
                    <a:pt x="3" y="1126"/>
                  </a:lnTo>
                  <a:lnTo>
                    <a:pt x="6" y="1139"/>
                  </a:lnTo>
                  <a:lnTo>
                    <a:pt x="9" y="1137"/>
                  </a:lnTo>
                  <a:lnTo>
                    <a:pt x="17" y="1131"/>
                  </a:lnTo>
                  <a:lnTo>
                    <a:pt x="31" y="1120"/>
                  </a:lnTo>
                  <a:lnTo>
                    <a:pt x="48" y="1108"/>
                  </a:lnTo>
                  <a:lnTo>
                    <a:pt x="69" y="1093"/>
                  </a:lnTo>
                  <a:lnTo>
                    <a:pt x="93" y="1075"/>
                  </a:lnTo>
                  <a:lnTo>
                    <a:pt x="120" y="1056"/>
                  </a:lnTo>
                  <a:lnTo>
                    <a:pt x="147" y="1036"/>
                  </a:lnTo>
                  <a:lnTo>
                    <a:pt x="176" y="1016"/>
                  </a:lnTo>
                  <a:lnTo>
                    <a:pt x="206" y="996"/>
                  </a:lnTo>
                  <a:lnTo>
                    <a:pt x="235" y="975"/>
                  </a:lnTo>
                  <a:lnTo>
                    <a:pt x="263" y="957"/>
                  </a:lnTo>
                  <a:lnTo>
                    <a:pt x="289" y="940"/>
                  </a:lnTo>
                  <a:lnTo>
                    <a:pt x="313" y="923"/>
                  </a:lnTo>
                  <a:lnTo>
                    <a:pt x="334" y="911"/>
                  </a:lnTo>
                  <a:lnTo>
                    <a:pt x="351" y="900"/>
                  </a:lnTo>
                  <a:lnTo>
                    <a:pt x="367" y="891"/>
                  </a:lnTo>
                  <a:lnTo>
                    <a:pt x="385" y="882"/>
                  </a:lnTo>
                  <a:lnTo>
                    <a:pt x="402" y="873"/>
                  </a:lnTo>
                  <a:lnTo>
                    <a:pt x="422" y="864"/>
                  </a:lnTo>
                  <a:lnTo>
                    <a:pt x="440" y="853"/>
                  </a:lnTo>
                  <a:lnTo>
                    <a:pt x="460" y="844"/>
                  </a:lnTo>
                  <a:lnTo>
                    <a:pt x="478" y="835"/>
                  </a:lnTo>
                  <a:lnTo>
                    <a:pt x="496" y="826"/>
                  </a:lnTo>
                  <a:lnTo>
                    <a:pt x="514" y="816"/>
                  </a:lnTo>
                  <a:lnTo>
                    <a:pt x="529" y="809"/>
                  </a:lnTo>
                  <a:lnTo>
                    <a:pt x="544" y="802"/>
                  </a:lnTo>
                  <a:lnTo>
                    <a:pt x="556" y="796"/>
                  </a:lnTo>
                  <a:lnTo>
                    <a:pt x="567" y="791"/>
                  </a:lnTo>
                  <a:lnTo>
                    <a:pt x="574" y="787"/>
                  </a:lnTo>
                  <a:lnTo>
                    <a:pt x="579" y="785"/>
                  </a:lnTo>
                  <a:lnTo>
                    <a:pt x="580" y="784"/>
                  </a:lnTo>
                  <a:lnTo>
                    <a:pt x="659" y="1058"/>
                  </a:lnTo>
                  <a:lnTo>
                    <a:pt x="655" y="1062"/>
                  </a:lnTo>
                  <a:lnTo>
                    <a:pt x="645" y="1071"/>
                  </a:lnTo>
                  <a:lnTo>
                    <a:pt x="630" y="1087"/>
                  </a:lnTo>
                  <a:lnTo>
                    <a:pt x="613" y="1107"/>
                  </a:lnTo>
                  <a:lnTo>
                    <a:pt x="594" y="1131"/>
                  </a:lnTo>
                  <a:lnTo>
                    <a:pt x="577" y="1157"/>
                  </a:lnTo>
                  <a:lnTo>
                    <a:pt x="562" y="1186"/>
                  </a:lnTo>
                  <a:lnTo>
                    <a:pt x="553" y="1217"/>
                  </a:lnTo>
                  <a:lnTo>
                    <a:pt x="549" y="1246"/>
                  </a:lnTo>
                  <a:lnTo>
                    <a:pt x="551" y="1268"/>
                  </a:lnTo>
                  <a:lnTo>
                    <a:pt x="554" y="1285"/>
                  </a:lnTo>
                  <a:lnTo>
                    <a:pt x="561" y="1298"/>
                  </a:lnTo>
                  <a:lnTo>
                    <a:pt x="568" y="1306"/>
                  </a:lnTo>
                  <a:lnTo>
                    <a:pt x="575" y="1312"/>
                  </a:lnTo>
                  <a:lnTo>
                    <a:pt x="579" y="1314"/>
                  </a:lnTo>
                  <a:lnTo>
                    <a:pt x="582" y="1315"/>
                  </a:lnTo>
                  <a:lnTo>
                    <a:pt x="741" y="1200"/>
                  </a:lnTo>
                  <a:lnTo>
                    <a:pt x="771" y="1301"/>
                  </a:lnTo>
                  <a:lnTo>
                    <a:pt x="773" y="1308"/>
                  </a:lnTo>
                  <a:lnTo>
                    <a:pt x="777" y="1314"/>
                  </a:lnTo>
                  <a:lnTo>
                    <a:pt x="782" y="1320"/>
                  </a:lnTo>
                  <a:lnTo>
                    <a:pt x="789" y="1324"/>
                  </a:lnTo>
                  <a:lnTo>
                    <a:pt x="795" y="1327"/>
                  </a:lnTo>
                  <a:lnTo>
                    <a:pt x="803" y="1328"/>
                  </a:lnTo>
                  <a:lnTo>
                    <a:pt x="810" y="1328"/>
                  </a:lnTo>
                  <a:lnTo>
                    <a:pt x="818" y="1327"/>
                  </a:lnTo>
                  <a:lnTo>
                    <a:pt x="830" y="1320"/>
                  </a:lnTo>
                  <a:lnTo>
                    <a:pt x="841" y="1308"/>
                  </a:lnTo>
                  <a:lnTo>
                    <a:pt x="845" y="1294"/>
                  </a:lnTo>
                  <a:lnTo>
                    <a:pt x="844" y="1279"/>
                  </a:lnTo>
                  <a:lnTo>
                    <a:pt x="814" y="1178"/>
                  </a:lnTo>
                  <a:lnTo>
                    <a:pt x="1012" y="1188"/>
                  </a:lnTo>
                  <a:lnTo>
                    <a:pt x="1012" y="1185"/>
                  </a:lnTo>
                  <a:lnTo>
                    <a:pt x="1012" y="1176"/>
                  </a:lnTo>
                  <a:lnTo>
                    <a:pt x="1012" y="1162"/>
                  </a:lnTo>
                  <a:lnTo>
                    <a:pt x="1011" y="1146"/>
                  </a:lnTo>
                  <a:lnTo>
                    <a:pt x="1008" y="1127"/>
                  </a:lnTo>
                  <a:lnTo>
                    <a:pt x="1001" y="1109"/>
                  </a:lnTo>
                  <a:lnTo>
                    <a:pt x="992" y="1090"/>
                  </a:lnTo>
                  <a:lnTo>
                    <a:pt x="979" y="1075"/>
                  </a:lnTo>
                  <a:lnTo>
                    <a:pt x="959" y="1063"/>
                  </a:lnTo>
                  <a:lnTo>
                    <a:pt x="934" y="1051"/>
                  </a:lnTo>
                  <a:lnTo>
                    <a:pt x="904" y="1041"/>
                  </a:lnTo>
                  <a:lnTo>
                    <a:pt x="874" y="1033"/>
                  </a:lnTo>
                  <a:lnTo>
                    <a:pt x="847" y="1026"/>
                  </a:lnTo>
                  <a:lnTo>
                    <a:pt x="822" y="1021"/>
                  </a:lnTo>
                  <a:lnTo>
                    <a:pt x="806" y="1018"/>
                  </a:lnTo>
                  <a:lnTo>
                    <a:pt x="800" y="1017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2452"/>
            <p:cNvSpPr/>
            <p:nvPr/>
          </p:nvSpPr>
          <p:spPr>
            <a:xfrm rot="4273800">
              <a:off x="7661160" y="571320"/>
              <a:ext cx="441360" cy="905040"/>
            </a:xfrm>
            <a:custGeom>
              <a:avLst/>
              <a:gdLst/>
              <a:ahLst/>
              <a:rect l="l" t="t" r="r" b="b"/>
              <a:pathLst>
                <a:path w="559727" h="783519">
                  <a:moveTo>
                    <a:pt x="559724" y="783518"/>
                  </a:moveTo>
                  <a:cubicBezTo>
                    <a:pt x="336867" y="783518"/>
                    <a:pt x="37341" y="497008"/>
                    <a:pt x="26391" y="238189"/>
                  </a:cubicBezTo>
                  <a:cubicBezTo>
                    <a:pt x="0" y="101621"/>
                    <a:pt x="24067" y="0"/>
                    <a:pt x="110540" y="69139"/>
                  </a:cubicBezTo>
                  <a:cubicBezTo>
                    <a:pt x="110540" y="408263"/>
                    <a:pt x="296109" y="703389"/>
                    <a:pt x="559727" y="783519"/>
                  </a:cubicBezTo>
                  <a:cubicBezTo>
                    <a:pt x="559726" y="783519"/>
                    <a:pt x="559725" y="783518"/>
                    <a:pt x="559724" y="7835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ab5e4">
                    <a:alpha val="40000"/>
                  </a:srgbClr>
                </a:gs>
              </a:gsLst>
              <a:lin ang="65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541"/>
          <p:cNvSpPr/>
          <p:nvPr/>
        </p:nvSpPr>
        <p:spPr>
          <a:xfrm>
            <a:off x="6643800" y="314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453" descr="图片2.png"/>
          <p:cNvPicPr/>
          <p:nvPr/>
        </p:nvPicPr>
        <p:blipFill>
          <a:blip r:embed="rId1"/>
          <a:srcRect l="0" t="0" r="0" b="18262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25" name="矩形 480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组合 2454" descr=""/>
          <p:cNvPicPr/>
          <p:nvPr/>
        </p:nvPicPr>
        <p:blipFill>
          <a:blip r:embed="rId2"/>
          <a:stretch/>
        </p:blipFill>
        <p:spPr>
          <a:xfrm>
            <a:off x="-14400" y="5327640"/>
            <a:ext cx="9177480" cy="13651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7572240" y="4664160"/>
            <a:ext cx="1285920" cy="3551040"/>
            <a:chOff x="7572240" y="4664160"/>
            <a:chExt cx="1285920" cy="3551040"/>
          </a:xfrm>
        </p:grpSpPr>
        <p:sp>
          <p:nvSpPr>
            <p:cNvPr id="128" name="Freeform 472"/>
            <p:cNvSpPr/>
            <p:nvPr/>
          </p:nvSpPr>
          <p:spPr>
            <a:xfrm flipH="1">
              <a:off x="8233560" y="5339160"/>
              <a:ext cx="209520" cy="27864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80" h="372">
                  <a:moveTo>
                    <a:pt x="135" y="41"/>
                  </a:moveTo>
                  <a:lnTo>
                    <a:pt x="135" y="41"/>
                  </a:lnTo>
                  <a:lnTo>
                    <a:pt x="114" y="31"/>
                  </a:lnTo>
                  <a:lnTo>
                    <a:pt x="104" y="20"/>
                  </a:lnTo>
                  <a:lnTo>
                    <a:pt x="73" y="0"/>
                  </a:lnTo>
                  <a:lnTo>
                    <a:pt x="52" y="0"/>
                  </a:lnTo>
                  <a:lnTo>
                    <a:pt x="21" y="0"/>
                  </a:lnTo>
                  <a:lnTo>
                    <a:pt x="11" y="20"/>
                  </a:lnTo>
                  <a:lnTo>
                    <a:pt x="0" y="41"/>
                  </a:lnTo>
                  <a:lnTo>
                    <a:pt x="0" y="83"/>
                  </a:lnTo>
                  <a:lnTo>
                    <a:pt x="11" y="124"/>
                  </a:lnTo>
                  <a:lnTo>
                    <a:pt x="42" y="196"/>
                  </a:lnTo>
                  <a:lnTo>
                    <a:pt x="73" y="279"/>
                  </a:lnTo>
                  <a:lnTo>
                    <a:pt x="94" y="372"/>
                  </a:lnTo>
                  <a:lnTo>
                    <a:pt x="125" y="362"/>
                  </a:lnTo>
                  <a:lnTo>
                    <a:pt x="145" y="341"/>
                  </a:lnTo>
                  <a:lnTo>
                    <a:pt x="197" y="341"/>
                  </a:lnTo>
                  <a:lnTo>
                    <a:pt x="228" y="341"/>
                  </a:lnTo>
                  <a:lnTo>
                    <a:pt x="249" y="331"/>
                  </a:lnTo>
                  <a:lnTo>
                    <a:pt x="269" y="310"/>
                  </a:lnTo>
                  <a:lnTo>
                    <a:pt x="280" y="269"/>
                  </a:lnTo>
                  <a:lnTo>
                    <a:pt x="280" y="238"/>
                  </a:lnTo>
                  <a:lnTo>
                    <a:pt x="269" y="196"/>
                  </a:lnTo>
                  <a:lnTo>
                    <a:pt x="249" y="165"/>
                  </a:lnTo>
                  <a:lnTo>
                    <a:pt x="228" y="134"/>
                  </a:lnTo>
                  <a:lnTo>
                    <a:pt x="197" y="103"/>
                  </a:lnTo>
                  <a:lnTo>
                    <a:pt x="187" y="72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74"/>
            <p:cNvSpPr/>
            <p:nvPr/>
          </p:nvSpPr>
          <p:spPr>
            <a:xfrm flipH="1">
              <a:off x="8396640" y="4943520"/>
              <a:ext cx="92520" cy="18576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4" h="248">
                  <a:moveTo>
                    <a:pt x="73" y="0"/>
                  </a:moveTo>
                  <a:lnTo>
                    <a:pt x="73" y="0"/>
                  </a:lnTo>
                  <a:lnTo>
                    <a:pt x="52" y="31"/>
                  </a:lnTo>
                  <a:lnTo>
                    <a:pt x="21" y="103"/>
                  </a:lnTo>
                  <a:lnTo>
                    <a:pt x="11" y="176"/>
                  </a:lnTo>
                  <a:lnTo>
                    <a:pt x="0" y="248"/>
                  </a:lnTo>
                  <a:lnTo>
                    <a:pt x="11" y="228"/>
                  </a:lnTo>
                  <a:lnTo>
                    <a:pt x="11" y="217"/>
                  </a:lnTo>
                  <a:lnTo>
                    <a:pt x="21" y="197"/>
                  </a:lnTo>
                  <a:lnTo>
                    <a:pt x="31" y="176"/>
                  </a:lnTo>
                  <a:lnTo>
                    <a:pt x="31" y="145"/>
                  </a:lnTo>
                  <a:lnTo>
                    <a:pt x="42" y="114"/>
                  </a:lnTo>
                  <a:lnTo>
                    <a:pt x="52" y="93"/>
                  </a:lnTo>
                  <a:lnTo>
                    <a:pt x="73" y="83"/>
                  </a:lnTo>
                  <a:lnTo>
                    <a:pt x="104" y="83"/>
                  </a:lnTo>
                  <a:lnTo>
                    <a:pt x="124" y="93"/>
                  </a:lnTo>
                  <a:lnTo>
                    <a:pt x="93" y="41"/>
                  </a:lnTo>
                  <a:lnTo>
                    <a:pt x="83" y="2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75"/>
            <p:cNvSpPr/>
            <p:nvPr/>
          </p:nvSpPr>
          <p:spPr>
            <a:xfrm flipH="1">
              <a:off x="8481240" y="4951080"/>
              <a:ext cx="116640" cy="178200"/>
            </a:xfrm>
            <a:custGeom>
              <a:avLst/>
              <a:gdLst>
                <a:gd name="textAreaLeft" fmla="*/ 360 w 116640"/>
                <a:gd name="textAreaRight" fmla="*/ 117360 w 1166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56" h="238">
                  <a:moveTo>
                    <a:pt x="52" y="0"/>
                  </a:moveTo>
                  <a:lnTo>
                    <a:pt x="52" y="0"/>
                  </a:lnTo>
                  <a:lnTo>
                    <a:pt x="73" y="11"/>
                  </a:lnTo>
                  <a:lnTo>
                    <a:pt x="94" y="42"/>
                  </a:lnTo>
                  <a:lnTo>
                    <a:pt x="114" y="93"/>
                  </a:lnTo>
                  <a:lnTo>
                    <a:pt x="145" y="156"/>
                  </a:lnTo>
                  <a:lnTo>
                    <a:pt x="156" y="197"/>
                  </a:lnTo>
                  <a:lnTo>
                    <a:pt x="145" y="238"/>
                  </a:lnTo>
                  <a:lnTo>
                    <a:pt x="135" y="197"/>
                  </a:lnTo>
                  <a:lnTo>
                    <a:pt x="114" y="156"/>
                  </a:lnTo>
                  <a:lnTo>
                    <a:pt x="94" y="93"/>
                  </a:lnTo>
                  <a:lnTo>
                    <a:pt x="63" y="62"/>
                  </a:lnTo>
                  <a:lnTo>
                    <a:pt x="42" y="52"/>
                  </a:lnTo>
                  <a:lnTo>
                    <a:pt x="31" y="62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21" y="42"/>
                  </a:lnTo>
                  <a:lnTo>
                    <a:pt x="31" y="31"/>
                  </a:lnTo>
                  <a:lnTo>
                    <a:pt x="42" y="21"/>
                  </a:lnTo>
                  <a:lnTo>
                    <a:pt x="42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69"/>
            <p:cNvSpPr/>
            <p:nvPr/>
          </p:nvSpPr>
          <p:spPr>
            <a:xfrm flipH="1" flipV="1">
              <a:off x="7572240" y="6008760"/>
              <a:ext cx="703440" cy="1444320"/>
            </a:xfrm>
            <a:custGeom>
              <a:avLst/>
              <a:gdLst>
                <a:gd name="textAreaLeft" fmla="*/ 360 w 703440"/>
                <a:gd name="textAreaRight" fmla="*/ 704160 w 703440"/>
                <a:gd name="textAreaTop" fmla="*/ 360 h 1444320"/>
                <a:gd name="textAreaBottom" fmla="*/ 1445040 h 144432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b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9"/>
            <p:cNvSpPr/>
            <p:nvPr/>
          </p:nvSpPr>
          <p:spPr>
            <a:xfrm flipH="1">
              <a:off x="7590600" y="4843080"/>
              <a:ext cx="697320" cy="1566360"/>
            </a:xfrm>
            <a:custGeom>
              <a:avLst/>
              <a:gdLst>
                <a:gd name="textAreaLeft" fmla="*/ -360 w 697320"/>
                <a:gd name="textAreaRight" fmla="*/ 697320 w 69732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70"/>
            <p:cNvSpPr/>
            <p:nvPr/>
          </p:nvSpPr>
          <p:spPr>
            <a:xfrm flipH="1">
              <a:off x="7691760" y="5075280"/>
              <a:ext cx="138960" cy="395640"/>
            </a:xfrm>
            <a:custGeom>
              <a:avLst/>
              <a:gdLst>
                <a:gd name="textAreaLeft" fmla="*/ 360 w 138960"/>
                <a:gd name="textAreaRight" fmla="*/ 139680 w 13896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86" h="528">
                  <a:moveTo>
                    <a:pt x="10" y="0"/>
                  </a:moveTo>
                  <a:lnTo>
                    <a:pt x="0" y="21"/>
                  </a:lnTo>
                  <a:lnTo>
                    <a:pt x="41" y="238"/>
                  </a:lnTo>
                  <a:lnTo>
                    <a:pt x="72" y="414"/>
                  </a:lnTo>
                  <a:lnTo>
                    <a:pt x="72" y="476"/>
                  </a:lnTo>
                  <a:lnTo>
                    <a:pt x="62" y="517"/>
                  </a:lnTo>
                  <a:lnTo>
                    <a:pt x="114" y="528"/>
                  </a:lnTo>
                  <a:lnTo>
                    <a:pt x="155" y="528"/>
                  </a:lnTo>
                  <a:lnTo>
                    <a:pt x="186" y="517"/>
                  </a:lnTo>
                  <a:lnTo>
                    <a:pt x="176" y="445"/>
                  </a:lnTo>
                  <a:lnTo>
                    <a:pt x="165" y="435"/>
                  </a:lnTo>
                  <a:lnTo>
                    <a:pt x="134" y="466"/>
                  </a:lnTo>
                  <a:lnTo>
                    <a:pt x="83" y="424"/>
                  </a:lnTo>
                  <a:lnTo>
                    <a:pt x="72" y="331"/>
                  </a:lnTo>
                  <a:lnTo>
                    <a:pt x="72" y="248"/>
                  </a:lnTo>
                  <a:lnTo>
                    <a:pt x="72" y="155"/>
                  </a:lnTo>
                  <a:lnTo>
                    <a:pt x="83" y="103"/>
                  </a:lnTo>
                  <a:lnTo>
                    <a:pt x="72" y="72"/>
                  </a:lnTo>
                  <a:lnTo>
                    <a:pt x="114" y="62"/>
                  </a:lnTo>
                  <a:lnTo>
                    <a:pt x="124" y="83"/>
                  </a:lnTo>
                  <a:lnTo>
                    <a:pt x="103" y="103"/>
                  </a:lnTo>
                  <a:lnTo>
                    <a:pt x="134" y="217"/>
                  </a:lnTo>
                  <a:lnTo>
                    <a:pt x="155" y="321"/>
                  </a:lnTo>
                  <a:lnTo>
                    <a:pt x="145" y="238"/>
                  </a:lnTo>
                  <a:lnTo>
                    <a:pt x="145" y="155"/>
                  </a:lnTo>
                  <a:lnTo>
                    <a:pt x="134" y="103"/>
                  </a:lnTo>
                  <a:lnTo>
                    <a:pt x="134" y="52"/>
                  </a:lnTo>
                  <a:lnTo>
                    <a:pt x="134" y="41"/>
                  </a:lnTo>
                  <a:lnTo>
                    <a:pt x="93" y="62"/>
                  </a:lnTo>
                  <a:lnTo>
                    <a:pt x="83" y="52"/>
                  </a:lnTo>
                  <a:lnTo>
                    <a:pt x="52" y="31"/>
                  </a:lnTo>
                  <a:lnTo>
                    <a:pt x="2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71"/>
            <p:cNvSpPr/>
            <p:nvPr/>
          </p:nvSpPr>
          <p:spPr>
            <a:xfrm flipH="1">
              <a:off x="8086680" y="5106240"/>
              <a:ext cx="92520" cy="32580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325800"/>
                <a:gd name="textAreaBottom" fmla="*/ 326160 h 325800"/>
              </a:gdLst>
              <a:ahLst/>
              <a:rect l="textAreaLeft" t="textAreaTop" r="textAreaRight" b="textAreaBottom"/>
              <a:pathLst>
                <a:path w="124" h="435">
                  <a:moveTo>
                    <a:pt x="104" y="0"/>
                  </a:moveTo>
                  <a:lnTo>
                    <a:pt x="73" y="11"/>
                  </a:lnTo>
                  <a:lnTo>
                    <a:pt x="52" y="42"/>
                  </a:lnTo>
                  <a:lnTo>
                    <a:pt x="73" y="62"/>
                  </a:lnTo>
                  <a:lnTo>
                    <a:pt x="31" y="135"/>
                  </a:lnTo>
                  <a:lnTo>
                    <a:pt x="21" y="207"/>
                  </a:lnTo>
                  <a:lnTo>
                    <a:pt x="11" y="352"/>
                  </a:lnTo>
                  <a:lnTo>
                    <a:pt x="0" y="383"/>
                  </a:lnTo>
                  <a:lnTo>
                    <a:pt x="42" y="435"/>
                  </a:lnTo>
                  <a:lnTo>
                    <a:pt x="93" y="394"/>
                  </a:lnTo>
                  <a:lnTo>
                    <a:pt x="114" y="197"/>
                  </a:lnTo>
                  <a:lnTo>
                    <a:pt x="114" y="93"/>
                  </a:lnTo>
                  <a:lnTo>
                    <a:pt x="93" y="52"/>
                  </a:lnTo>
                  <a:lnTo>
                    <a:pt x="124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8196480" y="6396840"/>
              <a:ext cx="661680" cy="1818360"/>
              <a:chOff x="8196480" y="6396840"/>
              <a:chExt cx="661680" cy="1818360"/>
            </a:xfrm>
          </p:grpSpPr>
          <p:pic>
            <p:nvPicPr>
              <p:cNvPr id="136" name="Freeform 473" descr=""/>
              <p:cNvPicPr/>
              <p:nvPr/>
            </p:nvPicPr>
            <p:blipFill>
              <a:blip r:embed="rId3"/>
              <a:stretch/>
            </p:blipFill>
            <p:spPr>
              <a:xfrm>
                <a:off x="8196480" y="6396840"/>
                <a:ext cx="661680" cy="181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10800000">
                <a:off x="8202600" y="6399720"/>
                <a:ext cx="650160" cy="180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Freeform 473"/>
            <p:cNvSpPr/>
            <p:nvPr/>
          </p:nvSpPr>
          <p:spPr>
            <a:xfrm flipH="1">
              <a:off x="8202960" y="4664160"/>
              <a:ext cx="650160" cy="1806840"/>
            </a:xfrm>
            <a:custGeom>
              <a:avLst/>
              <a:gdLst>
                <a:gd name="textAreaLeft" fmla="*/ 360 w 650160"/>
                <a:gd name="textAreaRight" fmla="*/ 650880 w 65016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869" h="2411">
                  <a:moveTo>
                    <a:pt x="0" y="746"/>
                  </a:moveTo>
                  <a:lnTo>
                    <a:pt x="0" y="746"/>
                  </a:lnTo>
                  <a:lnTo>
                    <a:pt x="10" y="756"/>
                  </a:lnTo>
                  <a:lnTo>
                    <a:pt x="31" y="849"/>
                  </a:lnTo>
                  <a:lnTo>
                    <a:pt x="41" y="870"/>
                  </a:lnTo>
                  <a:lnTo>
                    <a:pt x="52" y="890"/>
                  </a:lnTo>
                  <a:lnTo>
                    <a:pt x="72" y="911"/>
                  </a:lnTo>
                  <a:lnTo>
                    <a:pt x="72" y="921"/>
                  </a:lnTo>
                  <a:lnTo>
                    <a:pt x="83" y="921"/>
                  </a:lnTo>
                  <a:lnTo>
                    <a:pt x="134" y="994"/>
                  </a:lnTo>
                  <a:lnTo>
                    <a:pt x="145" y="1004"/>
                  </a:lnTo>
                  <a:lnTo>
                    <a:pt x="155" y="1004"/>
                  </a:lnTo>
                  <a:lnTo>
                    <a:pt x="166" y="1015"/>
                  </a:lnTo>
                  <a:lnTo>
                    <a:pt x="197" y="1025"/>
                  </a:lnTo>
                  <a:lnTo>
                    <a:pt x="217" y="1046"/>
                  </a:lnTo>
                  <a:lnTo>
                    <a:pt x="238" y="1066"/>
                  </a:lnTo>
                  <a:lnTo>
                    <a:pt x="259" y="1077"/>
                  </a:lnTo>
                  <a:lnTo>
                    <a:pt x="248" y="1097"/>
                  </a:lnTo>
                  <a:lnTo>
                    <a:pt x="248" y="1149"/>
                  </a:lnTo>
                  <a:lnTo>
                    <a:pt x="248" y="1211"/>
                  </a:lnTo>
                  <a:lnTo>
                    <a:pt x="259" y="1315"/>
                  </a:lnTo>
                  <a:lnTo>
                    <a:pt x="259" y="1501"/>
                  </a:lnTo>
                  <a:lnTo>
                    <a:pt x="248" y="1573"/>
                  </a:lnTo>
                  <a:lnTo>
                    <a:pt x="248" y="1646"/>
                  </a:lnTo>
                  <a:lnTo>
                    <a:pt x="248" y="1708"/>
                  </a:lnTo>
                  <a:lnTo>
                    <a:pt x="259" y="1718"/>
                  </a:lnTo>
                  <a:lnTo>
                    <a:pt x="248" y="1780"/>
                  </a:lnTo>
                  <a:lnTo>
                    <a:pt x="248" y="1842"/>
                  </a:lnTo>
                  <a:lnTo>
                    <a:pt x="259" y="1904"/>
                  </a:lnTo>
                  <a:lnTo>
                    <a:pt x="279" y="1998"/>
                  </a:lnTo>
                  <a:lnTo>
                    <a:pt x="290" y="2091"/>
                  </a:lnTo>
                  <a:lnTo>
                    <a:pt x="290" y="2194"/>
                  </a:lnTo>
                  <a:lnTo>
                    <a:pt x="279" y="2287"/>
                  </a:lnTo>
                  <a:lnTo>
                    <a:pt x="259" y="2360"/>
                  </a:lnTo>
                  <a:lnTo>
                    <a:pt x="269" y="2391"/>
                  </a:lnTo>
                  <a:lnTo>
                    <a:pt x="290" y="2411"/>
                  </a:lnTo>
                  <a:lnTo>
                    <a:pt x="321" y="2411"/>
                  </a:lnTo>
                  <a:lnTo>
                    <a:pt x="352" y="2401"/>
                  </a:lnTo>
                  <a:lnTo>
                    <a:pt x="362" y="2391"/>
                  </a:lnTo>
                  <a:lnTo>
                    <a:pt x="372" y="2370"/>
                  </a:lnTo>
                  <a:lnTo>
                    <a:pt x="372" y="2246"/>
                  </a:lnTo>
                  <a:lnTo>
                    <a:pt x="383" y="2246"/>
                  </a:lnTo>
                  <a:lnTo>
                    <a:pt x="372" y="2215"/>
                  </a:lnTo>
                  <a:lnTo>
                    <a:pt x="372" y="2194"/>
                  </a:lnTo>
                  <a:lnTo>
                    <a:pt x="362" y="2184"/>
                  </a:lnTo>
                  <a:lnTo>
                    <a:pt x="352" y="2111"/>
                  </a:lnTo>
                  <a:lnTo>
                    <a:pt x="362" y="2029"/>
                  </a:lnTo>
                  <a:lnTo>
                    <a:pt x="393" y="1904"/>
                  </a:lnTo>
                  <a:lnTo>
                    <a:pt x="393" y="1853"/>
                  </a:lnTo>
                  <a:lnTo>
                    <a:pt x="393" y="1791"/>
                  </a:lnTo>
                  <a:lnTo>
                    <a:pt x="393" y="1718"/>
                  </a:lnTo>
                  <a:lnTo>
                    <a:pt x="538" y="1708"/>
                  </a:lnTo>
                  <a:lnTo>
                    <a:pt x="538" y="1729"/>
                  </a:lnTo>
                  <a:lnTo>
                    <a:pt x="528" y="1791"/>
                  </a:lnTo>
                  <a:lnTo>
                    <a:pt x="528" y="1853"/>
                  </a:lnTo>
                  <a:lnTo>
                    <a:pt x="538" y="1915"/>
                  </a:lnTo>
                  <a:lnTo>
                    <a:pt x="548" y="1956"/>
                  </a:lnTo>
                  <a:lnTo>
                    <a:pt x="559" y="2008"/>
                  </a:lnTo>
                  <a:lnTo>
                    <a:pt x="569" y="2070"/>
                  </a:lnTo>
                  <a:lnTo>
                    <a:pt x="569" y="2142"/>
                  </a:lnTo>
                  <a:lnTo>
                    <a:pt x="559" y="2153"/>
                  </a:lnTo>
                  <a:lnTo>
                    <a:pt x="548" y="2184"/>
                  </a:lnTo>
                  <a:lnTo>
                    <a:pt x="538" y="2194"/>
                  </a:lnTo>
                  <a:lnTo>
                    <a:pt x="548" y="2215"/>
                  </a:lnTo>
                  <a:lnTo>
                    <a:pt x="559" y="2256"/>
                  </a:lnTo>
                  <a:lnTo>
                    <a:pt x="559" y="2329"/>
                  </a:lnTo>
                  <a:lnTo>
                    <a:pt x="590" y="2329"/>
                  </a:lnTo>
                  <a:lnTo>
                    <a:pt x="590" y="2308"/>
                  </a:lnTo>
                  <a:lnTo>
                    <a:pt x="600" y="2318"/>
                  </a:lnTo>
                  <a:lnTo>
                    <a:pt x="600" y="2360"/>
                  </a:lnTo>
                  <a:lnTo>
                    <a:pt x="631" y="2380"/>
                  </a:lnTo>
                  <a:lnTo>
                    <a:pt x="673" y="2380"/>
                  </a:lnTo>
                  <a:lnTo>
                    <a:pt x="724" y="2380"/>
                  </a:lnTo>
                  <a:lnTo>
                    <a:pt x="724" y="2370"/>
                  </a:lnTo>
                  <a:lnTo>
                    <a:pt x="724" y="2349"/>
                  </a:lnTo>
                  <a:lnTo>
                    <a:pt x="704" y="2308"/>
                  </a:lnTo>
                  <a:lnTo>
                    <a:pt x="673" y="2277"/>
                  </a:lnTo>
                  <a:lnTo>
                    <a:pt x="652" y="2205"/>
                  </a:lnTo>
                  <a:lnTo>
                    <a:pt x="642" y="2163"/>
                  </a:lnTo>
                  <a:lnTo>
                    <a:pt x="642" y="2091"/>
                  </a:lnTo>
                  <a:lnTo>
                    <a:pt x="662" y="1956"/>
                  </a:lnTo>
                  <a:lnTo>
                    <a:pt x="673" y="1873"/>
                  </a:lnTo>
                  <a:lnTo>
                    <a:pt x="673" y="1780"/>
                  </a:lnTo>
                  <a:lnTo>
                    <a:pt x="673" y="1687"/>
                  </a:lnTo>
                  <a:lnTo>
                    <a:pt x="704" y="1687"/>
                  </a:lnTo>
                  <a:lnTo>
                    <a:pt x="714" y="1687"/>
                  </a:lnTo>
                  <a:lnTo>
                    <a:pt x="714" y="1677"/>
                  </a:lnTo>
                  <a:lnTo>
                    <a:pt x="714" y="1604"/>
                  </a:lnTo>
                  <a:lnTo>
                    <a:pt x="704" y="1449"/>
                  </a:lnTo>
                  <a:lnTo>
                    <a:pt x="704" y="1242"/>
                  </a:lnTo>
                  <a:lnTo>
                    <a:pt x="662" y="1242"/>
                  </a:lnTo>
                  <a:lnTo>
                    <a:pt x="579" y="952"/>
                  </a:lnTo>
                  <a:lnTo>
                    <a:pt x="579" y="932"/>
                  </a:lnTo>
                  <a:lnTo>
                    <a:pt x="600" y="932"/>
                  </a:lnTo>
                  <a:lnTo>
                    <a:pt x="693" y="1232"/>
                  </a:lnTo>
                  <a:lnTo>
                    <a:pt x="704" y="1232"/>
                  </a:lnTo>
                  <a:lnTo>
                    <a:pt x="745" y="1222"/>
                  </a:lnTo>
                  <a:lnTo>
                    <a:pt x="786" y="1222"/>
                  </a:lnTo>
                  <a:lnTo>
                    <a:pt x="786" y="1232"/>
                  </a:lnTo>
                  <a:lnTo>
                    <a:pt x="776" y="1232"/>
                  </a:lnTo>
                  <a:lnTo>
                    <a:pt x="724" y="1232"/>
                  </a:lnTo>
                  <a:lnTo>
                    <a:pt x="735" y="1242"/>
                  </a:lnTo>
                  <a:lnTo>
                    <a:pt x="766" y="1253"/>
                  </a:lnTo>
                  <a:lnTo>
                    <a:pt x="817" y="1253"/>
                  </a:lnTo>
                  <a:lnTo>
                    <a:pt x="828" y="1232"/>
                  </a:lnTo>
                  <a:lnTo>
                    <a:pt x="838" y="1222"/>
                  </a:lnTo>
                  <a:lnTo>
                    <a:pt x="838" y="1211"/>
                  </a:lnTo>
                  <a:lnTo>
                    <a:pt x="869" y="1201"/>
                  </a:lnTo>
                  <a:lnTo>
                    <a:pt x="838" y="1046"/>
                  </a:lnTo>
                  <a:lnTo>
                    <a:pt x="838" y="1015"/>
                  </a:lnTo>
                  <a:lnTo>
                    <a:pt x="828" y="984"/>
                  </a:lnTo>
                  <a:lnTo>
                    <a:pt x="817" y="921"/>
                  </a:lnTo>
                  <a:lnTo>
                    <a:pt x="817" y="911"/>
                  </a:lnTo>
                  <a:lnTo>
                    <a:pt x="817" y="880"/>
                  </a:lnTo>
                  <a:lnTo>
                    <a:pt x="817" y="870"/>
                  </a:lnTo>
                  <a:lnTo>
                    <a:pt x="807" y="828"/>
                  </a:lnTo>
                  <a:lnTo>
                    <a:pt x="786" y="777"/>
                  </a:lnTo>
                  <a:lnTo>
                    <a:pt x="776" y="735"/>
                  </a:lnTo>
                  <a:lnTo>
                    <a:pt x="766" y="694"/>
                  </a:lnTo>
                  <a:lnTo>
                    <a:pt x="755" y="621"/>
                  </a:lnTo>
                  <a:lnTo>
                    <a:pt x="755" y="611"/>
                  </a:lnTo>
                  <a:lnTo>
                    <a:pt x="745" y="518"/>
                  </a:lnTo>
                  <a:lnTo>
                    <a:pt x="724" y="445"/>
                  </a:lnTo>
                  <a:lnTo>
                    <a:pt x="724" y="435"/>
                  </a:lnTo>
                  <a:lnTo>
                    <a:pt x="714" y="425"/>
                  </a:lnTo>
                  <a:lnTo>
                    <a:pt x="704" y="425"/>
                  </a:lnTo>
                  <a:lnTo>
                    <a:pt x="693" y="425"/>
                  </a:lnTo>
                  <a:lnTo>
                    <a:pt x="683" y="414"/>
                  </a:lnTo>
                  <a:lnTo>
                    <a:pt x="683" y="394"/>
                  </a:lnTo>
                  <a:lnTo>
                    <a:pt x="673" y="383"/>
                  </a:lnTo>
                  <a:lnTo>
                    <a:pt x="662" y="383"/>
                  </a:lnTo>
                  <a:lnTo>
                    <a:pt x="652" y="363"/>
                  </a:lnTo>
                  <a:lnTo>
                    <a:pt x="652" y="332"/>
                  </a:lnTo>
                  <a:lnTo>
                    <a:pt x="642" y="311"/>
                  </a:lnTo>
                  <a:lnTo>
                    <a:pt x="642" y="301"/>
                  </a:lnTo>
                  <a:lnTo>
                    <a:pt x="621" y="218"/>
                  </a:lnTo>
                  <a:lnTo>
                    <a:pt x="610" y="125"/>
                  </a:lnTo>
                  <a:lnTo>
                    <a:pt x="579" y="63"/>
                  </a:lnTo>
                  <a:lnTo>
                    <a:pt x="559" y="32"/>
                  </a:lnTo>
                  <a:lnTo>
                    <a:pt x="528" y="11"/>
                  </a:lnTo>
                  <a:lnTo>
                    <a:pt x="507" y="0"/>
                  </a:lnTo>
                  <a:lnTo>
                    <a:pt x="486" y="0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24" y="0"/>
                  </a:lnTo>
                  <a:lnTo>
                    <a:pt x="404" y="21"/>
                  </a:lnTo>
                  <a:lnTo>
                    <a:pt x="372" y="52"/>
                  </a:lnTo>
                  <a:lnTo>
                    <a:pt x="352" y="125"/>
                  </a:lnTo>
                  <a:lnTo>
                    <a:pt x="331" y="176"/>
                  </a:lnTo>
                  <a:lnTo>
                    <a:pt x="331" y="228"/>
                  </a:lnTo>
                  <a:lnTo>
                    <a:pt x="331" y="280"/>
                  </a:lnTo>
                  <a:lnTo>
                    <a:pt x="321" y="321"/>
                  </a:lnTo>
                  <a:lnTo>
                    <a:pt x="310" y="363"/>
                  </a:lnTo>
                  <a:lnTo>
                    <a:pt x="217" y="383"/>
                  </a:lnTo>
                  <a:lnTo>
                    <a:pt x="207" y="383"/>
                  </a:lnTo>
                  <a:lnTo>
                    <a:pt x="186" y="404"/>
                  </a:lnTo>
                  <a:lnTo>
                    <a:pt x="155" y="466"/>
                  </a:lnTo>
                  <a:lnTo>
                    <a:pt x="124" y="528"/>
                  </a:lnTo>
                  <a:lnTo>
                    <a:pt x="62" y="611"/>
                  </a:lnTo>
                  <a:lnTo>
                    <a:pt x="31" y="652"/>
                  </a:lnTo>
                  <a:lnTo>
                    <a:pt x="21" y="663"/>
                  </a:lnTo>
                  <a:lnTo>
                    <a:pt x="0" y="714"/>
                  </a:lnTo>
                  <a:lnTo>
                    <a:pt x="0" y="725"/>
                  </a:lnTo>
                  <a:lnTo>
                    <a:pt x="0" y="746"/>
                  </a:lnTo>
                  <a:close/>
                  <a:moveTo>
                    <a:pt x="652" y="673"/>
                  </a:moveTo>
                  <a:lnTo>
                    <a:pt x="652" y="673"/>
                  </a:lnTo>
                  <a:lnTo>
                    <a:pt x="662" y="652"/>
                  </a:lnTo>
                  <a:lnTo>
                    <a:pt x="673" y="683"/>
                  </a:lnTo>
                  <a:lnTo>
                    <a:pt x="673" y="704"/>
                  </a:lnTo>
                  <a:lnTo>
                    <a:pt x="673" y="714"/>
                  </a:lnTo>
                  <a:lnTo>
                    <a:pt x="683" y="797"/>
                  </a:lnTo>
                  <a:lnTo>
                    <a:pt x="693" y="849"/>
                  </a:lnTo>
                  <a:lnTo>
                    <a:pt x="714" y="880"/>
                  </a:lnTo>
                  <a:lnTo>
                    <a:pt x="714" y="901"/>
                  </a:lnTo>
                  <a:lnTo>
                    <a:pt x="724" y="921"/>
                  </a:lnTo>
                  <a:lnTo>
                    <a:pt x="652" y="921"/>
                  </a:lnTo>
                  <a:lnTo>
                    <a:pt x="642" y="849"/>
                  </a:lnTo>
                  <a:lnTo>
                    <a:pt x="642" y="766"/>
                  </a:lnTo>
                  <a:lnTo>
                    <a:pt x="652" y="673"/>
                  </a:lnTo>
                  <a:close/>
                  <a:moveTo>
                    <a:pt x="93" y="735"/>
                  </a:moveTo>
                  <a:lnTo>
                    <a:pt x="93" y="735"/>
                  </a:lnTo>
                  <a:lnTo>
                    <a:pt x="145" y="683"/>
                  </a:lnTo>
                  <a:lnTo>
                    <a:pt x="186" y="632"/>
                  </a:lnTo>
                  <a:lnTo>
                    <a:pt x="217" y="580"/>
                  </a:lnTo>
                  <a:lnTo>
                    <a:pt x="238" y="570"/>
                  </a:lnTo>
                  <a:lnTo>
                    <a:pt x="248" y="580"/>
                  </a:lnTo>
                  <a:lnTo>
                    <a:pt x="259" y="590"/>
                  </a:lnTo>
                  <a:lnTo>
                    <a:pt x="279" y="611"/>
                  </a:lnTo>
                  <a:lnTo>
                    <a:pt x="290" y="642"/>
                  </a:lnTo>
                  <a:lnTo>
                    <a:pt x="300" y="714"/>
                  </a:lnTo>
                  <a:lnTo>
                    <a:pt x="300" y="777"/>
                  </a:lnTo>
                  <a:lnTo>
                    <a:pt x="300" y="828"/>
                  </a:lnTo>
                  <a:lnTo>
                    <a:pt x="290" y="880"/>
                  </a:lnTo>
                  <a:lnTo>
                    <a:pt x="279" y="911"/>
                  </a:lnTo>
                  <a:lnTo>
                    <a:pt x="279" y="921"/>
                  </a:lnTo>
                  <a:lnTo>
                    <a:pt x="269" y="963"/>
                  </a:lnTo>
                  <a:lnTo>
                    <a:pt x="259" y="973"/>
                  </a:lnTo>
                  <a:lnTo>
                    <a:pt x="248" y="973"/>
                  </a:lnTo>
                  <a:lnTo>
                    <a:pt x="197" y="973"/>
                  </a:lnTo>
                  <a:lnTo>
                    <a:pt x="197" y="963"/>
                  </a:lnTo>
                  <a:lnTo>
                    <a:pt x="207" y="952"/>
                  </a:lnTo>
                  <a:lnTo>
                    <a:pt x="155" y="880"/>
                  </a:lnTo>
                  <a:lnTo>
                    <a:pt x="155" y="870"/>
                  </a:lnTo>
                  <a:lnTo>
                    <a:pt x="134" y="808"/>
                  </a:lnTo>
                  <a:lnTo>
                    <a:pt x="93" y="735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14400" y="249120"/>
            <a:ext cx="10096560" cy="1030320"/>
            <a:chOff x="-14400" y="249120"/>
            <a:chExt cx="10096560" cy="1030320"/>
          </a:xfrm>
        </p:grpSpPr>
        <p:pic>
          <p:nvPicPr>
            <p:cNvPr id="140" name="燕尾形 2460" descr=""/>
            <p:cNvPicPr/>
            <p:nvPr/>
          </p:nvPicPr>
          <p:blipFill>
            <a:blip r:embed="rId4"/>
            <a:stretch/>
          </p:blipFill>
          <p:spPr>
            <a:xfrm>
              <a:off x="-14400" y="249120"/>
              <a:ext cx="10096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59920" y="269640"/>
              <a:ext cx="95569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2540"/>
          <p:cNvSpPr/>
          <p:nvPr/>
        </p:nvSpPr>
        <p:spPr>
          <a:xfrm>
            <a:off x="1785960" y="50004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87480" y="249120"/>
            <a:ext cx="1386000" cy="1030320"/>
            <a:chOff x="-87480" y="249120"/>
            <a:chExt cx="1386000" cy="1030320"/>
          </a:xfrm>
        </p:grpSpPr>
        <p:pic>
          <p:nvPicPr>
            <p:cNvPr id="144" name="五边形 2459" descr=""/>
            <p:cNvPicPr/>
            <p:nvPr/>
          </p:nvPicPr>
          <p:blipFill>
            <a:blip r:embed="rId5"/>
            <a:stretch/>
          </p:blipFill>
          <p:spPr>
            <a:xfrm>
              <a:off x="-87480" y="249120"/>
              <a:ext cx="138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66960" y="269640"/>
              <a:ext cx="12243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2536"/>
          <p:cNvSpPr/>
          <p:nvPr/>
        </p:nvSpPr>
        <p:spPr>
          <a:xfrm>
            <a:off x="285840" y="447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矩形 2192" descr=""/>
          <p:cNvPicPr/>
          <p:nvPr/>
        </p:nvPicPr>
        <p:blipFill>
          <a:blip r:embed="rId6"/>
          <a:stretch/>
        </p:blipFill>
        <p:spPr>
          <a:xfrm>
            <a:off x="2901960" y="-1111320"/>
            <a:ext cx="3340080" cy="708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36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组合 825" descr=""/>
          <p:cNvPicPr/>
          <p:nvPr/>
        </p:nvPicPr>
        <p:blipFill>
          <a:blip r:embed="rId1"/>
          <a:stretch/>
        </p:blipFill>
        <p:spPr>
          <a:xfrm>
            <a:off x="493560" y="2992320"/>
            <a:ext cx="3792600" cy="387216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2181" descr=""/>
          <p:cNvPicPr/>
          <p:nvPr/>
        </p:nvPicPr>
        <p:blipFill>
          <a:blip r:embed="rId2"/>
          <a:stretch/>
        </p:blipFill>
        <p:spPr>
          <a:xfrm>
            <a:off x="-372960" y="420840"/>
            <a:ext cx="10821960" cy="404784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472"/>
          <p:cNvSpPr/>
          <p:nvPr/>
        </p:nvSpPr>
        <p:spPr>
          <a:xfrm>
            <a:off x="1838160" y="2003400"/>
            <a:ext cx="244800" cy="326880"/>
          </a:xfrm>
          <a:custGeom>
            <a:avLst/>
            <a:gdLst>
              <a:gd name="textAreaLeft" fmla="*/ 0 w 244800"/>
              <a:gd name="textAreaRight" fmla="*/ 245160 w 24480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280" h="372">
                <a:moveTo>
                  <a:pt x="135" y="41"/>
                </a:moveTo>
                <a:lnTo>
                  <a:pt x="135" y="41"/>
                </a:lnTo>
                <a:lnTo>
                  <a:pt x="114" y="31"/>
                </a:lnTo>
                <a:lnTo>
                  <a:pt x="104" y="20"/>
                </a:lnTo>
                <a:lnTo>
                  <a:pt x="73" y="0"/>
                </a:lnTo>
                <a:lnTo>
                  <a:pt x="52" y="0"/>
                </a:lnTo>
                <a:lnTo>
                  <a:pt x="21" y="0"/>
                </a:lnTo>
                <a:lnTo>
                  <a:pt x="11" y="20"/>
                </a:lnTo>
                <a:lnTo>
                  <a:pt x="0" y="41"/>
                </a:lnTo>
                <a:lnTo>
                  <a:pt x="0" y="83"/>
                </a:lnTo>
                <a:lnTo>
                  <a:pt x="11" y="124"/>
                </a:lnTo>
                <a:lnTo>
                  <a:pt x="42" y="196"/>
                </a:lnTo>
                <a:lnTo>
                  <a:pt x="73" y="279"/>
                </a:lnTo>
                <a:lnTo>
                  <a:pt x="94" y="372"/>
                </a:lnTo>
                <a:lnTo>
                  <a:pt x="125" y="362"/>
                </a:lnTo>
                <a:lnTo>
                  <a:pt x="145" y="341"/>
                </a:lnTo>
                <a:lnTo>
                  <a:pt x="197" y="341"/>
                </a:lnTo>
                <a:lnTo>
                  <a:pt x="228" y="341"/>
                </a:lnTo>
                <a:lnTo>
                  <a:pt x="249" y="331"/>
                </a:lnTo>
                <a:lnTo>
                  <a:pt x="269" y="310"/>
                </a:lnTo>
                <a:lnTo>
                  <a:pt x="280" y="269"/>
                </a:lnTo>
                <a:lnTo>
                  <a:pt x="280" y="238"/>
                </a:lnTo>
                <a:lnTo>
                  <a:pt x="269" y="196"/>
                </a:lnTo>
                <a:lnTo>
                  <a:pt x="249" y="165"/>
                </a:lnTo>
                <a:lnTo>
                  <a:pt x="228" y="134"/>
                </a:lnTo>
                <a:lnTo>
                  <a:pt x="197" y="103"/>
                </a:lnTo>
                <a:lnTo>
                  <a:pt x="187" y="72"/>
                </a:lnTo>
                <a:lnTo>
                  <a:pt x="135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74"/>
          <p:cNvSpPr/>
          <p:nvPr/>
        </p:nvSpPr>
        <p:spPr>
          <a:xfrm>
            <a:off x="1782720" y="1541520"/>
            <a:ext cx="109440" cy="217440"/>
          </a:xfrm>
          <a:custGeom>
            <a:avLst/>
            <a:gdLst>
              <a:gd name="textAreaLeft" fmla="*/ 0 w 109440"/>
              <a:gd name="textAreaRight" fmla="*/ 109800 w 109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" h="248">
                <a:moveTo>
                  <a:pt x="73" y="0"/>
                </a:moveTo>
                <a:lnTo>
                  <a:pt x="73" y="0"/>
                </a:lnTo>
                <a:lnTo>
                  <a:pt x="52" y="31"/>
                </a:lnTo>
                <a:lnTo>
                  <a:pt x="21" y="103"/>
                </a:lnTo>
                <a:lnTo>
                  <a:pt x="11" y="176"/>
                </a:lnTo>
                <a:lnTo>
                  <a:pt x="0" y="248"/>
                </a:lnTo>
                <a:lnTo>
                  <a:pt x="11" y="228"/>
                </a:lnTo>
                <a:lnTo>
                  <a:pt x="11" y="217"/>
                </a:lnTo>
                <a:lnTo>
                  <a:pt x="21" y="197"/>
                </a:lnTo>
                <a:lnTo>
                  <a:pt x="31" y="176"/>
                </a:lnTo>
                <a:lnTo>
                  <a:pt x="31" y="145"/>
                </a:lnTo>
                <a:lnTo>
                  <a:pt x="42" y="114"/>
                </a:lnTo>
                <a:lnTo>
                  <a:pt x="52" y="93"/>
                </a:lnTo>
                <a:lnTo>
                  <a:pt x="73" y="83"/>
                </a:lnTo>
                <a:lnTo>
                  <a:pt x="104" y="83"/>
                </a:lnTo>
                <a:lnTo>
                  <a:pt x="124" y="93"/>
                </a:lnTo>
                <a:lnTo>
                  <a:pt x="93" y="41"/>
                </a:lnTo>
                <a:lnTo>
                  <a:pt x="83" y="21"/>
                </a:lnTo>
                <a:lnTo>
                  <a:pt x="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75"/>
          <p:cNvSpPr/>
          <p:nvPr/>
        </p:nvSpPr>
        <p:spPr>
          <a:xfrm>
            <a:off x="1655640" y="1549440"/>
            <a:ext cx="136800" cy="209520"/>
          </a:xfrm>
          <a:custGeom>
            <a:avLst/>
            <a:gdLst>
              <a:gd name="textAreaLeft" fmla="*/ 0 w 136800"/>
              <a:gd name="textAreaRight" fmla="*/ 137160 w 1368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56" h="238">
                <a:moveTo>
                  <a:pt x="52" y="0"/>
                </a:moveTo>
                <a:lnTo>
                  <a:pt x="52" y="0"/>
                </a:lnTo>
                <a:lnTo>
                  <a:pt x="73" y="11"/>
                </a:lnTo>
                <a:lnTo>
                  <a:pt x="94" y="42"/>
                </a:lnTo>
                <a:lnTo>
                  <a:pt x="114" y="93"/>
                </a:lnTo>
                <a:lnTo>
                  <a:pt x="145" y="156"/>
                </a:lnTo>
                <a:lnTo>
                  <a:pt x="156" y="197"/>
                </a:lnTo>
                <a:lnTo>
                  <a:pt x="145" y="238"/>
                </a:lnTo>
                <a:lnTo>
                  <a:pt x="135" y="197"/>
                </a:lnTo>
                <a:lnTo>
                  <a:pt x="114" y="156"/>
                </a:lnTo>
                <a:lnTo>
                  <a:pt x="94" y="93"/>
                </a:lnTo>
                <a:lnTo>
                  <a:pt x="63" y="62"/>
                </a:lnTo>
                <a:lnTo>
                  <a:pt x="42" y="52"/>
                </a:lnTo>
                <a:lnTo>
                  <a:pt x="31" y="62"/>
                </a:lnTo>
                <a:lnTo>
                  <a:pt x="0" y="73"/>
                </a:lnTo>
                <a:lnTo>
                  <a:pt x="11" y="62"/>
                </a:lnTo>
                <a:lnTo>
                  <a:pt x="21" y="42"/>
                </a:lnTo>
                <a:lnTo>
                  <a:pt x="31" y="31"/>
                </a:lnTo>
                <a:lnTo>
                  <a:pt x="42" y="21"/>
                </a:lnTo>
                <a:lnTo>
                  <a:pt x="42" y="11"/>
                </a:lnTo>
                <a:lnTo>
                  <a:pt x="5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69"/>
          <p:cNvSpPr/>
          <p:nvPr/>
        </p:nvSpPr>
        <p:spPr>
          <a:xfrm flipV="1">
            <a:off x="2033640" y="2786040"/>
            <a:ext cx="824040" cy="1689120"/>
          </a:xfrm>
          <a:custGeom>
            <a:avLst/>
            <a:gdLst>
              <a:gd name="textAreaLeft" fmla="*/ 0 w 824040"/>
              <a:gd name="textAreaRight" fmla="*/ 824400 w 824040"/>
              <a:gd name="textAreaTop" fmla="*/ 0 h 1689120"/>
              <a:gd name="textAreaBottom" fmla="*/ 1689120 h 1689120"/>
            </a:gdLst>
            <a:ahLst/>
            <a:rect l="textAreaLeft" t="textAreaTop" r="textAreaRight" b="textAreaBottom"/>
            <a:pathLst>
              <a:path w="932" h="2091">
                <a:moveTo>
                  <a:pt x="921" y="870"/>
                </a:moveTo>
                <a:lnTo>
                  <a:pt x="921" y="756"/>
                </a:lnTo>
                <a:lnTo>
                  <a:pt x="901" y="683"/>
                </a:lnTo>
                <a:lnTo>
                  <a:pt x="901" y="590"/>
                </a:lnTo>
                <a:lnTo>
                  <a:pt x="890" y="487"/>
                </a:lnTo>
                <a:lnTo>
                  <a:pt x="880" y="435"/>
                </a:lnTo>
                <a:lnTo>
                  <a:pt x="880" y="435"/>
                </a:lnTo>
                <a:lnTo>
                  <a:pt x="870" y="425"/>
                </a:lnTo>
                <a:lnTo>
                  <a:pt x="849" y="414"/>
                </a:lnTo>
                <a:lnTo>
                  <a:pt x="745" y="363"/>
                </a:lnTo>
                <a:lnTo>
                  <a:pt x="735" y="332"/>
                </a:lnTo>
                <a:lnTo>
                  <a:pt x="756" y="311"/>
                </a:lnTo>
                <a:lnTo>
                  <a:pt x="776" y="270"/>
                </a:lnTo>
                <a:lnTo>
                  <a:pt x="776" y="187"/>
                </a:lnTo>
                <a:lnTo>
                  <a:pt x="787" y="156"/>
                </a:lnTo>
                <a:lnTo>
                  <a:pt x="787" y="156"/>
                </a:lnTo>
                <a:lnTo>
                  <a:pt x="776" y="135"/>
                </a:lnTo>
                <a:lnTo>
                  <a:pt x="756" y="104"/>
                </a:lnTo>
                <a:lnTo>
                  <a:pt x="735" y="94"/>
                </a:lnTo>
                <a:lnTo>
                  <a:pt x="714" y="83"/>
                </a:lnTo>
                <a:lnTo>
                  <a:pt x="683" y="94"/>
                </a:lnTo>
                <a:lnTo>
                  <a:pt x="642" y="125"/>
                </a:lnTo>
                <a:lnTo>
                  <a:pt x="642" y="125"/>
                </a:lnTo>
                <a:lnTo>
                  <a:pt x="642" y="145"/>
                </a:lnTo>
                <a:lnTo>
                  <a:pt x="632" y="187"/>
                </a:lnTo>
                <a:lnTo>
                  <a:pt x="632" y="187"/>
                </a:lnTo>
                <a:lnTo>
                  <a:pt x="621" y="187"/>
                </a:lnTo>
                <a:lnTo>
                  <a:pt x="611" y="197"/>
                </a:lnTo>
                <a:lnTo>
                  <a:pt x="611" y="218"/>
                </a:lnTo>
                <a:lnTo>
                  <a:pt x="611" y="218"/>
                </a:lnTo>
                <a:lnTo>
                  <a:pt x="611" y="238"/>
                </a:lnTo>
                <a:lnTo>
                  <a:pt x="621" y="249"/>
                </a:lnTo>
                <a:lnTo>
                  <a:pt x="632" y="238"/>
                </a:lnTo>
                <a:lnTo>
                  <a:pt x="632" y="290"/>
                </a:lnTo>
                <a:lnTo>
                  <a:pt x="621" y="311"/>
                </a:lnTo>
                <a:lnTo>
                  <a:pt x="611" y="332"/>
                </a:lnTo>
                <a:lnTo>
                  <a:pt x="580" y="363"/>
                </a:lnTo>
                <a:lnTo>
                  <a:pt x="507" y="383"/>
                </a:lnTo>
                <a:lnTo>
                  <a:pt x="507" y="383"/>
                </a:lnTo>
                <a:lnTo>
                  <a:pt x="435" y="342"/>
                </a:lnTo>
                <a:lnTo>
                  <a:pt x="373" y="321"/>
                </a:lnTo>
                <a:lnTo>
                  <a:pt x="331" y="311"/>
                </a:lnTo>
                <a:lnTo>
                  <a:pt x="311" y="270"/>
                </a:lnTo>
                <a:lnTo>
                  <a:pt x="311" y="270"/>
                </a:lnTo>
                <a:lnTo>
                  <a:pt x="300" y="197"/>
                </a:lnTo>
                <a:lnTo>
                  <a:pt x="300" y="197"/>
                </a:lnTo>
                <a:lnTo>
                  <a:pt x="321" y="166"/>
                </a:lnTo>
                <a:lnTo>
                  <a:pt x="321" y="135"/>
                </a:lnTo>
                <a:lnTo>
                  <a:pt x="321" y="135"/>
                </a:lnTo>
                <a:lnTo>
                  <a:pt x="311" y="125"/>
                </a:lnTo>
                <a:lnTo>
                  <a:pt x="300" y="83"/>
                </a:lnTo>
                <a:lnTo>
                  <a:pt x="300" y="83"/>
                </a:lnTo>
                <a:lnTo>
                  <a:pt x="290" y="52"/>
                </a:lnTo>
                <a:lnTo>
                  <a:pt x="269" y="32"/>
                </a:lnTo>
                <a:lnTo>
                  <a:pt x="259" y="21"/>
                </a:lnTo>
                <a:lnTo>
                  <a:pt x="259" y="21"/>
                </a:lnTo>
                <a:lnTo>
                  <a:pt x="228" y="0"/>
                </a:lnTo>
                <a:lnTo>
                  <a:pt x="197" y="0"/>
                </a:lnTo>
                <a:lnTo>
                  <a:pt x="156" y="21"/>
                </a:lnTo>
                <a:lnTo>
                  <a:pt x="156" y="21"/>
                </a:lnTo>
                <a:lnTo>
                  <a:pt x="135" y="42"/>
                </a:lnTo>
                <a:lnTo>
                  <a:pt x="125" y="63"/>
                </a:lnTo>
                <a:lnTo>
                  <a:pt x="114" y="83"/>
                </a:lnTo>
                <a:lnTo>
                  <a:pt x="114" y="83"/>
                </a:lnTo>
                <a:lnTo>
                  <a:pt x="114" y="104"/>
                </a:lnTo>
                <a:lnTo>
                  <a:pt x="125" y="156"/>
                </a:lnTo>
                <a:lnTo>
                  <a:pt x="125" y="156"/>
                </a:lnTo>
                <a:lnTo>
                  <a:pt x="125" y="187"/>
                </a:lnTo>
                <a:lnTo>
                  <a:pt x="125" y="207"/>
                </a:lnTo>
                <a:lnTo>
                  <a:pt x="145" y="228"/>
                </a:lnTo>
                <a:lnTo>
                  <a:pt x="145" y="228"/>
                </a:lnTo>
                <a:lnTo>
                  <a:pt x="166" y="280"/>
                </a:lnTo>
                <a:lnTo>
                  <a:pt x="176" y="321"/>
                </a:lnTo>
                <a:lnTo>
                  <a:pt x="166" y="352"/>
                </a:lnTo>
                <a:lnTo>
                  <a:pt x="104" y="373"/>
                </a:lnTo>
                <a:lnTo>
                  <a:pt x="93" y="383"/>
                </a:lnTo>
                <a:lnTo>
                  <a:pt x="93" y="383"/>
                </a:lnTo>
                <a:lnTo>
                  <a:pt x="93" y="383"/>
                </a:lnTo>
                <a:lnTo>
                  <a:pt x="93" y="383"/>
                </a:lnTo>
                <a:lnTo>
                  <a:pt x="73" y="404"/>
                </a:lnTo>
                <a:lnTo>
                  <a:pt x="42" y="425"/>
                </a:lnTo>
                <a:lnTo>
                  <a:pt x="42" y="425"/>
                </a:lnTo>
                <a:lnTo>
                  <a:pt x="31" y="445"/>
                </a:lnTo>
                <a:lnTo>
                  <a:pt x="31" y="466"/>
                </a:lnTo>
                <a:lnTo>
                  <a:pt x="31" y="508"/>
                </a:lnTo>
                <a:lnTo>
                  <a:pt x="31" y="508"/>
                </a:lnTo>
                <a:lnTo>
                  <a:pt x="42" y="601"/>
                </a:lnTo>
                <a:lnTo>
                  <a:pt x="31" y="694"/>
                </a:lnTo>
                <a:lnTo>
                  <a:pt x="31" y="694"/>
                </a:lnTo>
                <a:lnTo>
                  <a:pt x="11" y="839"/>
                </a:lnTo>
                <a:lnTo>
                  <a:pt x="11" y="839"/>
                </a:lnTo>
                <a:lnTo>
                  <a:pt x="0" y="901"/>
                </a:lnTo>
                <a:lnTo>
                  <a:pt x="11" y="932"/>
                </a:lnTo>
                <a:lnTo>
                  <a:pt x="31" y="952"/>
                </a:lnTo>
                <a:lnTo>
                  <a:pt x="31" y="952"/>
                </a:lnTo>
                <a:lnTo>
                  <a:pt x="52" y="994"/>
                </a:lnTo>
                <a:lnTo>
                  <a:pt x="52" y="1025"/>
                </a:lnTo>
                <a:lnTo>
                  <a:pt x="62" y="1118"/>
                </a:lnTo>
                <a:lnTo>
                  <a:pt x="62" y="1118"/>
                </a:lnTo>
                <a:lnTo>
                  <a:pt x="73" y="1190"/>
                </a:lnTo>
                <a:lnTo>
                  <a:pt x="73" y="1232"/>
                </a:lnTo>
                <a:lnTo>
                  <a:pt x="73" y="1273"/>
                </a:lnTo>
                <a:lnTo>
                  <a:pt x="73" y="1273"/>
                </a:lnTo>
                <a:lnTo>
                  <a:pt x="73" y="1294"/>
                </a:lnTo>
                <a:lnTo>
                  <a:pt x="93" y="1397"/>
                </a:lnTo>
                <a:lnTo>
                  <a:pt x="104" y="1491"/>
                </a:lnTo>
                <a:lnTo>
                  <a:pt x="104" y="1635"/>
                </a:lnTo>
                <a:lnTo>
                  <a:pt x="145" y="1749"/>
                </a:lnTo>
                <a:lnTo>
                  <a:pt x="125" y="1801"/>
                </a:lnTo>
                <a:lnTo>
                  <a:pt x="93" y="1832"/>
                </a:lnTo>
                <a:lnTo>
                  <a:pt x="93" y="1904"/>
                </a:lnTo>
                <a:lnTo>
                  <a:pt x="145" y="1904"/>
                </a:lnTo>
                <a:lnTo>
                  <a:pt x="187" y="1873"/>
                </a:lnTo>
                <a:lnTo>
                  <a:pt x="187" y="1873"/>
                </a:lnTo>
                <a:lnTo>
                  <a:pt x="197" y="1863"/>
                </a:lnTo>
                <a:lnTo>
                  <a:pt x="207" y="1853"/>
                </a:lnTo>
                <a:lnTo>
                  <a:pt x="207" y="1822"/>
                </a:lnTo>
                <a:lnTo>
                  <a:pt x="207" y="1801"/>
                </a:lnTo>
                <a:lnTo>
                  <a:pt x="218" y="1801"/>
                </a:lnTo>
                <a:lnTo>
                  <a:pt x="238" y="1780"/>
                </a:lnTo>
                <a:lnTo>
                  <a:pt x="238" y="1749"/>
                </a:lnTo>
                <a:lnTo>
                  <a:pt x="228" y="1718"/>
                </a:lnTo>
                <a:lnTo>
                  <a:pt x="238" y="1656"/>
                </a:lnTo>
                <a:lnTo>
                  <a:pt x="238" y="1625"/>
                </a:lnTo>
                <a:lnTo>
                  <a:pt x="218" y="1563"/>
                </a:lnTo>
                <a:lnTo>
                  <a:pt x="218" y="1491"/>
                </a:lnTo>
                <a:lnTo>
                  <a:pt x="207" y="1387"/>
                </a:lnTo>
                <a:lnTo>
                  <a:pt x="228" y="1304"/>
                </a:lnTo>
                <a:lnTo>
                  <a:pt x="228" y="1222"/>
                </a:lnTo>
                <a:lnTo>
                  <a:pt x="228" y="1190"/>
                </a:lnTo>
                <a:lnTo>
                  <a:pt x="238" y="1170"/>
                </a:lnTo>
                <a:lnTo>
                  <a:pt x="238" y="1190"/>
                </a:lnTo>
                <a:lnTo>
                  <a:pt x="238" y="1190"/>
                </a:lnTo>
                <a:lnTo>
                  <a:pt x="269" y="1294"/>
                </a:lnTo>
                <a:lnTo>
                  <a:pt x="269" y="1294"/>
                </a:lnTo>
                <a:lnTo>
                  <a:pt x="280" y="1346"/>
                </a:lnTo>
                <a:lnTo>
                  <a:pt x="269" y="1356"/>
                </a:lnTo>
                <a:lnTo>
                  <a:pt x="269" y="1584"/>
                </a:lnTo>
                <a:lnTo>
                  <a:pt x="280" y="1677"/>
                </a:lnTo>
                <a:lnTo>
                  <a:pt x="290" y="1801"/>
                </a:lnTo>
                <a:lnTo>
                  <a:pt x="300" y="1842"/>
                </a:lnTo>
                <a:lnTo>
                  <a:pt x="300" y="1842"/>
                </a:lnTo>
                <a:lnTo>
                  <a:pt x="311" y="1863"/>
                </a:lnTo>
                <a:lnTo>
                  <a:pt x="311" y="1873"/>
                </a:lnTo>
                <a:lnTo>
                  <a:pt x="311" y="1884"/>
                </a:lnTo>
                <a:lnTo>
                  <a:pt x="311" y="1884"/>
                </a:lnTo>
                <a:lnTo>
                  <a:pt x="300" y="1904"/>
                </a:lnTo>
                <a:lnTo>
                  <a:pt x="300" y="1925"/>
                </a:lnTo>
                <a:lnTo>
                  <a:pt x="300" y="1935"/>
                </a:lnTo>
                <a:lnTo>
                  <a:pt x="321" y="1967"/>
                </a:lnTo>
                <a:lnTo>
                  <a:pt x="342" y="1967"/>
                </a:lnTo>
                <a:lnTo>
                  <a:pt x="342" y="1998"/>
                </a:lnTo>
                <a:lnTo>
                  <a:pt x="342" y="1998"/>
                </a:lnTo>
                <a:lnTo>
                  <a:pt x="342" y="2018"/>
                </a:lnTo>
                <a:lnTo>
                  <a:pt x="352" y="2039"/>
                </a:lnTo>
                <a:lnTo>
                  <a:pt x="363" y="2060"/>
                </a:lnTo>
                <a:lnTo>
                  <a:pt x="363" y="2060"/>
                </a:lnTo>
                <a:lnTo>
                  <a:pt x="394" y="2091"/>
                </a:lnTo>
                <a:lnTo>
                  <a:pt x="404" y="2091"/>
                </a:lnTo>
                <a:lnTo>
                  <a:pt x="466" y="2091"/>
                </a:lnTo>
                <a:lnTo>
                  <a:pt x="466" y="2018"/>
                </a:lnTo>
                <a:lnTo>
                  <a:pt x="456" y="1998"/>
                </a:lnTo>
                <a:lnTo>
                  <a:pt x="425" y="1925"/>
                </a:lnTo>
                <a:lnTo>
                  <a:pt x="414" y="1904"/>
                </a:lnTo>
                <a:lnTo>
                  <a:pt x="425" y="1853"/>
                </a:lnTo>
                <a:lnTo>
                  <a:pt x="425" y="1760"/>
                </a:lnTo>
                <a:lnTo>
                  <a:pt x="435" y="1656"/>
                </a:lnTo>
                <a:lnTo>
                  <a:pt x="425" y="1563"/>
                </a:lnTo>
                <a:lnTo>
                  <a:pt x="425" y="1480"/>
                </a:lnTo>
                <a:lnTo>
                  <a:pt x="414" y="1377"/>
                </a:lnTo>
                <a:lnTo>
                  <a:pt x="425" y="1315"/>
                </a:lnTo>
                <a:lnTo>
                  <a:pt x="425" y="1253"/>
                </a:lnTo>
                <a:lnTo>
                  <a:pt x="425" y="1139"/>
                </a:lnTo>
                <a:lnTo>
                  <a:pt x="414" y="1066"/>
                </a:lnTo>
                <a:lnTo>
                  <a:pt x="404" y="1015"/>
                </a:lnTo>
                <a:lnTo>
                  <a:pt x="404" y="1004"/>
                </a:lnTo>
                <a:lnTo>
                  <a:pt x="414" y="994"/>
                </a:lnTo>
                <a:lnTo>
                  <a:pt x="435" y="1004"/>
                </a:lnTo>
                <a:lnTo>
                  <a:pt x="445" y="984"/>
                </a:lnTo>
                <a:lnTo>
                  <a:pt x="456" y="973"/>
                </a:lnTo>
                <a:lnTo>
                  <a:pt x="487" y="1015"/>
                </a:lnTo>
                <a:lnTo>
                  <a:pt x="497" y="1015"/>
                </a:lnTo>
                <a:lnTo>
                  <a:pt x="497" y="1046"/>
                </a:lnTo>
                <a:lnTo>
                  <a:pt x="507" y="1077"/>
                </a:lnTo>
                <a:lnTo>
                  <a:pt x="507" y="1273"/>
                </a:lnTo>
                <a:lnTo>
                  <a:pt x="487" y="1335"/>
                </a:lnTo>
                <a:lnTo>
                  <a:pt x="476" y="1387"/>
                </a:lnTo>
                <a:lnTo>
                  <a:pt x="476" y="1449"/>
                </a:lnTo>
                <a:lnTo>
                  <a:pt x="456" y="1522"/>
                </a:lnTo>
                <a:lnTo>
                  <a:pt x="445" y="1584"/>
                </a:lnTo>
                <a:lnTo>
                  <a:pt x="445" y="1677"/>
                </a:lnTo>
                <a:lnTo>
                  <a:pt x="456" y="1687"/>
                </a:lnTo>
                <a:lnTo>
                  <a:pt x="445" y="1718"/>
                </a:lnTo>
                <a:lnTo>
                  <a:pt x="466" y="1749"/>
                </a:lnTo>
                <a:lnTo>
                  <a:pt x="466" y="1853"/>
                </a:lnTo>
                <a:lnTo>
                  <a:pt x="466" y="1853"/>
                </a:lnTo>
                <a:lnTo>
                  <a:pt x="476" y="1884"/>
                </a:lnTo>
                <a:lnTo>
                  <a:pt x="497" y="1894"/>
                </a:lnTo>
                <a:lnTo>
                  <a:pt x="528" y="1894"/>
                </a:lnTo>
                <a:lnTo>
                  <a:pt x="528" y="1894"/>
                </a:lnTo>
                <a:lnTo>
                  <a:pt x="549" y="1894"/>
                </a:lnTo>
                <a:lnTo>
                  <a:pt x="559" y="1884"/>
                </a:lnTo>
                <a:lnTo>
                  <a:pt x="569" y="1863"/>
                </a:lnTo>
                <a:lnTo>
                  <a:pt x="569" y="1832"/>
                </a:lnTo>
                <a:lnTo>
                  <a:pt x="549" y="1801"/>
                </a:lnTo>
                <a:lnTo>
                  <a:pt x="538" y="1760"/>
                </a:lnTo>
                <a:lnTo>
                  <a:pt x="559" y="1718"/>
                </a:lnTo>
                <a:lnTo>
                  <a:pt x="559" y="1697"/>
                </a:lnTo>
                <a:lnTo>
                  <a:pt x="580" y="1646"/>
                </a:lnTo>
                <a:lnTo>
                  <a:pt x="611" y="1511"/>
                </a:lnTo>
                <a:lnTo>
                  <a:pt x="632" y="1366"/>
                </a:lnTo>
                <a:lnTo>
                  <a:pt x="652" y="1273"/>
                </a:lnTo>
                <a:lnTo>
                  <a:pt x="673" y="1201"/>
                </a:lnTo>
                <a:lnTo>
                  <a:pt x="683" y="1211"/>
                </a:lnTo>
                <a:lnTo>
                  <a:pt x="683" y="1284"/>
                </a:lnTo>
                <a:lnTo>
                  <a:pt x="683" y="1315"/>
                </a:lnTo>
                <a:lnTo>
                  <a:pt x="673" y="1356"/>
                </a:lnTo>
                <a:lnTo>
                  <a:pt x="673" y="1397"/>
                </a:lnTo>
                <a:lnTo>
                  <a:pt x="673" y="1449"/>
                </a:lnTo>
                <a:lnTo>
                  <a:pt x="663" y="1532"/>
                </a:lnTo>
                <a:lnTo>
                  <a:pt x="663" y="1594"/>
                </a:lnTo>
                <a:lnTo>
                  <a:pt x="642" y="1615"/>
                </a:lnTo>
                <a:lnTo>
                  <a:pt x="642" y="1646"/>
                </a:lnTo>
                <a:lnTo>
                  <a:pt x="652" y="1677"/>
                </a:lnTo>
                <a:lnTo>
                  <a:pt x="652" y="1729"/>
                </a:lnTo>
                <a:lnTo>
                  <a:pt x="683" y="1749"/>
                </a:lnTo>
                <a:lnTo>
                  <a:pt x="694" y="1749"/>
                </a:lnTo>
                <a:lnTo>
                  <a:pt x="714" y="1780"/>
                </a:lnTo>
                <a:lnTo>
                  <a:pt x="714" y="1780"/>
                </a:lnTo>
                <a:lnTo>
                  <a:pt x="725" y="1801"/>
                </a:lnTo>
                <a:lnTo>
                  <a:pt x="756" y="1811"/>
                </a:lnTo>
                <a:lnTo>
                  <a:pt x="787" y="1811"/>
                </a:lnTo>
                <a:lnTo>
                  <a:pt x="818" y="1801"/>
                </a:lnTo>
                <a:lnTo>
                  <a:pt x="828" y="1780"/>
                </a:lnTo>
                <a:lnTo>
                  <a:pt x="797" y="1749"/>
                </a:lnTo>
                <a:lnTo>
                  <a:pt x="776" y="1718"/>
                </a:lnTo>
                <a:lnTo>
                  <a:pt x="756" y="1687"/>
                </a:lnTo>
                <a:lnTo>
                  <a:pt x="756" y="1656"/>
                </a:lnTo>
                <a:lnTo>
                  <a:pt x="787" y="1635"/>
                </a:lnTo>
                <a:lnTo>
                  <a:pt x="776" y="1615"/>
                </a:lnTo>
                <a:lnTo>
                  <a:pt x="787" y="1542"/>
                </a:lnTo>
                <a:lnTo>
                  <a:pt x="797" y="1491"/>
                </a:lnTo>
                <a:lnTo>
                  <a:pt x="807" y="1408"/>
                </a:lnTo>
                <a:lnTo>
                  <a:pt x="839" y="1294"/>
                </a:lnTo>
                <a:lnTo>
                  <a:pt x="859" y="1190"/>
                </a:lnTo>
                <a:lnTo>
                  <a:pt x="880" y="1087"/>
                </a:lnTo>
                <a:lnTo>
                  <a:pt x="880" y="1056"/>
                </a:lnTo>
                <a:lnTo>
                  <a:pt x="921" y="1004"/>
                </a:lnTo>
                <a:lnTo>
                  <a:pt x="932" y="952"/>
                </a:lnTo>
                <a:lnTo>
                  <a:pt x="921" y="870"/>
                </a:lnTo>
                <a:close/>
                <a:moveTo>
                  <a:pt x="93" y="373"/>
                </a:moveTo>
                <a:lnTo>
                  <a:pt x="93" y="373"/>
                </a:lnTo>
                <a:lnTo>
                  <a:pt x="93" y="383"/>
                </a:lnTo>
                <a:lnTo>
                  <a:pt x="93" y="383"/>
                </a:lnTo>
                <a:lnTo>
                  <a:pt x="104" y="373"/>
                </a:lnTo>
                <a:lnTo>
                  <a:pt x="93" y="37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b0f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69"/>
          <p:cNvSpPr/>
          <p:nvPr/>
        </p:nvSpPr>
        <p:spPr>
          <a:xfrm>
            <a:off x="2019240" y="1422360"/>
            <a:ext cx="816120" cy="1833480"/>
          </a:xfrm>
          <a:custGeom>
            <a:avLst/>
            <a:gdLst>
              <a:gd name="textAreaLeft" fmla="*/ 0 w 816120"/>
              <a:gd name="textAreaRight" fmla="*/ 816480 w 816120"/>
              <a:gd name="textAreaTop" fmla="*/ 0 h 1833480"/>
              <a:gd name="textAreaBottom" fmla="*/ 1833840 h 1833480"/>
            </a:gdLst>
            <a:ahLst/>
            <a:rect l="textAreaLeft" t="textAreaTop" r="textAreaRight" b="textAreaBottom"/>
            <a:pathLst>
              <a:path w="932" h="2091">
                <a:moveTo>
                  <a:pt x="921" y="870"/>
                </a:moveTo>
                <a:lnTo>
                  <a:pt x="921" y="756"/>
                </a:lnTo>
                <a:lnTo>
                  <a:pt x="901" y="683"/>
                </a:lnTo>
                <a:lnTo>
                  <a:pt x="901" y="590"/>
                </a:lnTo>
                <a:lnTo>
                  <a:pt x="890" y="487"/>
                </a:lnTo>
                <a:lnTo>
                  <a:pt x="880" y="435"/>
                </a:lnTo>
                <a:lnTo>
                  <a:pt x="880" y="435"/>
                </a:lnTo>
                <a:lnTo>
                  <a:pt x="870" y="425"/>
                </a:lnTo>
                <a:lnTo>
                  <a:pt x="849" y="414"/>
                </a:lnTo>
                <a:lnTo>
                  <a:pt x="745" y="363"/>
                </a:lnTo>
                <a:lnTo>
                  <a:pt x="735" y="332"/>
                </a:lnTo>
                <a:lnTo>
                  <a:pt x="756" y="311"/>
                </a:lnTo>
                <a:lnTo>
                  <a:pt x="776" y="270"/>
                </a:lnTo>
                <a:lnTo>
                  <a:pt x="776" y="187"/>
                </a:lnTo>
                <a:lnTo>
                  <a:pt x="787" y="156"/>
                </a:lnTo>
                <a:lnTo>
                  <a:pt x="787" y="156"/>
                </a:lnTo>
                <a:lnTo>
                  <a:pt x="776" y="135"/>
                </a:lnTo>
                <a:lnTo>
                  <a:pt x="756" y="104"/>
                </a:lnTo>
                <a:lnTo>
                  <a:pt x="735" y="94"/>
                </a:lnTo>
                <a:lnTo>
                  <a:pt x="714" y="83"/>
                </a:lnTo>
                <a:lnTo>
                  <a:pt x="683" y="94"/>
                </a:lnTo>
                <a:lnTo>
                  <a:pt x="642" y="125"/>
                </a:lnTo>
                <a:lnTo>
                  <a:pt x="642" y="125"/>
                </a:lnTo>
                <a:lnTo>
                  <a:pt x="642" y="145"/>
                </a:lnTo>
                <a:lnTo>
                  <a:pt x="632" y="187"/>
                </a:lnTo>
                <a:lnTo>
                  <a:pt x="632" y="187"/>
                </a:lnTo>
                <a:lnTo>
                  <a:pt x="621" y="187"/>
                </a:lnTo>
                <a:lnTo>
                  <a:pt x="611" y="197"/>
                </a:lnTo>
                <a:lnTo>
                  <a:pt x="611" y="218"/>
                </a:lnTo>
                <a:lnTo>
                  <a:pt x="611" y="218"/>
                </a:lnTo>
                <a:lnTo>
                  <a:pt x="611" y="238"/>
                </a:lnTo>
                <a:lnTo>
                  <a:pt x="621" y="249"/>
                </a:lnTo>
                <a:lnTo>
                  <a:pt x="632" y="238"/>
                </a:lnTo>
                <a:lnTo>
                  <a:pt x="632" y="290"/>
                </a:lnTo>
                <a:lnTo>
                  <a:pt x="621" y="311"/>
                </a:lnTo>
                <a:lnTo>
                  <a:pt x="611" y="332"/>
                </a:lnTo>
                <a:lnTo>
                  <a:pt x="580" y="363"/>
                </a:lnTo>
                <a:lnTo>
                  <a:pt x="507" y="383"/>
                </a:lnTo>
                <a:lnTo>
                  <a:pt x="507" y="383"/>
                </a:lnTo>
                <a:lnTo>
                  <a:pt x="435" y="342"/>
                </a:lnTo>
                <a:lnTo>
                  <a:pt x="373" y="321"/>
                </a:lnTo>
                <a:lnTo>
                  <a:pt x="331" y="311"/>
                </a:lnTo>
                <a:lnTo>
                  <a:pt x="311" y="270"/>
                </a:lnTo>
                <a:lnTo>
                  <a:pt x="311" y="270"/>
                </a:lnTo>
                <a:lnTo>
                  <a:pt x="300" y="197"/>
                </a:lnTo>
                <a:lnTo>
                  <a:pt x="300" y="197"/>
                </a:lnTo>
                <a:lnTo>
                  <a:pt x="321" y="166"/>
                </a:lnTo>
                <a:lnTo>
                  <a:pt x="321" y="135"/>
                </a:lnTo>
                <a:lnTo>
                  <a:pt x="321" y="135"/>
                </a:lnTo>
                <a:lnTo>
                  <a:pt x="311" y="125"/>
                </a:lnTo>
                <a:lnTo>
                  <a:pt x="300" y="83"/>
                </a:lnTo>
                <a:lnTo>
                  <a:pt x="300" y="83"/>
                </a:lnTo>
                <a:lnTo>
                  <a:pt x="290" y="52"/>
                </a:lnTo>
                <a:lnTo>
                  <a:pt x="269" y="32"/>
                </a:lnTo>
                <a:lnTo>
                  <a:pt x="259" y="21"/>
                </a:lnTo>
                <a:lnTo>
                  <a:pt x="259" y="21"/>
                </a:lnTo>
                <a:lnTo>
                  <a:pt x="228" y="0"/>
                </a:lnTo>
                <a:lnTo>
                  <a:pt x="197" y="0"/>
                </a:lnTo>
                <a:lnTo>
                  <a:pt x="156" y="21"/>
                </a:lnTo>
                <a:lnTo>
                  <a:pt x="156" y="21"/>
                </a:lnTo>
                <a:lnTo>
                  <a:pt x="135" y="42"/>
                </a:lnTo>
                <a:lnTo>
                  <a:pt x="125" y="63"/>
                </a:lnTo>
                <a:lnTo>
                  <a:pt x="114" y="83"/>
                </a:lnTo>
                <a:lnTo>
                  <a:pt x="114" y="83"/>
                </a:lnTo>
                <a:lnTo>
                  <a:pt x="114" y="104"/>
                </a:lnTo>
                <a:lnTo>
                  <a:pt x="125" y="156"/>
                </a:lnTo>
                <a:lnTo>
                  <a:pt x="125" y="156"/>
                </a:lnTo>
                <a:lnTo>
                  <a:pt x="125" y="187"/>
                </a:lnTo>
                <a:lnTo>
                  <a:pt x="125" y="207"/>
                </a:lnTo>
                <a:lnTo>
                  <a:pt x="145" y="228"/>
                </a:lnTo>
                <a:lnTo>
                  <a:pt x="145" y="228"/>
                </a:lnTo>
                <a:lnTo>
                  <a:pt x="166" y="280"/>
                </a:lnTo>
                <a:lnTo>
                  <a:pt x="176" y="321"/>
                </a:lnTo>
                <a:lnTo>
                  <a:pt x="166" y="352"/>
                </a:lnTo>
                <a:lnTo>
                  <a:pt x="104" y="373"/>
                </a:lnTo>
                <a:lnTo>
                  <a:pt x="93" y="383"/>
                </a:lnTo>
                <a:lnTo>
                  <a:pt x="93" y="383"/>
                </a:lnTo>
                <a:lnTo>
                  <a:pt x="93" y="383"/>
                </a:lnTo>
                <a:lnTo>
                  <a:pt x="93" y="383"/>
                </a:lnTo>
                <a:lnTo>
                  <a:pt x="73" y="404"/>
                </a:lnTo>
                <a:lnTo>
                  <a:pt x="42" y="425"/>
                </a:lnTo>
                <a:lnTo>
                  <a:pt x="42" y="425"/>
                </a:lnTo>
                <a:lnTo>
                  <a:pt x="31" y="445"/>
                </a:lnTo>
                <a:lnTo>
                  <a:pt x="31" y="466"/>
                </a:lnTo>
                <a:lnTo>
                  <a:pt x="31" y="508"/>
                </a:lnTo>
                <a:lnTo>
                  <a:pt x="31" y="508"/>
                </a:lnTo>
                <a:lnTo>
                  <a:pt x="42" y="601"/>
                </a:lnTo>
                <a:lnTo>
                  <a:pt x="31" y="694"/>
                </a:lnTo>
                <a:lnTo>
                  <a:pt x="31" y="694"/>
                </a:lnTo>
                <a:lnTo>
                  <a:pt x="11" y="839"/>
                </a:lnTo>
                <a:lnTo>
                  <a:pt x="11" y="839"/>
                </a:lnTo>
                <a:lnTo>
                  <a:pt x="0" y="901"/>
                </a:lnTo>
                <a:lnTo>
                  <a:pt x="11" y="932"/>
                </a:lnTo>
                <a:lnTo>
                  <a:pt x="31" y="952"/>
                </a:lnTo>
                <a:lnTo>
                  <a:pt x="31" y="952"/>
                </a:lnTo>
                <a:lnTo>
                  <a:pt x="52" y="994"/>
                </a:lnTo>
                <a:lnTo>
                  <a:pt x="52" y="1025"/>
                </a:lnTo>
                <a:lnTo>
                  <a:pt x="62" y="1118"/>
                </a:lnTo>
                <a:lnTo>
                  <a:pt x="62" y="1118"/>
                </a:lnTo>
                <a:lnTo>
                  <a:pt x="73" y="1190"/>
                </a:lnTo>
                <a:lnTo>
                  <a:pt x="73" y="1232"/>
                </a:lnTo>
                <a:lnTo>
                  <a:pt x="73" y="1273"/>
                </a:lnTo>
                <a:lnTo>
                  <a:pt x="73" y="1273"/>
                </a:lnTo>
                <a:lnTo>
                  <a:pt x="73" y="1294"/>
                </a:lnTo>
                <a:lnTo>
                  <a:pt x="93" y="1397"/>
                </a:lnTo>
                <a:lnTo>
                  <a:pt x="104" y="1491"/>
                </a:lnTo>
                <a:lnTo>
                  <a:pt x="104" y="1635"/>
                </a:lnTo>
                <a:lnTo>
                  <a:pt x="145" y="1749"/>
                </a:lnTo>
                <a:lnTo>
                  <a:pt x="125" y="1801"/>
                </a:lnTo>
                <a:lnTo>
                  <a:pt x="93" y="1832"/>
                </a:lnTo>
                <a:lnTo>
                  <a:pt x="93" y="1904"/>
                </a:lnTo>
                <a:lnTo>
                  <a:pt x="145" y="1904"/>
                </a:lnTo>
                <a:lnTo>
                  <a:pt x="187" y="1873"/>
                </a:lnTo>
                <a:lnTo>
                  <a:pt x="187" y="1873"/>
                </a:lnTo>
                <a:lnTo>
                  <a:pt x="197" y="1863"/>
                </a:lnTo>
                <a:lnTo>
                  <a:pt x="207" y="1853"/>
                </a:lnTo>
                <a:lnTo>
                  <a:pt x="207" y="1822"/>
                </a:lnTo>
                <a:lnTo>
                  <a:pt x="207" y="1801"/>
                </a:lnTo>
                <a:lnTo>
                  <a:pt x="218" y="1801"/>
                </a:lnTo>
                <a:lnTo>
                  <a:pt x="238" y="1780"/>
                </a:lnTo>
                <a:lnTo>
                  <a:pt x="238" y="1749"/>
                </a:lnTo>
                <a:lnTo>
                  <a:pt x="228" y="1718"/>
                </a:lnTo>
                <a:lnTo>
                  <a:pt x="238" y="1656"/>
                </a:lnTo>
                <a:lnTo>
                  <a:pt x="238" y="1625"/>
                </a:lnTo>
                <a:lnTo>
                  <a:pt x="218" y="1563"/>
                </a:lnTo>
                <a:lnTo>
                  <a:pt x="218" y="1491"/>
                </a:lnTo>
                <a:lnTo>
                  <a:pt x="207" y="1387"/>
                </a:lnTo>
                <a:lnTo>
                  <a:pt x="228" y="1304"/>
                </a:lnTo>
                <a:lnTo>
                  <a:pt x="228" y="1222"/>
                </a:lnTo>
                <a:lnTo>
                  <a:pt x="228" y="1190"/>
                </a:lnTo>
                <a:lnTo>
                  <a:pt x="238" y="1170"/>
                </a:lnTo>
                <a:lnTo>
                  <a:pt x="238" y="1190"/>
                </a:lnTo>
                <a:lnTo>
                  <a:pt x="238" y="1190"/>
                </a:lnTo>
                <a:lnTo>
                  <a:pt x="269" y="1294"/>
                </a:lnTo>
                <a:lnTo>
                  <a:pt x="269" y="1294"/>
                </a:lnTo>
                <a:lnTo>
                  <a:pt x="280" y="1346"/>
                </a:lnTo>
                <a:lnTo>
                  <a:pt x="269" y="1356"/>
                </a:lnTo>
                <a:lnTo>
                  <a:pt x="269" y="1584"/>
                </a:lnTo>
                <a:lnTo>
                  <a:pt x="280" y="1677"/>
                </a:lnTo>
                <a:lnTo>
                  <a:pt x="290" y="1801"/>
                </a:lnTo>
                <a:lnTo>
                  <a:pt x="300" y="1842"/>
                </a:lnTo>
                <a:lnTo>
                  <a:pt x="300" y="1842"/>
                </a:lnTo>
                <a:lnTo>
                  <a:pt x="311" y="1863"/>
                </a:lnTo>
                <a:lnTo>
                  <a:pt x="311" y="1873"/>
                </a:lnTo>
                <a:lnTo>
                  <a:pt x="311" y="1884"/>
                </a:lnTo>
                <a:lnTo>
                  <a:pt x="311" y="1884"/>
                </a:lnTo>
                <a:lnTo>
                  <a:pt x="300" y="1904"/>
                </a:lnTo>
                <a:lnTo>
                  <a:pt x="300" y="1925"/>
                </a:lnTo>
                <a:lnTo>
                  <a:pt x="300" y="1935"/>
                </a:lnTo>
                <a:lnTo>
                  <a:pt x="321" y="1967"/>
                </a:lnTo>
                <a:lnTo>
                  <a:pt x="342" y="1967"/>
                </a:lnTo>
                <a:lnTo>
                  <a:pt x="342" y="1998"/>
                </a:lnTo>
                <a:lnTo>
                  <a:pt x="342" y="1998"/>
                </a:lnTo>
                <a:lnTo>
                  <a:pt x="342" y="2018"/>
                </a:lnTo>
                <a:lnTo>
                  <a:pt x="352" y="2039"/>
                </a:lnTo>
                <a:lnTo>
                  <a:pt x="363" y="2060"/>
                </a:lnTo>
                <a:lnTo>
                  <a:pt x="363" y="2060"/>
                </a:lnTo>
                <a:lnTo>
                  <a:pt x="394" y="2091"/>
                </a:lnTo>
                <a:lnTo>
                  <a:pt x="404" y="2091"/>
                </a:lnTo>
                <a:lnTo>
                  <a:pt x="466" y="2091"/>
                </a:lnTo>
                <a:lnTo>
                  <a:pt x="466" y="2018"/>
                </a:lnTo>
                <a:lnTo>
                  <a:pt x="456" y="1998"/>
                </a:lnTo>
                <a:lnTo>
                  <a:pt x="425" y="1925"/>
                </a:lnTo>
                <a:lnTo>
                  <a:pt x="414" y="1904"/>
                </a:lnTo>
                <a:lnTo>
                  <a:pt x="425" y="1853"/>
                </a:lnTo>
                <a:lnTo>
                  <a:pt x="425" y="1760"/>
                </a:lnTo>
                <a:lnTo>
                  <a:pt x="435" y="1656"/>
                </a:lnTo>
                <a:lnTo>
                  <a:pt x="425" y="1563"/>
                </a:lnTo>
                <a:lnTo>
                  <a:pt x="425" y="1480"/>
                </a:lnTo>
                <a:lnTo>
                  <a:pt x="414" y="1377"/>
                </a:lnTo>
                <a:lnTo>
                  <a:pt x="425" y="1315"/>
                </a:lnTo>
                <a:lnTo>
                  <a:pt x="425" y="1253"/>
                </a:lnTo>
                <a:lnTo>
                  <a:pt x="425" y="1139"/>
                </a:lnTo>
                <a:lnTo>
                  <a:pt x="414" y="1066"/>
                </a:lnTo>
                <a:lnTo>
                  <a:pt x="404" y="1015"/>
                </a:lnTo>
                <a:lnTo>
                  <a:pt x="404" y="1004"/>
                </a:lnTo>
                <a:lnTo>
                  <a:pt x="414" y="994"/>
                </a:lnTo>
                <a:lnTo>
                  <a:pt x="435" y="1004"/>
                </a:lnTo>
                <a:lnTo>
                  <a:pt x="445" y="984"/>
                </a:lnTo>
                <a:lnTo>
                  <a:pt x="456" y="973"/>
                </a:lnTo>
                <a:lnTo>
                  <a:pt x="487" y="1015"/>
                </a:lnTo>
                <a:lnTo>
                  <a:pt x="497" y="1015"/>
                </a:lnTo>
                <a:lnTo>
                  <a:pt x="497" y="1046"/>
                </a:lnTo>
                <a:lnTo>
                  <a:pt x="507" y="1077"/>
                </a:lnTo>
                <a:lnTo>
                  <a:pt x="507" y="1273"/>
                </a:lnTo>
                <a:lnTo>
                  <a:pt x="487" y="1335"/>
                </a:lnTo>
                <a:lnTo>
                  <a:pt x="476" y="1387"/>
                </a:lnTo>
                <a:lnTo>
                  <a:pt x="476" y="1449"/>
                </a:lnTo>
                <a:lnTo>
                  <a:pt x="456" y="1522"/>
                </a:lnTo>
                <a:lnTo>
                  <a:pt x="445" y="1584"/>
                </a:lnTo>
                <a:lnTo>
                  <a:pt x="445" y="1677"/>
                </a:lnTo>
                <a:lnTo>
                  <a:pt x="456" y="1687"/>
                </a:lnTo>
                <a:lnTo>
                  <a:pt x="445" y="1718"/>
                </a:lnTo>
                <a:lnTo>
                  <a:pt x="466" y="1749"/>
                </a:lnTo>
                <a:lnTo>
                  <a:pt x="466" y="1853"/>
                </a:lnTo>
                <a:lnTo>
                  <a:pt x="466" y="1853"/>
                </a:lnTo>
                <a:lnTo>
                  <a:pt x="476" y="1884"/>
                </a:lnTo>
                <a:lnTo>
                  <a:pt x="497" y="1894"/>
                </a:lnTo>
                <a:lnTo>
                  <a:pt x="528" y="1894"/>
                </a:lnTo>
                <a:lnTo>
                  <a:pt x="528" y="1894"/>
                </a:lnTo>
                <a:lnTo>
                  <a:pt x="549" y="1894"/>
                </a:lnTo>
                <a:lnTo>
                  <a:pt x="559" y="1884"/>
                </a:lnTo>
                <a:lnTo>
                  <a:pt x="569" y="1863"/>
                </a:lnTo>
                <a:lnTo>
                  <a:pt x="569" y="1832"/>
                </a:lnTo>
                <a:lnTo>
                  <a:pt x="549" y="1801"/>
                </a:lnTo>
                <a:lnTo>
                  <a:pt x="538" y="1760"/>
                </a:lnTo>
                <a:lnTo>
                  <a:pt x="559" y="1718"/>
                </a:lnTo>
                <a:lnTo>
                  <a:pt x="559" y="1697"/>
                </a:lnTo>
                <a:lnTo>
                  <a:pt x="580" y="1646"/>
                </a:lnTo>
                <a:lnTo>
                  <a:pt x="611" y="1511"/>
                </a:lnTo>
                <a:lnTo>
                  <a:pt x="632" y="1366"/>
                </a:lnTo>
                <a:lnTo>
                  <a:pt x="652" y="1273"/>
                </a:lnTo>
                <a:lnTo>
                  <a:pt x="673" y="1201"/>
                </a:lnTo>
                <a:lnTo>
                  <a:pt x="683" y="1211"/>
                </a:lnTo>
                <a:lnTo>
                  <a:pt x="683" y="1284"/>
                </a:lnTo>
                <a:lnTo>
                  <a:pt x="683" y="1315"/>
                </a:lnTo>
                <a:lnTo>
                  <a:pt x="673" y="1356"/>
                </a:lnTo>
                <a:lnTo>
                  <a:pt x="673" y="1397"/>
                </a:lnTo>
                <a:lnTo>
                  <a:pt x="673" y="1449"/>
                </a:lnTo>
                <a:lnTo>
                  <a:pt x="663" y="1532"/>
                </a:lnTo>
                <a:lnTo>
                  <a:pt x="663" y="1594"/>
                </a:lnTo>
                <a:lnTo>
                  <a:pt x="642" y="1615"/>
                </a:lnTo>
                <a:lnTo>
                  <a:pt x="642" y="1646"/>
                </a:lnTo>
                <a:lnTo>
                  <a:pt x="652" y="1677"/>
                </a:lnTo>
                <a:lnTo>
                  <a:pt x="652" y="1729"/>
                </a:lnTo>
                <a:lnTo>
                  <a:pt x="683" y="1749"/>
                </a:lnTo>
                <a:lnTo>
                  <a:pt x="694" y="1749"/>
                </a:lnTo>
                <a:lnTo>
                  <a:pt x="714" y="1780"/>
                </a:lnTo>
                <a:lnTo>
                  <a:pt x="714" y="1780"/>
                </a:lnTo>
                <a:lnTo>
                  <a:pt x="725" y="1801"/>
                </a:lnTo>
                <a:lnTo>
                  <a:pt x="756" y="1811"/>
                </a:lnTo>
                <a:lnTo>
                  <a:pt x="787" y="1811"/>
                </a:lnTo>
                <a:lnTo>
                  <a:pt x="818" y="1801"/>
                </a:lnTo>
                <a:lnTo>
                  <a:pt x="828" y="1780"/>
                </a:lnTo>
                <a:lnTo>
                  <a:pt x="797" y="1749"/>
                </a:lnTo>
                <a:lnTo>
                  <a:pt x="776" y="1718"/>
                </a:lnTo>
                <a:lnTo>
                  <a:pt x="756" y="1687"/>
                </a:lnTo>
                <a:lnTo>
                  <a:pt x="756" y="1656"/>
                </a:lnTo>
                <a:lnTo>
                  <a:pt x="787" y="1635"/>
                </a:lnTo>
                <a:lnTo>
                  <a:pt x="776" y="1615"/>
                </a:lnTo>
                <a:lnTo>
                  <a:pt x="787" y="1542"/>
                </a:lnTo>
                <a:lnTo>
                  <a:pt x="797" y="1491"/>
                </a:lnTo>
                <a:lnTo>
                  <a:pt x="807" y="1408"/>
                </a:lnTo>
                <a:lnTo>
                  <a:pt x="839" y="1294"/>
                </a:lnTo>
                <a:lnTo>
                  <a:pt x="859" y="1190"/>
                </a:lnTo>
                <a:lnTo>
                  <a:pt x="880" y="1087"/>
                </a:lnTo>
                <a:lnTo>
                  <a:pt x="880" y="1056"/>
                </a:lnTo>
                <a:lnTo>
                  <a:pt x="921" y="1004"/>
                </a:lnTo>
                <a:lnTo>
                  <a:pt x="932" y="952"/>
                </a:lnTo>
                <a:lnTo>
                  <a:pt x="921" y="870"/>
                </a:lnTo>
                <a:close/>
                <a:moveTo>
                  <a:pt x="93" y="373"/>
                </a:moveTo>
                <a:lnTo>
                  <a:pt x="93" y="373"/>
                </a:lnTo>
                <a:lnTo>
                  <a:pt x="93" y="383"/>
                </a:lnTo>
                <a:lnTo>
                  <a:pt x="93" y="383"/>
                </a:lnTo>
                <a:lnTo>
                  <a:pt x="104" y="373"/>
                </a:lnTo>
                <a:lnTo>
                  <a:pt x="93" y="373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70"/>
          <p:cNvSpPr/>
          <p:nvPr/>
        </p:nvSpPr>
        <p:spPr>
          <a:xfrm>
            <a:off x="2554200" y="1695600"/>
            <a:ext cx="163440" cy="463320"/>
          </a:xfrm>
          <a:custGeom>
            <a:avLst/>
            <a:gdLst>
              <a:gd name="textAreaLeft" fmla="*/ 0 w 163440"/>
              <a:gd name="textAreaRight" fmla="*/ 163800 w 1634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186" h="528">
                <a:moveTo>
                  <a:pt x="10" y="0"/>
                </a:moveTo>
                <a:lnTo>
                  <a:pt x="0" y="21"/>
                </a:lnTo>
                <a:lnTo>
                  <a:pt x="41" y="238"/>
                </a:lnTo>
                <a:lnTo>
                  <a:pt x="72" y="414"/>
                </a:lnTo>
                <a:lnTo>
                  <a:pt x="72" y="476"/>
                </a:lnTo>
                <a:lnTo>
                  <a:pt x="62" y="517"/>
                </a:lnTo>
                <a:lnTo>
                  <a:pt x="114" y="528"/>
                </a:lnTo>
                <a:lnTo>
                  <a:pt x="155" y="528"/>
                </a:lnTo>
                <a:lnTo>
                  <a:pt x="186" y="517"/>
                </a:lnTo>
                <a:lnTo>
                  <a:pt x="176" y="445"/>
                </a:lnTo>
                <a:lnTo>
                  <a:pt x="165" y="435"/>
                </a:lnTo>
                <a:lnTo>
                  <a:pt x="134" y="466"/>
                </a:lnTo>
                <a:lnTo>
                  <a:pt x="83" y="424"/>
                </a:lnTo>
                <a:lnTo>
                  <a:pt x="72" y="331"/>
                </a:lnTo>
                <a:lnTo>
                  <a:pt x="72" y="248"/>
                </a:lnTo>
                <a:lnTo>
                  <a:pt x="72" y="155"/>
                </a:lnTo>
                <a:lnTo>
                  <a:pt x="83" y="103"/>
                </a:lnTo>
                <a:lnTo>
                  <a:pt x="72" y="72"/>
                </a:lnTo>
                <a:lnTo>
                  <a:pt x="114" y="62"/>
                </a:lnTo>
                <a:lnTo>
                  <a:pt x="124" y="83"/>
                </a:lnTo>
                <a:lnTo>
                  <a:pt x="103" y="103"/>
                </a:lnTo>
                <a:lnTo>
                  <a:pt x="134" y="217"/>
                </a:lnTo>
                <a:lnTo>
                  <a:pt x="155" y="321"/>
                </a:lnTo>
                <a:lnTo>
                  <a:pt x="145" y="238"/>
                </a:lnTo>
                <a:lnTo>
                  <a:pt x="145" y="155"/>
                </a:lnTo>
                <a:lnTo>
                  <a:pt x="134" y="103"/>
                </a:lnTo>
                <a:lnTo>
                  <a:pt x="134" y="52"/>
                </a:lnTo>
                <a:lnTo>
                  <a:pt x="134" y="41"/>
                </a:lnTo>
                <a:lnTo>
                  <a:pt x="93" y="62"/>
                </a:lnTo>
                <a:lnTo>
                  <a:pt x="83" y="52"/>
                </a:lnTo>
                <a:lnTo>
                  <a:pt x="52" y="31"/>
                </a:lnTo>
                <a:lnTo>
                  <a:pt x="21" y="1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71"/>
          <p:cNvSpPr/>
          <p:nvPr/>
        </p:nvSpPr>
        <p:spPr>
          <a:xfrm>
            <a:off x="2146320" y="1731960"/>
            <a:ext cx="108000" cy="380880"/>
          </a:xfrm>
          <a:custGeom>
            <a:avLst/>
            <a:gdLst>
              <a:gd name="textAreaLeft" fmla="*/ 0 w 108000"/>
              <a:gd name="textAreaRight" fmla="*/ 108360 w 1080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24" h="435">
                <a:moveTo>
                  <a:pt x="104" y="0"/>
                </a:moveTo>
                <a:lnTo>
                  <a:pt x="73" y="11"/>
                </a:lnTo>
                <a:lnTo>
                  <a:pt x="52" y="42"/>
                </a:lnTo>
                <a:lnTo>
                  <a:pt x="73" y="62"/>
                </a:lnTo>
                <a:lnTo>
                  <a:pt x="31" y="135"/>
                </a:lnTo>
                <a:lnTo>
                  <a:pt x="21" y="207"/>
                </a:lnTo>
                <a:lnTo>
                  <a:pt x="11" y="352"/>
                </a:lnTo>
                <a:lnTo>
                  <a:pt x="0" y="383"/>
                </a:lnTo>
                <a:lnTo>
                  <a:pt x="42" y="435"/>
                </a:lnTo>
                <a:lnTo>
                  <a:pt x="93" y="394"/>
                </a:lnTo>
                <a:lnTo>
                  <a:pt x="114" y="197"/>
                </a:lnTo>
                <a:lnTo>
                  <a:pt x="114" y="93"/>
                </a:lnTo>
                <a:lnTo>
                  <a:pt x="93" y="52"/>
                </a:lnTo>
                <a:lnTo>
                  <a:pt x="124" y="3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52520" y="3236760"/>
            <a:ext cx="774720" cy="2127240"/>
            <a:chOff x="1352520" y="3236760"/>
            <a:chExt cx="774720" cy="2127240"/>
          </a:xfrm>
        </p:grpSpPr>
        <p:pic>
          <p:nvPicPr>
            <p:cNvPr id="160" name="Freeform 473" descr=""/>
            <p:cNvPicPr/>
            <p:nvPr/>
          </p:nvPicPr>
          <p:blipFill>
            <a:blip r:embed="rId3"/>
            <a:stretch/>
          </p:blipFill>
          <p:spPr>
            <a:xfrm>
              <a:off x="1352520" y="3236760"/>
              <a:ext cx="77472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0800000">
              <a:off x="1356840" y="3244320"/>
              <a:ext cx="762120" cy="21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Freeform 42"/>
          <p:cNvSpPr/>
          <p:nvPr/>
        </p:nvSpPr>
        <p:spPr>
          <a:xfrm rot="5400000">
            <a:off x="268920" y="230760"/>
            <a:ext cx="608040" cy="574560"/>
          </a:xfrm>
          <a:custGeom>
            <a:avLst/>
            <a:gdLst>
              <a:gd name="textAreaLeft" fmla="*/ 0 w 608040"/>
              <a:gd name="textAreaRight" fmla="*/ 608400 w 6080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404" h="1328">
                <a:moveTo>
                  <a:pt x="800" y="1017"/>
                </a:moveTo>
                <a:lnTo>
                  <a:pt x="723" y="744"/>
                </a:lnTo>
                <a:lnTo>
                  <a:pt x="724" y="744"/>
                </a:lnTo>
                <a:lnTo>
                  <a:pt x="729" y="743"/>
                </a:lnTo>
                <a:lnTo>
                  <a:pt x="736" y="741"/>
                </a:lnTo>
                <a:lnTo>
                  <a:pt x="746" y="740"/>
                </a:lnTo>
                <a:lnTo>
                  <a:pt x="758" y="739"/>
                </a:lnTo>
                <a:lnTo>
                  <a:pt x="772" y="738"/>
                </a:lnTo>
                <a:lnTo>
                  <a:pt x="787" y="736"/>
                </a:lnTo>
                <a:lnTo>
                  <a:pt x="803" y="733"/>
                </a:lnTo>
                <a:lnTo>
                  <a:pt x="820" y="732"/>
                </a:lnTo>
                <a:lnTo>
                  <a:pt x="838" y="730"/>
                </a:lnTo>
                <a:lnTo>
                  <a:pt x="858" y="728"/>
                </a:lnTo>
                <a:lnTo>
                  <a:pt x="876" y="726"/>
                </a:lnTo>
                <a:lnTo>
                  <a:pt x="896" y="724"/>
                </a:lnTo>
                <a:lnTo>
                  <a:pt x="914" y="723"/>
                </a:lnTo>
                <a:lnTo>
                  <a:pt x="933" y="723"/>
                </a:lnTo>
                <a:lnTo>
                  <a:pt x="950" y="722"/>
                </a:lnTo>
                <a:lnTo>
                  <a:pt x="970" y="722"/>
                </a:lnTo>
                <a:lnTo>
                  <a:pt x="995" y="722"/>
                </a:lnTo>
                <a:lnTo>
                  <a:pt x="1025" y="722"/>
                </a:lnTo>
                <a:lnTo>
                  <a:pt x="1058" y="723"/>
                </a:lnTo>
                <a:lnTo>
                  <a:pt x="1095" y="723"/>
                </a:lnTo>
                <a:lnTo>
                  <a:pt x="1133" y="724"/>
                </a:lnTo>
                <a:lnTo>
                  <a:pt x="1171" y="725"/>
                </a:lnTo>
                <a:lnTo>
                  <a:pt x="1210" y="726"/>
                </a:lnTo>
                <a:lnTo>
                  <a:pt x="1249" y="728"/>
                </a:lnTo>
                <a:lnTo>
                  <a:pt x="1284" y="729"/>
                </a:lnTo>
                <a:lnTo>
                  <a:pt x="1316" y="730"/>
                </a:lnTo>
                <a:lnTo>
                  <a:pt x="1345" y="731"/>
                </a:lnTo>
                <a:lnTo>
                  <a:pt x="1369" y="732"/>
                </a:lnTo>
                <a:lnTo>
                  <a:pt x="1388" y="732"/>
                </a:lnTo>
                <a:lnTo>
                  <a:pt x="1399" y="733"/>
                </a:lnTo>
                <a:lnTo>
                  <a:pt x="1404" y="733"/>
                </a:lnTo>
                <a:lnTo>
                  <a:pt x="1403" y="730"/>
                </a:lnTo>
                <a:lnTo>
                  <a:pt x="1401" y="721"/>
                </a:lnTo>
                <a:lnTo>
                  <a:pt x="1395" y="706"/>
                </a:lnTo>
                <a:lnTo>
                  <a:pt x="1388" y="690"/>
                </a:lnTo>
                <a:lnTo>
                  <a:pt x="1377" y="671"/>
                </a:lnTo>
                <a:lnTo>
                  <a:pt x="1365" y="653"/>
                </a:lnTo>
                <a:lnTo>
                  <a:pt x="1349" y="635"/>
                </a:lnTo>
                <a:lnTo>
                  <a:pt x="1329" y="622"/>
                </a:lnTo>
                <a:lnTo>
                  <a:pt x="1319" y="619"/>
                </a:lnTo>
                <a:lnTo>
                  <a:pt x="1297" y="614"/>
                </a:lnTo>
                <a:lnTo>
                  <a:pt x="1262" y="607"/>
                </a:lnTo>
                <a:lnTo>
                  <a:pt x="1219" y="599"/>
                </a:lnTo>
                <a:lnTo>
                  <a:pt x="1167" y="589"/>
                </a:lnTo>
                <a:lnTo>
                  <a:pt x="1110" y="579"/>
                </a:lnTo>
                <a:lnTo>
                  <a:pt x="1050" y="567"/>
                </a:lnTo>
                <a:lnTo>
                  <a:pt x="988" y="556"/>
                </a:lnTo>
                <a:lnTo>
                  <a:pt x="926" y="546"/>
                </a:lnTo>
                <a:lnTo>
                  <a:pt x="866" y="534"/>
                </a:lnTo>
                <a:lnTo>
                  <a:pt x="811" y="525"/>
                </a:lnTo>
                <a:lnTo>
                  <a:pt x="760" y="516"/>
                </a:lnTo>
                <a:lnTo>
                  <a:pt x="719" y="508"/>
                </a:lnTo>
                <a:lnTo>
                  <a:pt x="686" y="502"/>
                </a:lnTo>
                <a:lnTo>
                  <a:pt x="665" y="498"/>
                </a:lnTo>
                <a:lnTo>
                  <a:pt x="658" y="497"/>
                </a:lnTo>
                <a:lnTo>
                  <a:pt x="544" y="101"/>
                </a:lnTo>
                <a:lnTo>
                  <a:pt x="537" y="85"/>
                </a:lnTo>
                <a:lnTo>
                  <a:pt x="526" y="66"/>
                </a:lnTo>
                <a:lnTo>
                  <a:pt x="513" y="49"/>
                </a:lnTo>
                <a:lnTo>
                  <a:pt x="496" y="32"/>
                </a:lnTo>
                <a:lnTo>
                  <a:pt x="479" y="17"/>
                </a:lnTo>
                <a:lnTo>
                  <a:pt x="462" y="5"/>
                </a:lnTo>
                <a:lnTo>
                  <a:pt x="447" y="0"/>
                </a:lnTo>
                <a:lnTo>
                  <a:pt x="433" y="0"/>
                </a:lnTo>
                <a:lnTo>
                  <a:pt x="422" y="7"/>
                </a:lnTo>
                <a:lnTo>
                  <a:pt x="412" y="20"/>
                </a:lnTo>
                <a:lnTo>
                  <a:pt x="404" y="39"/>
                </a:lnTo>
                <a:lnTo>
                  <a:pt x="397" y="61"/>
                </a:lnTo>
                <a:lnTo>
                  <a:pt x="393" y="84"/>
                </a:lnTo>
                <a:lnTo>
                  <a:pt x="390" y="106"/>
                </a:lnTo>
                <a:lnTo>
                  <a:pt x="390" y="126"/>
                </a:lnTo>
                <a:lnTo>
                  <a:pt x="394" y="144"/>
                </a:lnTo>
                <a:lnTo>
                  <a:pt x="509" y="541"/>
                </a:lnTo>
                <a:lnTo>
                  <a:pt x="503" y="546"/>
                </a:lnTo>
                <a:lnTo>
                  <a:pt x="488" y="561"/>
                </a:lnTo>
                <a:lnTo>
                  <a:pt x="464" y="582"/>
                </a:lnTo>
                <a:lnTo>
                  <a:pt x="433" y="611"/>
                </a:lnTo>
                <a:lnTo>
                  <a:pt x="396" y="646"/>
                </a:lnTo>
                <a:lnTo>
                  <a:pt x="355" y="684"/>
                </a:lnTo>
                <a:lnTo>
                  <a:pt x="311" y="724"/>
                </a:lnTo>
                <a:lnTo>
                  <a:pt x="266" y="767"/>
                </a:lnTo>
                <a:lnTo>
                  <a:pt x="220" y="809"/>
                </a:lnTo>
                <a:lnTo>
                  <a:pt x="176" y="851"/>
                </a:lnTo>
                <a:lnTo>
                  <a:pt x="135" y="890"/>
                </a:lnTo>
                <a:lnTo>
                  <a:pt x="97" y="925"/>
                </a:lnTo>
                <a:lnTo>
                  <a:pt x="66" y="955"/>
                </a:lnTo>
                <a:lnTo>
                  <a:pt x="40" y="979"/>
                </a:lnTo>
                <a:lnTo>
                  <a:pt x="24" y="995"/>
                </a:lnTo>
                <a:lnTo>
                  <a:pt x="17" y="1002"/>
                </a:lnTo>
                <a:lnTo>
                  <a:pt x="2" y="1049"/>
                </a:lnTo>
                <a:lnTo>
                  <a:pt x="0" y="1093"/>
                </a:lnTo>
                <a:lnTo>
                  <a:pt x="3" y="1126"/>
                </a:lnTo>
                <a:lnTo>
                  <a:pt x="6" y="1139"/>
                </a:lnTo>
                <a:lnTo>
                  <a:pt x="9" y="1137"/>
                </a:lnTo>
                <a:lnTo>
                  <a:pt x="17" y="1131"/>
                </a:lnTo>
                <a:lnTo>
                  <a:pt x="31" y="1120"/>
                </a:lnTo>
                <a:lnTo>
                  <a:pt x="48" y="1108"/>
                </a:lnTo>
                <a:lnTo>
                  <a:pt x="69" y="1093"/>
                </a:lnTo>
                <a:lnTo>
                  <a:pt x="93" y="1075"/>
                </a:lnTo>
                <a:lnTo>
                  <a:pt x="120" y="1056"/>
                </a:lnTo>
                <a:lnTo>
                  <a:pt x="147" y="1036"/>
                </a:lnTo>
                <a:lnTo>
                  <a:pt x="176" y="1016"/>
                </a:lnTo>
                <a:lnTo>
                  <a:pt x="206" y="996"/>
                </a:lnTo>
                <a:lnTo>
                  <a:pt x="235" y="975"/>
                </a:lnTo>
                <a:lnTo>
                  <a:pt x="263" y="957"/>
                </a:lnTo>
                <a:lnTo>
                  <a:pt x="289" y="940"/>
                </a:lnTo>
                <a:lnTo>
                  <a:pt x="313" y="923"/>
                </a:lnTo>
                <a:lnTo>
                  <a:pt x="334" y="911"/>
                </a:lnTo>
                <a:lnTo>
                  <a:pt x="351" y="900"/>
                </a:lnTo>
                <a:lnTo>
                  <a:pt x="367" y="891"/>
                </a:lnTo>
                <a:lnTo>
                  <a:pt x="385" y="882"/>
                </a:lnTo>
                <a:lnTo>
                  <a:pt x="402" y="873"/>
                </a:lnTo>
                <a:lnTo>
                  <a:pt x="422" y="864"/>
                </a:lnTo>
                <a:lnTo>
                  <a:pt x="440" y="853"/>
                </a:lnTo>
                <a:lnTo>
                  <a:pt x="460" y="844"/>
                </a:lnTo>
                <a:lnTo>
                  <a:pt x="478" y="835"/>
                </a:lnTo>
                <a:lnTo>
                  <a:pt x="496" y="826"/>
                </a:lnTo>
                <a:lnTo>
                  <a:pt x="514" y="816"/>
                </a:lnTo>
                <a:lnTo>
                  <a:pt x="529" y="809"/>
                </a:lnTo>
                <a:lnTo>
                  <a:pt x="544" y="802"/>
                </a:lnTo>
                <a:lnTo>
                  <a:pt x="556" y="796"/>
                </a:lnTo>
                <a:lnTo>
                  <a:pt x="567" y="791"/>
                </a:lnTo>
                <a:lnTo>
                  <a:pt x="574" y="787"/>
                </a:lnTo>
                <a:lnTo>
                  <a:pt x="579" y="785"/>
                </a:lnTo>
                <a:lnTo>
                  <a:pt x="580" y="784"/>
                </a:lnTo>
                <a:lnTo>
                  <a:pt x="659" y="1058"/>
                </a:lnTo>
                <a:lnTo>
                  <a:pt x="655" y="1062"/>
                </a:lnTo>
                <a:lnTo>
                  <a:pt x="645" y="1071"/>
                </a:lnTo>
                <a:lnTo>
                  <a:pt x="630" y="1087"/>
                </a:lnTo>
                <a:lnTo>
                  <a:pt x="613" y="1107"/>
                </a:lnTo>
                <a:lnTo>
                  <a:pt x="594" y="1131"/>
                </a:lnTo>
                <a:lnTo>
                  <a:pt x="577" y="1157"/>
                </a:lnTo>
                <a:lnTo>
                  <a:pt x="562" y="1186"/>
                </a:lnTo>
                <a:lnTo>
                  <a:pt x="553" y="1217"/>
                </a:lnTo>
                <a:lnTo>
                  <a:pt x="549" y="1246"/>
                </a:lnTo>
                <a:lnTo>
                  <a:pt x="551" y="1268"/>
                </a:lnTo>
                <a:lnTo>
                  <a:pt x="554" y="1285"/>
                </a:lnTo>
                <a:lnTo>
                  <a:pt x="561" y="1298"/>
                </a:lnTo>
                <a:lnTo>
                  <a:pt x="568" y="1306"/>
                </a:lnTo>
                <a:lnTo>
                  <a:pt x="575" y="1312"/>
                </a:lnTo>
                <a:lnTo>
                  <a:pt x="579" y="1314"/>
                </a:lnTo>
                <a:lnTo>
                  <a:pt x="582" y="1315"/>
                </a:lnTo>
                <a:lnTo>
                  <a:pt x="741" y="1200"/>
                </a:lnTo>
                <a:lnTo>
                  <a:pt x="771" y="1301"/>
                </a:lnTo>
                <a:lnTo>
                  <a:pt x="773" y="1308"/>
                </a:lnTo>
                <a:lnTo>
                  <a:pt x="777" y="1314"/>
                </a:lnTo>
                <a:lnTo>
                  <a:pt x="782" y="1320"/>
                </a:lnTo>
                <a:lnTo>
                  <a:pt x="789" y="1324"/>
                </a:lnTo>
                <a:lnTo>
                  <a:pt x="795" y="1327"/>
                </a:lnTo>
                <a:lnTo>
                  <a:pt x="803" y="1328"/>
                </a:lnTo>
                <a:lnTo>
                  <a:pt x="810" y="1328"/>
                </a:lnTo>
                <a:lnTo>
                  <a:pt x="818" y="1327"/>
                </a:lnTo>
                <a:lnTo>
                  <a:pt x="830" y="1320"/>
                </a:lnTo>
                <a:lnTo>
                  <a:pt x="841" y="1308"/>
                </a:lnTo>
                <a:lnTo>
                  <a:pt x="845" y="1294"/>
                </a:lnTo>
                <a:lnTo>
                  <a:pt x="844" y="1279"/>
                </a:lnTo>
                <a:lnTo>
                  <a:pt x="814" y="1178"/>
                </a:lnTo>
                <a:lnTo>
                  <a:pt x="1012" y="1188"/>
                </a:lnTo>
                <a:lnTo>
                  <a:pt x="1012" y="1185"/>
                </a:lnTo>
                <a:lnTo>
                  <a:pt x="1012" y="1176"/>
                </a:lnTo>
                <a:lnTo>
                  <a:pt x="1012" y="1162"/>
                </a:lnTo>
                <a:lnTo>
                  <a:pt x="1011" y="1146"/>
                </a:lnTo>
                <a:lnTo>
                  <a:pt x="1008" y="1127"/>
                </a:lnTo>
                <a:lnTo>
                  <a:pt x="1001" y="1109"/>
                </a:lnTo>
                <a:lnTo>
                  <a:pt x="992" y="1090"/>
                </a:lnTo>
                <a:lnTo>
                  <a:pt x="979" y="1075"/>
                </a:lnTo>
                <a:lnTo>
                  <a:pt x="959" y="1063"/>
                </a:lnTo>
                <a:lnTo>
                  <a:pt x="934" y="1051"/>
                </a:lnTo>
                <a:lnTo>
                  <a:pt x="904" y="1041"/>
                </a:lnTo>
                <a:lnTo>
                  <a:pt x="874" y="1033"/>
                </a:lnTo>
                <a:lnTo>
                  <a:pt x="847" y="1026"/>
                </a:lnTo>
                <a:lnTo>
                  <a:pt x="822" y="1021"/>
                </a:lnTo>
                <a:lnTo>
                  <a:pt x="806" y="1018"/>
                </a:lnTo>
                <a:lnTo>
                  <a:pt x="800" y="1017"/>
                </a:lnTo>
                <a:close/>
              </a:path>
            </a:pathLst>
          </a:cu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73"/>
          <p:cNvSpPr/>
          <p:nvPr/>
        </p:nvSpPr>
        <p:spPr>
          <a:xfrm>
            <a:off x="1357200" y="1214280"/>
            <a:ext cx="762120" cy="2113200"/>
          </a:xfrm>
          <a:custGeom>
            <a:avLst/>
            <a:gdLst>
              <a:gd name="textAreaLeft" fmla="*/ 0 w 762120"/>
              <a:gd name="textAreaRight" fmla="*/ 762480 w 76212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869" h="2411">
                <a:moveTo>
                  <a:pt x="0" y="746"/>
                </a:moveTo>
                <a:lnTo>
                  <a:pt x="0" y="746"/>
                </a:lnTo>
                <a:lnTo>
                  <a:pt x="10" y="756"/>
                </a:lnTo>
                <a:lnTo>
                  <a:pt x="31" y="849"/>
                </a:lnTo>
                <a:lnTo>
                  <a:pt x="41" y="870"/>
                </a:lnTo>
                <a:lnTo>
                  <a:pt x="52" y="890"/>
                </a:lnTo>
                <a:lnTo>
                  <a:pt x="72" y="911"/>
                </a:lnTo>
                <a:lnTo>
                  <a:pt x="72" y="921"/>
                </a:lnTo>
                <a:lnTo>
                  <a:pt x="83" y="921"/>
                </a:lnTo>
                <a:lnTo>
                  <a:pt x="134" y="994"/>
                </a:lnTo>
                <a:lnTo>
                  <a:pt x="145" y="1004"/>
                </a:lnTo>
                <a:lnTo>
                  <a:pt x="155" y="1004"/>
                </a:lnTo>
                <a:lnTo>
                  <a:pt x="166" y="1015"/>
                </a:lnTo>
                <a:lnTo>
                  <a:pt x="197" y="1025"/>
                </a:lnTo>
                <a:lnTo>
                  <a:pt x="217" y="1046"/>
                </a:lnTo>
                <a:lnTo>
                  <a:pt x="238" y="1066"/>
                </a:lnTo>
                <a:lnTo>
                  <a:pt x="259" y="1077"/>
                </a:lnTo>
                <a:lnTo>
                  <a:pt x="248" y="1097"/>
                </a:lnTo>
                <a:lnTo>
                  <a:pt x="248" y="1149"/>
                </a:lnTo>
                <a:lnTo>
                  <a:pt x="248" y="1211"/>
                </a:lnTo>
                <a:lnTo>
                  <a:pt x="259" y="1315"/>
                </a:lnTo>
                <a:lnTo>
                  <a:pt x="259" y="1501"/>
                </a:lnTo>
                <a:lnTo>
                  <a:pt x="248" y="1573"/>
                </a:lnTo>
                <a:lnTo>
                  <a:pt x="248" y="1646"/>
                </a:lnTo>
                <a:lnTo>
                  <a:pt x="248" y="1708"/>
                </a:lnTo>
                <a:lnTo>
                  <a:pt x="259" y="1718"/>
                </a:lnTo>
                <a:lnTo>
                  <a:pt x="248" y="1780"/>
                </a:lnTo>
                <a:lnTo>
                  <a:pt x="248" y="1842"/>
                </a:lnTo>
                <a:lnTo>
                  <a:pt x="259" y="1904"/>
                </a:lnTo>
                <a:lnTo>
                  <a:pt x="279" y="1998"/>
                </a:lnTo>
                <a:lnTo>
                  <a:pt x="290" y="2091"/>
                </a:lnTo>
                <a:lnTo>
                  <a:pt x="290" y="2194"/>
                </a:lnTo>
                <a:lnTo>
                  <a:pt x="279" y="2287"/>
                </a:lnTo>
                <a:lnTo>
                  <a:pt x="259" y="2360"/>
                </a:lnTo>
                <a:lnTo>
                  <a:pt x="269" y="2391"/>
                </a:lnTo>
                <a:lnTo>
                  <a:pt x="290" y="2411"/>
                </a:lnTo>
                <a:lnTo>
                  <a:pt x="321" y="2411"/>
                </a:lnTo>
                <a:lnTo>
                  <a:pt x="352" y="2401"/>
                </a:lnTo>
                <a:lnTo>
                  <a:pt x="362" y="2391"/>
                </a:lnTo>
                <a:lnTo>
                  <a:pt x="372" y="2370"/>
                </a:lnTo>
                <a:lnTo>
                  <a:pt x="372" y="2246"/>
                </a:lnTo>
                <a:lnTo>
                  <a:pt x="383" y="2246"/>
                </a:lnTo>
                <a:lnTo>
                  <a:pt x="372" y="2215"/>
                </a:lnTo>
                <a:lnTo>
                  <a:pt x="372" y="2194"/>
                </a:lnTo>
                <a:lnTo>
                  <a:pt x="362" y="2184"/>
                </a:lnTo>
                <a:lnTo>
                  <a:pt x="352" y="2111"/>
                </a:lnTo>
                <a:lnTo>
                  <a:pt x="362" y="2029"/>
                </a:lnTo>
                <a:lnTo>
                  <a:pt x="393" y="1904"/>
                </a:lnTo>
                <a:lnTo>
                  <a:pt x="393" y="1853"/>
                </a:lnTo>
                <a:lnTo>
                  <a:pt x="393" y="1791"/>
                </a:lnTo>
                <a:lnTo>
                  <a:pt x="393" y="1718"/>
                </a:lnTo>
                <a:lnTo>
                  <a:pt x="538" y="1708"/>
                </a:lnTo>
                <a:lnTo>
                  <a:pt x="538" y="1729"/>
                </a:lnTo>
                <a:lnTo>
                  <a:pt x="528" y="1791"/>
                </a:lnTo>
                <a:lnTo>
                  <a:pt x="528" y="1853"/>
                </a:lnTo>
                <a:lnTo>
                  <a:pt x="538" y="1915"/>
                </a:lnTo>
                <a:lnTo>
                  <a:pt x="548" y="1956"/>
                </a:lnTo>
                <a:lnTo>
                  <a:pt x="559" y="2008"/>
                </a:lnTo>
                <a:lnTo>
                  <a:pt x="569" y="2070"/>
                </a:lnTo>
                <a:lnTo>
                  <a:pt x="569" y="2142"/>
                </a:lnTo>
                <a:lnTo>
                  <a:pt x="559" y="2153"/>
                </a:lnTo>
                <a:lnTo>
                  <a:pt x="548" y="2184"/>
                </a:lnTo>
                <a:lnTo>
                  <a:pt x="538" y="2194"/>
                </a:lnTo>
                <a:lnTo>
                  <a:pt x="548" y="2215"/>
                </a:lnTo>
                <a:lnTo>
                  <a:pt x="559" y="2256"/>
                </a:lnTo>
                <a:lnTo>
                  <a:pt x="559" y="2329"/>
                </a:lnTo>
                <a:lnTo>
                  <a:pt x="590" y="2329"/>
                </a:lnTo>
                <a:lnTo>
                  <a:pt x="590" y="2308"/>
                </a:lnTo>
                <a:lnTo>
                  <a:pt x="600" y="2318"/>
                </a:lnTo>
                <a:lnTo>
                  <a:pt x="600" y="2360"/>
                </a:lnTo>
                <a:lnTo>
                  <a:pt x="631" y="2380"/>
                </a:lnTo>
                <a:lnTo>
                  <a:pt x="673" y="2380"/>
                </a:lnTo>
                <a:lnTo>
                  <a:pt x="724" y="2380"/>
                </a:lnTo>
                <a:lnTo>
                  <a:pt x="724" y="2370"/>
                </a:lnTo>
                <a:lnTo>
                  <a:pt x="724" y="2349"/>
                </a:lnTo>
                <a:lnTo>
                  <a:pt x="704" y="2308"/>
                </a:lnTo>
                <a:lnTo>
                  <a:pt x="673" y="2277"/>
                </a:lnTo>
                <a:lnTo>
                  <a:pt x="652" y="2205"/>
                </a:lnTo>
                <a:lnTo>
                  <a:pt x="642" y="2163"/>
                </a:lnTo>
                <a:lnTo>
                  <a:pt x="642" y="2091"/>
                </a:lnTo>
                <a:lnTo>
                  <a:pt x="662" y="1956"/>
                </a:lnTo>
                <a:lnTo>
                  <a:pt x="673" y="1873"/>
                </a:lnTo>
                <a:lnTo>
                  <a:pt x="673" y="1780"/>
                </a:lnTo>
                <a:lnTo>
                  <a:pt x="673" y="1687"/>
                </a:lnTo>
                <a:lnTo>
                  <a:pt x="704" y="1687"/>
                </a:lnTo>
                <a:lnTo>
                  <a:pt x="714" y="1687"/>
                </a:lnTo>
                <a:lnTo>
                  <a:pt x="714" y="1677"/>
                </a:lnTo>
                <a:lnTo>
                  <a:pt x="714" y="1604"/>
                </a:lnTo>
                <a:lnTo>
                  <a:pt x="704" y="1449"/>
                </a:lnTo>
                <a:lnTo>
                  <a:pt x="704" y="1242"/>
                </a:lnTo>
                <a:lnTo>
                  <a:pt x="662" y="1242"/>
                </a:lnTo>
                <a:lnTo>
                  <a:pt x="579" y="952"/>
                </a:lnTo>
                <a:lnTo>
                  <a:pt x="579" y="932"/>
                </a:lnTo>
                <a:lnTo>
                  <a:pt x="600" y="932"/>
                </a:lnTo>
                <a:lnTo>
                  <a:pt x="693" y="1232"/>
                </a:lnTo>
                <a:lnTo>
                  <a:pt x="704" y="1232"/>
                </a:lnTo>
                <a:lnTo>
                  <a:pt x="745" y="1222"/>
                </a:lnTo>
                <a:lnTo>
                  <a:pt x="786" y="1222"/>
                </a:lnTo>
                <a:lnTo>
                  <a:pt x="786" y="1232"/>
                </a:lnTo>
                <a:lnTo>
                  <a:pt x="776" y="1232"/>
                </a:lnTo>
                <a:lnTo>
                  <a:pt x="724" y="1232"/>
                </a:lnTo>
                <a:lnTo>
                  <a:pt x="735" y="1242"/>
                </a:lnTo>
                <a:lnTo>
                  <a:pt x="766" y="1253"/>
                </a:lnTo>
                <a:lnTo>
                  <a:pt x="817" y="1253"/>
                </a:lnTo>
                <a:lnTo>
                  <a:pt x="828" y="1232"/>
                </a:lnTo>
                <a:lnTo>
                  <a:pt x="838" y="1222"/>
                </a:lnTo>
                <a:lnTo>
                  <a:pt x="838" y="1211"/>
                </a:lnTo>
                <a:lnTo>
                  <a:pt x="869" y="1201"/>
                </a:lnTo>
                <a:lnTo>
                  <a:pt x="838" y="1046"/>
                </a:lnTo>
                <a:lnTo>
                  <a:pt x="838" y="1015"/>
                </a:lnTo>
                <a:lnTo>
                  <a:pt x="828" y="984"/>
                </a:lnTo>
                <a:lnTo>
                  <a:pt x="817" y="921"/>
                </a:lnTo>
                <a:lnTo>
                  <a:pt x="817" y="911"/>
                </a:lnTo>
                <a:lnTo>
                  <a:pt x="817" y="880"/>
                </a:lnTo>
                <a:lnTo>
                  <a:pt x="817" y="870"/>
                </a:lnTo>
                <a:lnTo>
                  <a:pt x="807" y="828"/>
                </a:lnTo>
                <a:lnTo>
                  <a:pt x="786" y="777"/>
                </a:lnTo>
                <a:lnTo>
                  <a:pt x="776" y="735"/>
                </a:lnTo>
                <a:lnTo>
                  <a:pt x="766" y="694"/>
                </a:lnTo>
                <a:lnTo>
                  <a:pt x="755" y="621"/>
                </a:lnTo>
                <a:lnTo>
                  <a:pt x="755" y="611"/>
                </a:lnTo>
                <a:lnTo>
                  <a:pt x="745" y="518"/>
                </a:lnTo>
                <a:lnTo>
                  <a:pt x="724" y="445"/>
                </a:lnTo>
                <a:lnTo>
                  <a:pt x="724" y="435"/>
                </a:lnTo>
                <a:lnTo>
                  <a:pt x="714" y="425"/>
                </a:lnTo>
                <a:lnTo>
                  <a:pt x="704" y="425"/>
                </a:lnTo>
                <a:lnTo>
                  <a:pt x="693" y="425"/>
                </a:lnTo>
                <a:lnTo>
                  <a:pt x="683" y="414"/>
                </a:lnTo>
                <a:lnTo>
                  <a:pt x="683" y="394"/>
                </a:lnTo>
                <a:lnTo>
                  <a:pt x="673" y="383"/>
                </a:lnTo>
                <a:lnTo>
                  <a:pt x="662" y="383"/>
                </a:lnTo>
                <a:lnTo>
                  <a:pt x="652" y="363"/>
                </a:lnTo>
                <a:lnTo>
                  <a:pt x="652" y="332"/>
                </a:lnTo>
                <a:lnTo>
                  <a:pt x="642" y="311"/>
                </a:lnTo>
                <a:lnTo>
                  <a:pt x="642" y="301"/>
                </a:lnTo>
                <a:lnTo>
                  <a:pt x="621" y="218"/>
                </a:lnTo>
                <a:lnTo>
                  <a:pt x="610" y="125"/>
                </a:lnTo>
                <a:lnTo>
                  <a:pt x="579" y="63"/>
                </a:lnTo>
                <a:lnTo>
                  <a:pt x="559" y="32"/>
                </a:lnTo>
                <a:lnTo>
                  <a:pt x="528" y="11"/>
                </a:lnTo>
                <a:lnTo>
                  <a:pt x="507" y="0"/>
                </a:lnTo>
                <a:lnTo>
                  <a:pt x="486" y="0"/>
                </a:lnTo>
                <a:lnTo>
                  <a:pt x="466" y="0"/>
                </a:lnTo>
                <a:lnTo>
                  <a:pt x="445" y="0"/>
                </a:lnTo>
                <a:lnTo>
                  <a:pt x="424" y="0"/>
                </a:lnTo>
                <a:lnTo>
                  <a:pt x="404" y="21"/>
                </a:lnTo>
                <a:lnTo>
                  <a:pt x="372" y="52"/>
                </a:lnTo>
                <a:lnTo>
                  <a:pt x="352" y="125"/>
                </a:lnTo>
                <a:lnTo>
                  <a:pt x="331" y="176"/>
                </a:lnTo>
                <a:lnTo>
                  <a:pt x="331" y="228"/>
                </a:lnTo>
                <a:lnTo>
                  <a:pt x="331" y="280"/>
                </a:lnTo>
                <a:lnTo>
                  <a:pt x="321" y="321"/>
                </a:lnTo>
                <a:lnTo>
                  <a:pt x="310" y="363"/>
                </a:lnTo>
                <a:lnTo>
                  <a:pt x="217" y="383"/>
                </a:lnTo>
                <a:lnTo>
                  <a:pt x="207" y="383"/>
                </a:lnTo>
                <a:lnTo>
                  <a:pt x="186" y="404"/>
                </a:lnTo>
                <a:lnTo>
                  <a:pt x="155" y="466"/>
                </a:lnTo>
                <a:lnTo>
                  <a:pt x="124" y="528"/>
                </a:lnTo>
                <a:lnTo>
                  <a:pt x="62" y="611"/>
                </a:lnTo>
                <a:lnTo>
                  <a:pt x="31" y="652"/>
                </a:lnTo>
                <a:lnTo>
                  <a:pt x="21" y="663"/>
                </a:lnTo>
                <a:lnTo>
                  <a:pt x="0" y="714"/>
                </a:lnTo>
                <a:lnTo>
                  <a:pt x="0" y="725"/>
                </a:lnTo>
                <a:lnTo>
                  <a:pt x="0" y="746"/>
                </a:lnTo>
                <a:close/>
                <a:moveTo>
                  <a:pt x="652" y="673"/>
                </a:moveTo>
                <a:lnTo>
                  <a:pt x="652" y="673"/>
                </a:lnTo>
                <a:lnTo>
                  <a:pt x="662" y="652"/>
                </a:lnTo>
                <a:lnTo>
                  <a:pt x="673" y="683"/>
                </a:lnTo>
                <a:lnTo>
                  <a:pt x="673" y="704"/>
                </a:lnTo>
                <a:lnTo>
                  <a:pt x="673" y="714"/>
                </a:lnTo>
                <a:lnTo>
                  <a:pt x="683" y="797"/>
                </a:lnTo>
                <a:lnTo>
                  <a:pt x="693" y="849"/>
                </a:lnTo>
                <a:lnTo>
                  <a:pt x="714" y="880"/>
                </a:lnTo>
                <a:lnTo>
                  <a:pt x="714" y="901"/>
                </a:lnTo>
                <a:lnTo>
                  <a:pt x="724" y="921"/>
                </a:lnTo>
                <a:lnTo>
                  <a:pt x="652" y="921"/>
                </a:lnTo>
                <a:lnTo>
                  <a:pt x="642" y="849"/>
                </a:lnTo>
                <a:lnTo>
                  <a:pt x="642" y="766"/>
                </a:lnTo>
                <a:lnTo>
                  <a:pt x="652" y="673"/>
                </a:lnTo>
                <a:close/>
                <a:moveTo>
                  <a:pt x="93" y="735"/>
                </a:moveTo>
                <a:lnTo>
                  <a:pt x="93" y="735"/>
                </a:lnTo>
                <a:lnTo>
                  <a:pt x="145" y="683"/>
                </a:lnTo>
                <a:lnTo>
                  <a:pt x="186" y="632"/>
                </a:lnTo>
                <a:lnTo>
                  <a:pt x="217" y="580"/>
                </a:lnTo>
                <a:lnTo>
                  <a:pt x="238" y="570"/>
                </a:lnTo>
                <a:lnTo>
                  <a:pt x="248" y="580"/>
                </a:lnTo>
                <a:lnTo>
                  <a:pt x="259" y="590"/>
                </a:lnTo>
                <a:lnTo>
                  <a:pt x="279" y="611"/>
                </a:lnTo>
                <a:lnTo>
                  <a:pt x="290" y="642"/>
                </a:lnTo>
                <a:lnTo>
                  <a:pt x="300" y="714"/>
                </a:lnTo>
                <a:lnTo>
                  <a:pt x="300" y="777"/>
                </a:lnTo>
                <a:lnTo>
                  <a:pt x="300" y="828"/>
                </a:lnTo>
                <a:lnTo>
                  <a:pt x="290" y="880"/>
                </a:lnTo>
                <a:lnTo>
                  <a:pt x="279" y="911"/>
                </a:lnTo>
                <a:lnTo>
                  <a:pt x="279" y="921"/>
                </a:lnTo>
                <a:lnTo>
                  <a:pt x="269" y="963"/>
                </a:lnTo>
                <a:lnTo>
                  <a:pt x="259" y="973"/>
                </a:lnTo>
                <a:lnTo>
                  <a:pt x="248" y="973"/>
                </a:lnTo>
                <a:lnTo>
                  <a:pt x="197" y="973"/>
                </a:lnTo>
                <a:lnTo>
                  <a:pt x="197" y="963"/>
                </a:lnTo>
                <a:lnTo>
                  <a:pt x="207" y="952"/>
                </a:lnTo>
                <a:lnTo>
                  <a:pt x="155" y="880"/>
                </a:lnTo>
                <a:lnTo>
                  <a:pt x="155" y="870"/>
                </a:lnTo>
                <a:lnTo>
                  <a:pt x="134" y="808"/>
                </a:lnTo>
                <a:lnTo>
                  <a:pt x="93" y="735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矩形 836" descr=""/>
          <p:cNvPicPr/>
          <p:nvPr/>
        </p:nvPicPr>
        <p:blipFill>
          <a:blip r:embed="rId4"/>
          <a:stretch/>
        </p:blipFill>
        <p:spPr>
          <a:xfrm>
            <a:off x="2724120" y="3511440"/>
            <a:ext cx="265896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5572080" y="1428840"/>
            <a:ext cx="4468680" cy="6127560"/>
            <a:chOff x="5572080" y="1428840"/>
            <a:chExt cx="4468680" cy="6127560"/>
          </a:xfrm>
        </p:grpSpPr>
        <p:sp>
          <p:nvSpPr>
            <p:cNvPr id="166" name="Freeform 476"/>
            <p:cNvSpPr/>
            <p:nvPr/>
          </p:nvSpPr>
          <p:spPr>
            <a:xfrm>
              <a:off x="5572080" y="1428840"/>
              <a:ext cx="4468680" cy="6127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3311" y="5604"/>
                  </a:moveTo>
                  <a:lnTo>
                    <a:pt x="3311" y="5604"/>
                  </a:lnTo>
                  <a:lnTo>
                    <a:pt x="3346" y="5630"/>
                  </a:lnTo>
                  <a:lnTo>
                    <a:pt x="3346" y="5658"/>
                  </a:lnTo>
                  <a:lnTo>
                    <a:pt x="3346" y="6435"/>
                  </a:lnTo>
                  <a:lnTo>
                    <a:pt x="3346" y="6435"/>
                  </a:lnTo>
                  <a:lnTo>
                    <a:pt x="3346" y="6516"/>
                  </a:lnTo>
                  <a:lnTo>
                    <a:pt x="3346" y="6756"/>
                  </a:lnTo>
                  <a:lnTo>
                    <a:pt x="3346" y="6756"/>
                  </a:lnTo>
                  <a:lnTo>
                    <a:pt x="3346" y="6837"/>
                  </a:lnTo>
                  <a:lnTo>
                    <a:pt x="3382" y="7104"/>
                  </a:lnTo>
                  <a:lnTo>
                    <a:pt x="3382" y="7104"/>
                  </a:lnTo>
                  <a:cubicBezTo>
                    <a:pt x="3370" y="7132"/>
                    <a:pt x="3358" y="7159"/>
                    <a:pt x="3346" y="7187"/>
                  </a:cubicBezTo>
                  <a:cubicBezTo>
                    <a:pt x="3334" y="7214"/>
                    <a:pt x="3323" y="7240"/>
                    <a:pt x="3311" y="7267"/>
                  </a:cubicBezTo>
                  <a:lnTo>
                    <a:pt x="3311" y="7267"/>
                  </a:lnTo>
                  <a:lnTo>
                    <a:pt x="3311" y="7347"/>
                  </a:lnTo>
                  <a:lnTo>
                    <a:pt x="3346" y="7373"/>
                  </a:lnTo>
                  <a:lnTo>
                    <a:pt x="3346" y="7373"/>
                  </a:lnTo>
                  <a:lnTo>
                    <a:pt x="3346" y="7453"/>
                  </a:lnTo>
                  <a:lnTo>
                    <a:pt x="3346" y="9008"/>
                  </a:lnTo>
                  <a:lnTo>
                    <a:pt x="3346" y="9008"/>
                  </a:lnTo>
                  <a:lnTo>
                    <a:pt x="3346" y="9088"/>
                  </a:lnTo>
                  <a:lnTo>
                    <a:pt x="3346" y="9088"/>
                  </a:lnTo>
                  <a:lnTo>
                    <a:pt x="3346" y="9088"/>
                  </a:lnTo>
                  <a:lnTo>
                    <a:pt x="3346" y="9117"/>
                  </a:lnTo>
                  <a:lnTo>
                    <a:pt x="3382" y="9117"/>
                  </a:lnTo>
                  <a:lnTo>
                    <a:pt x="3382" y="9117"/>
                  </a:lnTo>
                  <a:lnTo>
                    <a:pt x="3382" y="9117"/>
                  </a:lnTo>
                  <a:cubicBezTo>
                    <a:pt x="3407" y="9125"/>
                    <a:pt x="3431" y="9134"/>
                    <a:pt x="3456" y="9142"/>
                  </a:cubicBezTo>
                  <a:lnTo>
                    <a:pt x="3456" y="9168"/>
                  </a:lnTo>
                  <a:cubicBezTo>
                    <a:pt x="3444" y="9419"/>
                    <a:pt x="3433" y="9669"/>
                    <a:pt x="3421" y="9920"/>
                  </a:cubicBezTo>
                  <a:lnTo>
                    <a:pt x="3421" y="9920"/>
                  </a:lnTo>
                  <a:lnTo>
                    <a:pt x="3421" y="9946"/>
                  </a:lnTo>
                  <a:cubicBezTo>
                    <a:pt x="3445" y="9964"/>
                    <a:pt x="3468" y="9982"/>
                    <a:pt x="3492" y="10000"/>
                  </a:cubicBezTo>
                  <a:lnTo>
                    <a:pt x="9925" y="10000"/>
                  </a:lnTo>
                  <a:lnTo>
                    <a:pt x="9925" y="10000"/>
                  </a:lnTo>
                  <a:cubicBezTo>
                    <a:pt x="9950" y="9991"/>
                    <a:pt x="9975" y="9983"/>
                    <a:pt x="10000" y="9974"/>
                  </a:cubicBezTo>
                  <a:lnTo>
                    <a:pt x="10000" y="9920"/>
                  </a:lnTo>
                  <a:lnTo>
                    <a:pt x="10000" y="9839"/>
                  </a:lnTo>
                  <a:lnTo>
                    <a:pt x="10000" y="9839"/>
                  </a:lnTo>
                  <a:cubicBezTo>
                    <a:pt x="9988" y="9696"/>
                    <a:pt x="9976" y="9552"/>
                    <a:pt x="9964" y="9409"/>
                  </a:cubicBezTo>
                  <a:lnTo>
                    <a:pt x="9964" y="9409"/>
                  </a:lnTo>
                  <a:cubicBezTo>
                    <a:pt x="9951" y="9356"/>
                    <a:pt x="9938" y="9302"/>
                    <a:pt x="9925" y="9249"/>
                  </a:cubicBezTo>
                  <a:cubicBezTo>
                    <a:pt x="9913" y="9222"/>
                    <a:pt x="9902" y="9195"/>
                    <a:pt x="9890" y="9168"/>
                  </a:cubicBezTo>
                  <a:lnTo>
                    <a:pt x="9815" y="9117"/>
                  </a:lnTo>
                  <a:lnTo>
                    <a:pt x="9815" y="9117"/>
                  </a:lnTo>
                  <a:lnTo>
                    <a:pt x="9705" y="9088"/>
                  </a:lnTo>
                  <a:lnTo>
                    <a:pt x="9705" y="9088"/>
                  </a:lnTo>
                  <a:lnTo>
                    <a:pt x="9119" y="8873"/>
                  </a:lnTo>
                  <a:lnTo>
                    <a:pt x="9119" y="8873"/>
                  </a:lnTo>
                  <a:lnTo>
                    <a:pt x="9044" y="8873"/>
                  </a:lnTo>
                  <a:lnTo>
                    <a:pt x="8934" y="8873"/>
                  </a:lnTo>
                  <a:lnTo>
                    <a:pt x="8860" y="8873"/>
                  </a:lnTo>
                  <a:lnTo>
                    <a:pt x="8860" y="8873"/>
                  </a:lnTo>
                  <a:lnTo>
                    <a:pt x="8750" y="8902"/>
                  </a:lnTo>
                  <a:lnTo>
                    <a:pt x="8234" y="9034"/>
                  </a:lnTo>
                  <a:lnTo>
                    <a:pt x="8234" y="9034"/>
                  </a:lnTo>
                  <a:lnTo>
                    <a:pt x="8199" y="9034"/>
                  </a:lnTo>
                  <a:lnTo>
                    <a:pt x="8199" y="9008"/>
                  </a:lnTo>
                  <a:cubicBezTo>
                    <a:pt x="8211" y="8981"/>
                    <a:pt x="8222" y="8954"/>
                    <a:pt x="8234" y="8927"/>
                  </a:cubicBezTo>
                  <a:lnTo>
                    <a:pt x="8234" y="8927"/>
                  </a:lnTo>
                  <a:lnTo>
                    <a:pt x="8309" y="8873"/>
                  </a:lnTo>
                  <a:lnTo>
                    <a:pt x="8309" y="8873"/>
                  </a:lnTo>
                  <a:cubicBezTo>
                    <a:pt x="8321" y="8864"/>
                    <a:pt x="8333" y="8856"/>
                    <a:pt x="8345" y="8847"/>
                  </a:cubicBezTo>
                  <a:lnTo>
                    <a:pt x="8345" y="8821"/>
                  </a:lnTo>
                  <a:cubicBezTo>
                    <a:pt x="8370" y="8741"/>
                    <a:pt x="8394" y="8660"/>
                    <a:pt x="8419" y="8580"/>
                  </a:cubicBezTo>
                  <a:lnTo>
                    <a:pt x="8419" y="8580"/>
                  </a:lnTo>
                  <a:lnTo>
                    <a:pt x="8419" y="8472"/>
                  </a:lnTo>
                  <a:lnTo>
                    <a:pt x="8494" y="8256"/>
                  </a:lnTo>
                  <a:lnTo>
                    <a:pt x="8494" y="8256"/>
                  </a:lnTo>
                  <a:cubicBezTo>
                    <a:pt x="8506" y="8229"/>
                    <a:pt x="8517" y="8203"/>
                    <a:pt x="8529" y="8176"/>
                  </a:cubicBezTo>
                  <a:lnTo>
                    <a:pt x="8565" y="7453"/>
                  </a:lnTo>
                  <a:lnTo>
                    <a:pt x="8565" y="7453"/>
                  </a:lnTo>
                  <a:lnTo>
                    <a:pt x="8565" y="7373"/>
                  </a:lnTo>
                  <a:cubicBezTo>
                    <a:pt x="8602" y="7186"/>
                    <a:pt x="8638" y="6998"/>
                    <a:pt x="8675" y="6811"/>
                  </a:cubicBezTo>
                  <a:lnTo>
                    <a:pt x="8675" y="6811"/>
                  </a:lnTo>
                  <a:cubicBezTo>
                    <a:pt x="8688" y="6775"/>
                    <a:pt x="8701" y="6738"/>
                    <a:pt x="8714" y="6702"/>
                  </a:cubicBezTo>
                  <a:cubicBezTo>
                    <a:pt x="8701" y="6541"/>
                    <a:pt x="8688" y="6381"/>
                    <a:pt x="8675" y="6220"/>
                  </a:cubicBezTo>
                  <a:lnTo>
                    <a:pt x="8675" y="6220"/>
                  </a:lnTo>
                  <a:lnTo>
                    <a:pt x="8675" y="6140"/>
                  </a:lnTo>
                  <a:cubicBezTo>
                    <a:pt x="8663" y="5916"/>
                    <a:pt x="8651" y="5693"/>
                    <a:pt x="8639" y="5469"/>
                  </a:cubicBezTo>
                  <a:lnTo>
                    <a:pt x="8639" y="5469"/>
                  </a:lnTo>
                  <a:lnTo>
                    <a:pt x="8639" y="5363"/>
                  </a:lnTo>
                  <a:cubicBezTo>
                    <a:pt x="8614" y="5220"/>
                    <a:pt x="8590" y="5076"/>
                    <a:pt x="8565" y="4933"/>
                  </a:cubicBezTo>
                  <a:lnTo>
                    <a:pt x="8565" y="4933"/>
                  </a:lnTo>
                  <a:lnTo>
                    <a:pt x="8565" y="4852"/>
                  </a:lnTo>
                  <a:cubicBezTo>
                    <a:pt x="8516" y="4673"/>
                    <a:pt x="8468" y="4495"/>
                    <a:pt x="8419" y="4316"/>
                  </a:cubicBezTo>
                  <a:lnTo>
                    <a:pt x="8419" y="4316"/>
                  </a:lnTo>
                  <a:cubicBezTo>
                    <a:pt x="8407" y="4281"/>
                    <a:pt x="8396" y="4245"/>
                    <a:pt x="8384" y="4210"/>
                  </a:cubicBezTo>
                  <a:lnTo>
                    <a:pt x="8384" y="4130"/>
                  </a:lnTo>
                  <a:lnTo>
                    <a:pt x="8384" y="4130"/>
                  </a:lnTo>
                  <a:lnTo>
                    <a:pt x="8384" y="4049"/>
                  </a:lnTo>
                  <a:lnTo>
                    <a:pt x="8384" y="4049"/>
                  </a:lnTo>
                  <a:lnTo>
                    <a:pt x="7979" y="3163"/>
                  </a:lnTo>
                  <a:lnTo>
                    <a:pt x="7979" y="3163"/>
                  </a:lnTo>
                  <a:cubicBezTo>
                    <a:pt x="7954" y="3136"/>
                    <a:pt x="7929" y="3110"/>
                    <a:pt x="7904" y="3083"/>
                  </a:cubicBezTo>
                  <a:cubicBezTo>
                    <a:pt x="7867" y="3048"/>
                    <a:pt x="7831" y="3012"/>
                    <a:pt x="7794" y="2977"/>
                  </a:cubicBezTo>
                  <a:lnTo>
                    <a:pt x="7648" y="2896"/>
                  </a:lnTo>
                  <a:lnTo>
                    <a:pt x="7648" y="2896"/>
                  </a:lnTo>
                  <a:lnTo>
                    <a:pt x="7538" y="2842"/>
                  </a:lnTo>
                  <a:lnTo>
                    <a:pt x="6288" y="2386"/>
                  </a:lnTo>
                  <a:lnTo>
                    <a:pt x="6288" y="2386"/>
                  </a:lnTo>
                  <a:cubicBezTo>
                    <a:pt x="6263" y="2369"/>
                    <a:pt x="6238" y="2351"/>
                    <a:pt x="6213" y="2334"/>
                  </a:cubicBezTo>
                  <a:lnTo>
                    <a:pt x="5883" y="2119"/>
                  </a:lnTo>
                  <a:lnTo>
                    <a:pt x="5883" y="2119"/>
                  </a:lnTo>
                  <a:lnTo>
                    <a:pt x="5737" y="2091"/>
                  </a:lnTo>
                  <a:cubicBezTo>
                    <a:pt x="5724" y="2082"/>
                    <a:pt x="5711" y="2074"/>
                    <a:pt x="5698" y="2065"/>
                  </a:cubicBezTo>
                  <a:lnTo>
                    <a:pt x="5663" y="2065"/>
                  </a:lnTo>
                  <a:lnTo>
                    <a:pt x="5698" y="2065"/>
                  </a:lnTo>
                  <a:lnTo>
                    <a:pt x="5698" y="2065"/>
                  </a:lnTo>
                  <a:cubicBezTo>
                    <a:pt x="5711" y="2056"/>
                    <a:pt x="5724" y="2048"/>
                    <a:pt x="5737" y="2039"/>
                  </a:cubicBezTo>
                  <a:lnTo>
                    <a:pt x="5737" y="2010"/>
                  </a:lnTo>
                  <a:lnTo>
                    <a:pt x="5737" y="1930"/>
                  </a:lnTo>
                  <a:lnTo>
                    <a:pt x="5737" y="1930"/>
                  </a:lnTo>
                  <a:cubicBezTo>
                    <a:pt x="5724" y="1903"/>
                    <a:pt x="5711" y="1877"/>
                    <a:pt x="5698" y="1850"/>
                  </a:cubicBezTo>
                  <a:cubicBezTo>
                    <a:pt x="5674" y="1806"/>
                    <a:pt x="5651" y="1762"/>
                    <a:pt x="5627" y="1718"/>
                  </a:cubicBezTo>
                  <a:lnTo>
                    <a:pt x="5627" y="1718"/>
                  </a:lnTo>
                  <a:lnTo>
                    <a:pt x="5588" y="1637"/>
                  </a:lnTo>
                  <a:lnTo>
                    <a:pt x="5588" y="1557"/>
                  </a:lnTo>
                  <a:lnTo>
                    <a:pt x="5588" y="1557"/>
                  </a:lnTo>
                  <a:lnTo>
                    <a:pt x="5588" y="1474"/>
                  </a:lnTo>
                  <a:lnTo>
                    <a:pt x="5663" y="1342"/>
                  </a:lnTo>
                  <a:lnTo>
                    <a:pt x="5663" y="1342"/>
                  </a:lnTo>
                  <a:cubicBezTo>
                    <a:pt x="5675" y="1306"/>
                    <a:pt x="5686" y="1269"/>
                    <a:pt x="5698" y="1233"/>
                  </a:cubicBezTo>
                  <a:lnTo>
                    <a:pt x="5698" y="671"/>
                  </a:lnTo>
                  <a:lnTo>
                    <a:pt x="5698" y="671"/>
                  </a:lnTo>
                  <a:cubicBezTo>
                    <a:pt x="5686" y="644"/>
                    <a:pt x="5675" y="618"/>
                    <a:pt x="5663" y="591"/>
                  </a:cubicBezTo>
                  <a:lnTo>
                    <a:pt x="5627" y="510"/>
                  </a:lnTo>
                  <a:lnTo>
                    <a:pt x="5627" y="510"/>
                  </a:lnTo>
                  <a:cubicBezTo>
                    <a:pt x="5602" y="483"/>
                    <a:pt x="5577" y="457"/>
                    <a:pt x="5552" y="430"/>
                  </a:cubicBezTo>
                  <a:lnTo>
                    <a:pt x="5112" y="109"/>
                  </a:lnTo>
                  <a:lnTo>
                    <a:pt x="5112" y="109"/>
                  </a:lnTo>
                  <a:lnTo>
                    <a:pt x="5002" y="80"/>
                  </a:lnTo>
                  <a:lnTo>
                    <a:pt x="4817" y="54"/>
                  </a:lnTo>
                  <a:lnTo>
                    <a:pt x="4817" y="54"/>
                  </a:lnTo>
                  <a:lnTo>
                    <a:pt x="4707" y="54"/>
                  </a:lnTo>
                  <a:lnTo>
                    <a:pt x="4522" y="0"/>
                  </a:lnTo>
                  <a:lnTo>
                    <a:pt x="4522" y="0"/>
                  </a:lnTo>
                  <a:lnTo>
                    <a:pt x="4412" y="0"/>
                  </a:lnTo>
                  <a:lnTo>
                    <a:pt x="4192" y="54"/>
                  </a:lnTo>
                  <a:lnTo>
                    <a:pt x="4192" y="54"/>
                  </a:lnTo>
                  <a:lnTo>
                    <a:pt x="4082" y="80"/>
                  </a:lnTo>
                  <a:lnTo>
                    <a:pt x="3826" y="109"/>
                  </a:lnTo>
                  <a:lnTo>
                    <a:pt x="3826" y="109"/>
                  </a:lnTo>
                  <a:cubicBezTo>
                    <a:pt x="3789" y="126"/>
                    <a:pt x="3753" y="144"/>
                    <a:pt x="3716" y="161"/>
                  </a:cubicBezTo>
                  <a:lnTo>
                    <a:pt x="3382" y="295"/>
                  </a:lnTo>
                  <a:lnTo>
                    <a:pt x="3382" y="295"/>
                  </a:lnTo>
                  <a:lnTo>
                    <a:pt x="3201" y="350"/>
                  </a:lnTo>
                  <a:cubicBezTo>
                    <a:pt x="3164" y="385"/>
                    <a:pt x="3128" y="421"/>
                    <a:pt x="3091" y="456"/>
                  </a:cubicBezTo>
                  <a:lnTo>
                    <a:pt x="3091" y="456"/>
                  </a:lnTo>
                  <a:cubicBezTo>
                    <a:pt x="3066" y="465"/>
                    <a:pt x="3041" y="475"/>
                    <a:pt x="3016" y="484"/>
                  </a:cubicBezTo>
                  <a:cubicBezTo>
                    <a:pt x="3004" y="493"/>
                    <a:pt x="2992" y="501"/>
                    <a:pt x="2980" y="510"/>
                  </a:cubicBezTo>
                  <a:lnTo>
                    <a:pt x="2980" y="510"/>
                  </a:lnTo>
                  <a:lnTo>
                    <a:pt x="2980" y="510"/>
                  </a:lnTo>
                  <a:lnTo>
                    <a:pt x="2941" y="591"/>
                  </a:lnTo>
                  <a:lnTo>
                    <a:pt x="2941" y="645"/>
                  </a:lnTo>
                  <a:cubicBezTo>
                    <a:pt x="2954" y="662"/>
                    <a:pt x="2967" y="680"/>
                    <a:pt x="2980" y="697"/>
                  </a:cubicBezTo>
                  <a:lnTo>
                    <a:pt x="3126" y="725"/>
                  </a:lnTo>
                  <a:lnTo>
                    <a:pt x="3126" y="725"/>
                  </a:lnTo>
                  <a:lnTo>
                    <a:pt x="3162" y="806"/>
                  </a:lnTo>
                  <a:lnTo>
                    <a:pt x="3162" y="1233"/>
                  </a:lnTo>
                  <a:lnTo>
                    <a:pt x="3162" y="1233"/>
                  </a:lnTo>
                  <a:lnTo>
                    <a:pt x="3236" y="1313"/>
                  </a:lnTo>
                  <a:cubicBezTo>
                    <a:pt x="3248" y="1323"/>
                    <a:pt x="3260" y="1332"/>
                    <a:pt x="3272" y="1342"/>
                  </a:cubicBezTo>
                  <a:lnTo>
                    <a:pt x="3272" y="1342"/>
                  </a:lnTo>
                  <a:cubicBezTo>
                    <a:pt x="3297" y="1359"/>
                    <a:pt x="3321" y="1377"/>
                    <a:pt x="3346" y="1394"/>
                  </a:cubicBezTo>
                  <a:lnTo>
                    <a:pt x="3346" y="1422"/>
                  </a:lnTo>
                  <a:lnTo>
                    <a:pt x="3346" y="1422"/>
                  </a:lnTo>
                  <a:lnTo>
                    <a:pt x="3346" y="1503"/>
                  </a:lnTo>
                  <a:cubicBezTo>
                    <a:pt x="3321" y="1565"/>
                    <a:pt x="3297" y="1627"/>
                    <a:pt x="3272" y="1689"/>
                  </a:cubicBezTo>
                  <a:lnTo>
                    <a:pt x="3272" y="1689"/>
                  </a:lnTo>
                  <a:lnTo>
                    <a:pt x="3272" y="1798"/>
                  </a:lnTo>
                  <a:lnTo>
                    <a:pt x="3311" y="1798"/>
                  </a:lnTo>
                  <a:lnTo>
                    <a:pt x="3311" y="1798"/>
                  </a:lnTo>
                  <a:lnTo>
                    <a:pt x="3492" y="1878"/>
                  </a:lnTo>
                  <a:cubicBezTo>
                    <a:pt x="3541" y="1923"/>
                    <a:pt x="3584" y="2034"/>
                    <a:pt x="3602" y="2065"/>
                  </a:cubicBezTo>
                  <a:lnTo>
                    <a:pt x="3602" y="2065"/>
                  </a:lnTo>
                  <a:lnTo>
                    <a:pt x="3716" y="2174"/>
                  </a:lnTo>
                  <a:lnTo>
                    <a:pt x="3716" y="2254"/>
                  </a:lnTo>
                  <a:lnTo>
                    <a:pt x="3716" y="2254"/>
                  </a:lnTo>
                  <a:lnTo>
                    <a:pt x="3787" y="2334"/>
                  </a:lnTo>
                  <a:cubicBezTo>
                    <a:pt x="3800" y="2343"/>
                    <a:pt x="3813" y="2351"/>
                    <a:pt x="3826" y="2360"/>
                  </a:cubicBezTo>
                  <a:lnTo>
                    <a:pt x="3826" y="2360"/>
                  </a:lnTo>
                  <a:lnTo>
                    <a:pt x="3861" y="2386"/>
                  </a:lnTo>
                  <a:cubicBezTo>
                    <a:pt x="3886" y="2396"/>
                    <a:pt x="3911" y="2405"/>
                    <a:pt x="3936" y="2415"/>
                  </a:cubicBezTo>
                  <a:lnTo>
                    <a:pt x="4266" y="2386"/>
                  </a:lnTo>
                  <a:lnTo>
                    <a:pt x="4266" y="2386"/>
                  </a:lnTo>
                  <a:cubicBezTo>
                    <a:pt x="4278" y="2396"/>
                    <a:pt x="4290" y="2405"/>
                    <a:pt x="4302" y="2415"/>
                  </a:cubicBezTo>
                  <a:cubicBezTo>
                    <a:pt x="4314" y="2423"/>
                    <a:pt x="4325" y="2432"/>
                    <a:pt x="4337" y="2440"/>
                  </a:cubicBezTo>
                  <a:cubicBezTo>
                    <a:pt x="4350" y="2467"/>
                    <a:pt x="4364" y="2494"/>
                    <a:pt x="4377" y="2521"/>
                  </a:cubicBezTo>
                  <a:lnTo>
                    <a:pt x="4377" y="2521"/>
                  </a:lnTo>
                  <a:cubicBezTo>
                    <a:pt x="4389" y="2539"/>
                    <a:pt x="4400" y="2557"/>
                    <a:pt x="4412" y="2575"/>
                  </a:cubicBezTo>
                  <a:lnTo>
                    <a:pt x="4377" y="2601"/>
                  </a:lnTo>
                  <a:lnTo>
                    <a:pt x="3641" y="3003"/>
                  </a:lnTo>
                  <a:lnTo>
                    <a:pt x="3641" y="3003"/>
                  </a:lnTo>
                  <a:lnTo>
                    <a:pt x="3602" y="3111"/>
                  </a:lnTo>
                  <a:cubicBezTo>
                    <a:pt x="3578" y="3182"/>
                    <a:pt x="3555" y="3253"/>
                    <a:pt x="3531" y="3324"/>
                  </a:cubicBezTo>
                  <a:lnTo>
                    <a:pt x="3531" y="3324"/>
                  </a:lnTo>
                  <a:cubicBezTo>
                    <a:pt x="3518" y="3351"/>
                    <a:pt x="3505" y="3377"/>
                    <a:pt x="3492" y="3404"/>
                  </a:cubicBezTo>
                  <a:lnTo>
                    <a:pt x="3052" y="4264"/>
                  </a:lnTo>
                  <a:lnTo>
                    <a:pt x="3052" y="4264"/>
                  </a:lnTo>
                  <a:lnTo>
                    <a:pt x="3016" y="4345"/>
                  </a:lnTo>
                  <a:cubicBezTo>
                    <a:pt x="3004" y="4380"/>
                    <a:pt x="2992" y="4416"/>
                    <a:pt x="2980" y="4451"/>
                  </a:cubicBezTo>
                  <a:lnTo>
                    <a:pt x="2980" y="4451"/>
                  </a:lnTo>
                  <a:lnTo>
                    <a:pt x="2980" y="4477"/>
                  </a:lnTo>
                  <a:lnTo>
                    <a:pt x="2906" y="4477"/>
                  </a:lnTo>
                  <a:lnTo>
                    <a:pt x="2906" y="4477"/>
                  </a:lnTo>
                  <a:lnTo>
                    <a:pt x="2831" y="4477"/>
                  </a:lnTo>
                  <a:lnTo>
                    <a:pt x="2611" y="4396"/>
                  </a:lnTo>
                  <a:lnTo>
                    <a:pt x="2611" y="4396"/>
                  </a:lnTo>
                  <a:lnTo>
                    <a:pt x="2536" y="4345"/>
                  </a:lnTo>
                  <a:lnTo>
                    <a:pt x="2025" y="4075"/>
                  </a:lnTo>
                  <a:lnTo>
                    <a:pt x="2025" y="4075"/>
                  </a:lnTo>
                  <a:cubicBezTo>
                    <a:pt x="2000" y="4066"/>
                    <a:pt x="1975" y="4058"/>
                    <a:pt x="1950" y="4049"/>
                  </a:cubicBezTo>
                  <a:lnTo>
                    <a:pt x="1950" y="4049"/>
                  </a:lnTo>
                  <a:cubicBezTo>
                    <a:pt x="1937" y="4022"/>
                    <a:pt x="1924" y="3996"/>
                    <a:pt x="1911" y="3969"/>
                  </a:cubicBezTo>
                  <a:lnTo>
                    <a:pt x="1620" y="3728"/>
                  </a:lnTo>
                  <a:lnTo>
                    <a:pt x="1620" y="3728"/>
                  </a:lnTo>
                  <a:lnTo>
                    <a:pt x="1510" y="3674"/>
                  </a:lnTo>
                  <a:lnTo>
                    <a:pt x="1250" y="3648"/>
                  </a:lnTo>
                  <a:lnTo>
                    <a:pt x="1250" y="3648"/>
                  </a:lnTo>
                  <a:lnTo>
                    <a:pt x="1140" y="3648"/>
                  </a:lnTo>
                  <a:lnTo>
                    <a:pt x="995" y="3674"/>
                  </a:lnTo>
                  <a:lnTo>
                    <a:pt x="995" y="3674"/>
                  </a:lnTo>
                  <a:cubicBezTo>
                    <a:pt x="958" y="3682"/>
                    <a:pt x="922" y="3691"/>
                    <a:pt x="885" y="3699"/>
                  </a:cubicBezTo>
                  <a:lnTo>
                    <a:pt x="735" y="3674"/>
                  </a:lnTo>
                  <a:lnTo>
                    <a:pt x="735" y="3674"/>
                  </a:lnTo>
                  <a:lnTo>
                    <a:pt x="625" y="3648"/>
                  </a:lnTo>
                  <a:lnTo>
                    <a:pt x="149" y="3244"/>
                  </a:lnTo>
                  <a:lnTo>
                    <a:pt x="149" y="3244"/>
                  </a:lnTo>
                  <a:lnTo>
                    <a:pt x="110" y="3244"/>
                  </a:lnTo>
                  <a:lnTo>
                    <a:pt x="75" y="3244"/>
                  </a:lnTo>
                  <a:cubicBezTo>
                    <a:pt x="50" y="3253"/>
                    <a:pt x="25" y="3263"/>
                    <a:pt x="0" y="3272"/>
                  </a:cubicBezTo>
                  <a:lnTo>
                    <a:pt x="0" y="3272"/>
                  </a:lnTo>
                  <a:cubicBezTo>
                    <a:pt x="13" y="3299"/>
                    <a:pt x="26" y="3325"/>
                    <a:pt x="39" y="3352"/>
                  </a:cubicBezTo>
                  <a:lnTo>
                    <a:pt x="295" y="3567"/>
                  </a:lnTo>
                  <a:lnTo>
                    <a:pt x="295" y="3567"/>
                  </a:lnTo>
                  <a:cubicBezTo>
                    <a:pt x="308" y="3576"/>
                    <a:pt x="321" y="3584"/>
                    <a:pt x="334" y="3593"/>
                  </a:cubicBezTo>
                  <a:cubicBezTo>
                    <a:pt x="321" y="3602"/>
                    <a:pt x="308" y="3610"/>
                    <a:pt x="295" y="3619"/>
                  </a:cubicBezTo>
                  <a:lnTo>
                    <a:pt x="295" y="3619"/>
                  </a:lnTo>
                  <a:cubicBezTo>
                    <a:pt x="283" y="3629"/>
                    <a:pt x="271" y="3638"/>
                    <a:pt x="259" y="3648"/>
                  </a:cubicBezTo>
                  <a:lnTo>
                    <a:pt x="259" y="3699"/>
                  </a:lnTo>
                  <a:lnTo>
                    <a:pt x="259" y="3699"/>
                  </a:lnTo>
                  <a:lnTo>
                    <a:pt x="259" y="3699"/>
                  </a:lnTo>
                  <a:lnTo>
                    <a:pt x="295" y="3780"/>
                  </a:lnTo>
                  <a:lnTo>
                    <a:pt x="369" y="3860"/>
                  </a:lnTo>
                  <a:lnTo>
                    <a:pt x="369" y="3860"/>
                  </a:lnTo>
                  <a:cubicBezTo>
                    <a:pt x="381" y="3878"/>
                    <a:pt x="393" y="3897"/>
                    <a:pt x="405" y="3915"/>
                  </a:cubicBezTo>
                  <a:lnTo>
                    <a:pt x="369" y="3969"/>
                  </a:lnTo>
                  <a:lnTo>
                    <a:pt x="369" y="3969"/>
                  </a:lnTo>
                  <a:lnTo>
                    <a:pt x="480" y="4021"/>
                  </a:lnTo>
                  <a:lnTo>
                    <a:pt x="590" y="4104"/>
                  </a:lnTo>
                  <a:lnTo>
                    <a:pt x="590" y="4104"/>
                  </a:lnTo>
                  <a:lnTo>
                    <a:pt x="664" y="4155"/>
                  </a:lnTo>
                  <a:lnTo>
                    <a:pt x="664" y="4184"/>
                  </a:lnTo>
                  <a:lnTo>
                    <a:pt x="664" y="4184"/>
                  </a:lnTo>
                  <a:cubicBezTo>
                    <a:pt x="676" y="4211"/>
                    <a:pt x="688" y="4237"/>
                    <a:pt x="700" y="4264"/>
                  </a:cubicBezTo>
                  <a:lnTo>
                    <a:pt x="700" y="4264"/>
                  </a:lnTo>
                  <a:lnTo>
                    <a:pt x="700" y="4264"/>
                  </a:lnTo>
                  <a:cubicBezTo>
                    <a:pt x="725" y="4291"/>
                    <a:pt x="749" y="4318"/>
                    <a:pt x="774" y="4345"/>
                  </a:cubicBezTo>
                  <a:lnTo>
                    <a:pt x="774" y="4396"/>
                  </a:lnTo>
                  <a:lnTo>
                    <a:pt x="774" y="4396"/>
                  </a:lnTo>
                  <a:cubicBezTo>
                    <a:pt x="798" y="4423"/>
                    <a:pt x="821" y="4450"/>
                    <a:pt x="845" y="4477"/>
                  </a:cubicBezTo>
                  <a:lnTo>
                    <a:pt x="845" y="4477"/>
                  </a:lnTo>
                  <a:lnTo>
                    <a:pt x="920" y="4531"/>
                  </a:lnTo>
                  <a:lnTo>
                    <a:pt x="956" y="4531"/>
                  </a:lnTo>
                  <a:lnTo>
                    <a:pt x="956" y="4531"/>
                  </a:lnTo>
                  <a:lnTo>
                    <a:pt x="1030" y="4585"/>
                  </a:lnTo>
                  <a:lnTo>
                    <a:pt x="1179" y="4637"/>
                  </a:lnTo>
                  <a:lnTo>
                    <a:pt x="1179" y="4637"/>
                  </a:lnTo>
                  <a:lnTo>
                    <a:pt x="1179" y="4666"/>
                  </a:lnTo>
                  <a:cubicBezTo>
                    <a:pt x="1191" y="4675"/>
                    <a:pt x="1203" y="4683"/>
                    <a:pt x="1215" y="4692"/>
                  </a:cubicBezTo>
                  <a:cubicBezTo>
                    <a:pt x="1190" y="4790"/>
                    <a:pt x="1165" y="4889"/>
                    <a:pt x="1140" y="4987"/>
                  </a:cubicBezTo>
                  <a:lnTo>
                    <a:pt x="1140" y="4987"/>
                  </a:lnTo>
                  <a:lnTo>
                    <a:pt x="1140" y="5013"/>
                  </a:lnTo>
                  <a:cubicBezTo>
                    <a:pt x="1153" y="5022"/>
                    <a:pt x="1166" y="5032"/>
                    <a:pt x="1179" y="5041"/>
                  </a:cubicBezTo>
                  <a:lnTo>
                    <a:pt x="3311" y="5604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7"/>
            <p:cNvSpPr/>
            <p:nvPr/>
          </p:nvSpPr>
          <p:spPr>
            <a:xfrm>
              <a:off x="7313400" y="2579760"/>
              <a:ext cx="887400" cy="20523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w="559" h="1293">
                  <a:moveTo>
                    <a:pt x="197" y="310"/>
                  </a:moveTo>
                  <a:lnTo>
                    <a:pt x="487" y="41"/>
                  </a:lnTo>
                  <a:lnTo>
                    <a:pt x="507" y="0"/>
                  </a:lnTo>
                  <a:lnTo>
                    <a:pt x="518" y="0"/>
                  </a:lnTo>
                  <a:lnTo>
                    <a:pt x="538" y="72"/>
                  </a:lnTo>
                  <a:lnTo>
                    <a:pt x="559" y="82"/>
                  </a:lnTo>
                  <a:lnTo>
                    <a:pt x="414" y="372"/>
                  </a:lnTo>
                  <a:lnTo>
                    <a:pt x="373" y="424"/>
                  </a:lnTo>
                  <a:lnTo>
                    <a:pt x="352" y="538"/>
                  </a:lnTo>
                  <a:lnTo>
                    <a:pt x="290" y="786"/>
                  </a:lnTo>
                  <a:lnTo>
                    <a:pt x="238" y="983"/>
                  </a:lnTo>
                  <a:lnTo>
                    <a:pt x="207" y="1169"/>
                  </a:lnTo>
                  <a:lnTo>
                    <a:pt x="197" y="1159"/>
                  </a:lnTo>
                  <a:lnTo>
                    <a:pt x="228" y="517"/>
                  </a:lnTo>
                  <a:lnTo>
                    <a:pt x="280" y="465"/>
                  </a:lnTo>
                  <a:lnTo>
                    <a:pt x="197" y="383"/>
                  </a:lnTo>
                  <a:lnTo>
                    <a:pt x="145" y="393"/>
                  </a:lnTo>
                  <a:lnTo>
                    <a:pt x="114" y="445"/>
                  </a:lnTo>
                  <a:lnTo>
                    <a:pt x="155" y="527"/>
                  </a:lnTo>
                  <a:lnTo>
                    <a:pt x="21" y="1252"/>
                  </a:lnTo>
                  <a:lnTo>
                    <a:pt x="11" y="1293"/>
                  </a:lnTo>
                  <a:lnTo>
                    <a:pt x="0" y="1283"/>
                  </a:lnTo>
                  <a:lnTo>
                    <a:pt x="0" y="1055"/>
                  </a:lnTo>
                  <a:lnTo>
                    <a:pt x="42" y="807"/>
                  </a:lnTo>
                  <a:lnTo>
                    <a:pt x="73" y="538"/>
                  </a:lnTo>
                  <a:lnTo>
                    <a:pt x="73" y="476"/>
                  </a:lnTo>
                  <a:lnTo>
                    <a:pt x="114" y="362"/>
                  </a:lnTo>
                  <a:lnTo>
                    <a:pt x="104" y="279"/>
                  </a:lnTo>
                  <a:lnTo>
                    <a:pt x="135" y="25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838"/>
          <p:cNvSpPr/>
          <p:nvPr/>
        </p:nvSpPr>
        <p:spPr>
          <a:xfrm>
            <a:off x="2428920" y="5072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835" descr="图片1.png"/>
          <p:cNvPicPr/>
          <p:nvPr/>
        </p:nvPicPr>
        <p:blipFill>
          <a:blip r:embed="rId5"/>
          <a:srcRect l="33328" t="46254" r="55760" b="27287"/>
          <a:stretch/>
        </p:blipFill>
        <p:spPr>
          <a:xfrm>
            <a:off x="5000760" y="3571920"/>
            <a:ext cx="1069920" cy="2000160"/>
          </a:xfrm>
          <a:prstGeom prst="rect">
            <a:avLst/>
          </a:prstGeom>
          <a:ln w="0">
            <a:noFill/>
          </a:ln>
        </p:spPr>
      </p:pic>
      <p:pic>
        <p:nvPicPr>
          <p:cNvPr id="170" name="矩形 837" descr=""/>
          <p:cNvPicPr/>
          <p:nvPr/>
        </p:nvPicPr>
        <p:blipFill>
          <a:blip r:embed="rId6"/>
          <a:stretch/>
        </p:blipFill>
        <p:spPr>
          <a:xfrm>
            <a:off x="2901960" y="-1111320"/>
            <a:ext cx="3340080" cy="708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14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7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44:57Z</dcterms:created>
  <dc:creator/>
  <dc:description/>
  <dc:language>en-US</dc:language>
  <cp:lastModifiedBy>fuyuxun</cp:lastModifiedBy>
  <dcterms:modified xsi:type="dcterms:W3CDTF">2015-01-10T07:50:0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