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D3A-2E28-428E-AC3B-821E92FF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E47-E9FB-401B-864A-048B15D1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8E0-B4F0-4275-9DD2-D4DCDC63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384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268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384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268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1101-CA22-4FD0-8D0F-54CCDB07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486-CB86-4E26-BCA6-3F2F685A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5C51-8891-45A6-B6A3-9D3103C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190E-F3FD-4DCC-B5C3-6B7C8A3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134-99D4-4247-A810-D78A72A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0628-8ABA-4635-8889-3ACDC125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182160"/>
            <a:ext cx="8750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EDBE-9943-4511-B65D-33DABBA2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DC7-70C9-4541-AE2E-F07FEB14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587F-C0F5-4D1C-902F-CF8C0FE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B2D-8EE3-451C-8376-BE8D3B1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DC73-302F-4FD0-98BC-F1855760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B9D9-0B27-4E60-85F0-9A19727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11CB-2B61-4589-A3A3-4558173B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5384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12680" y="152352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5384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12680" y="3872160"/>
            <a:ext cx="2817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F24-6910-49CC-8290-7F439DE9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4AE-D4C4-4102-B7F1-AB780F8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881-831A-42B0-8F3F-FFB38B77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E6F3-3DB4-429A-94B0-ED0A9FDF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182160"/>
            <a:ext cx="87501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AC9-0D7E-4828-AD59-A3356A7B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793-85DB-48E0-9439-0D82C024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87216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A2D-998F-4372-A767-D613EDF0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523520"/>
            <a:ext cx="4269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72160"/>
            <a:ext cx="8750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CA7F-6709-4F5F-8C92-469FC995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63880" y="6248520"/>
            <a:ext cx="561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2240" y="624852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94C5-E7D0-45F5-A47B-2E1FE4C833EC}" type="slidenum">
              <a:rPr b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aabc4"/>
                </a:solidFill>
                <a:latin typeface="华文楷体"/>
              </a:rPr>
              <a:t>Click to edit the title text format</a:t>
            </a: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Click to edit the outline text format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1" marL="743040" indent="-285840">
              <a:spcBef>
                <a:spcPts val="799"/>
              </a:spcBef>
              <a:buClr>
                <a:srgbClr val="91919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con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2" marL="11430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Third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3" marL="16002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our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4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Fif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5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ix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  <a:p>
            <a:pPr lvl="6" marL="2057400" indent="-228600">
              <a:spcBef>
                <a:spcPts val="799"/>
              </a:spcBef>
              <a:buClr>
                <a:srgbClr val="91919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19191"/>
                </a:solidFill>
                <a:latin typeface="方正姚体"/>
              </a:rPr>
              <a:t>Seventh Outline Level</a:t>
            </a: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732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58520" y="6477120"/>
            <a:ext cx="4705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94200" y="647712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919191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49D9-4165-490D-A179-820B0CA26DE0}" type="slidenum">
              <a:rPr b="1" lang="zh-CN" sz="1200" spc="-1" strike="noStrike">
                <a:solidFill>
                  <a:srgbClr val="919191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320" y="243000"/>
            <a:ext cx="932796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aabc4"/>
                </a:solidFill>
                <a:latin typeface="华文楷体"/>
              </a:rPr>
              <a:t>商务图片背景</a:t>
            </a:r>
            <a:r>
              <a:rPr b="1" lang="zh-CN" sz="4800" spc="-1" strike="noStrike">
                <a:solidFill>
                  <a:srgbClr val="8aabc4"/>
                </a:solidFill>
                <a:latin typeface="华文楷体"/>
              </a:rPr>
              <a:t>PPT</a:t>
            </a:r>
            <a:r>
              <a:rPr b="1" lang="en-US" sz="4800" spc="-1" strike="noStrike">
                <a:solidFill>
                  <a:srgbClr val="8aabc4"/>
                </a:solidFill>
                <a:latin typeface="华文楷体"/>
              </a:rPr>
              <a:t>模板</a:t>
            </a:r>
            <a:endParaRPr b="1" i="1" lang="en-US" sz="48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3" name=""/>
          <p:cNvSpPr/>
          <p:nvPr/>
        </p:nvSpPr>
        <p:spPr>
          <a:xfrm>
            <a:off x="7836840" y="64771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91919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182160"/>
            <a:ext cx="87501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8aabc4"/>
              </a:solidFill>
              <a:latin typeface="华文楷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1523520"/>
            <a:ext cx="8750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919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19191"/>
              </a:solidFill>
              <a:latin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72440" cy="6858000"/>
            <a:chOff x="0" y="0"/>
            <a:chExt cx="9172440" cy="6858000"/>
          </a:xfrm>
        </p:grpSpPr>
        <p:sp>
          <p:nvSpPr>
            <p:cNvPr id="87" name="矩形 4"/>
            <p:cNvSpPr/>
            <p:nvPr/>
          </p:nvSpPr>
          <p:spPr>
            <a:xfrm>
              <a:off x="9075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919191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919191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917244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2080080" y="3572280"/>
              <a:ext cx="505656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91af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91919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03:39:00Z</dcterms:created>
  <dc:creator/>
  <dc:description/>
  <dc:language>en-US</dc:language>
  <cp:lastModifiedBy>秋叶</cp:lastModifiedBy>
  <dcterms:modified xsi:type="dcterms:W3CDTF">2015-01-10T08:39:16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0721562052</vt:lpwstr>
  </property>
</Properties>
</file>